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231-AB36-41E4-8996-4C839F3D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3EB-AE7D-422A-8778-F919C094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6DC-E806-421E-96A4-6ED51D7B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B23-BBAB-4522-A3DC-5FDF936A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09F0-E6DF-4C42-9636-BE2AB6F9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B45D-3743-4067-984D-EEC76445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2393-F2A4-4CDF-9CB0-FAB5347B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B2AE-1E8E-4CBD-B8B0-FC54D6D0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DFEC-60F5-449C-8640-95CCF60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DC6D-4D09-428F-9AEA-D79DABCD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AE6E-8908-4837-A7CD-A188526F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50F-7CB5-455A-83A5-B8CC43F9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625B-5A6C-44D7-B688-B8F5274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E6CA-072E-4FE9-AEC9-FA1F6BA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F36D-2499-4C84-AF4F-ED352CE9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3BF8-6C13-4806-8F7B-7000839E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B50C-34EE-4B88-B9A8-A95B182F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9F3-12CE-41BE-A7BF-785AA810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BDD-9779-4542-9C32-2F3C9EEB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DAE-D712-44AE-BE72-187FFFC3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9FF-FA28-467F-AD7D-FFAA9C4C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0E8-0BB0-408E-B413-3607667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025-CBFA-478E-82BF-50CD837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6BC-B929-4F05-8ED8-1F761819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EAA-2080-4913-9205-2C859E532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751-F046-440B-99F4-7DE40091F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3D Sens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09120" y="2403360"/>
            <a:ext cx="524628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era Model and 3D Transform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era Calibration (Tsai’s Meth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th from General Stereo (overvie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Estimation from 2D Imag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sk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Re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8E7-C460-4F08-A180-D504FBF86D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trinsic Paramet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97960" y="2057400"/>
            <a:ext cx="404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 poin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u0,v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 factor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dx,d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pect ratio distortion fact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al length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s distortion fact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odels radial lens dist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2971800"/>
            <a:ext cx="152424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58128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048120"/>
            <a:ext cx="1676520" cy="1523880"/>
          </a:xfrm>
          <a:prstGeom prst="parallelogram">
            <a:avLst>
              <a:gd name="adj" fmla="val 2750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2895480"/>
            <a:ext cx="152280" cy="152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3581280"/>
            <a:ext cx="75960" cy="76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93000" y="247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43720" y="365760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u0,v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25840" y="2681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7609400">
            <a:off x="6477120" y="2209320"/>
            <a:ext cx="75960" cy="1752840"/>
          </a:xfrm>
          <a:custGeom>
            <a:avLst/>
            <a:gdLst>
              <a:gd name="textAreaLeft" fmla="*/ 0 w 75960"/>
              <a:gd name="textAreaRight" fmla="*/ 27360 w 759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F62-5C8A-480E-A0C1-7B806EDF82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trinsic Paramet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32320" y="2327400"/>
            <a:ext cx="30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x  ty  t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matr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560" y="4191120"/>
            <a:ext cx="246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11   r12   r13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21   r22   r23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31   r32   r3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0          0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252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2720" y="4267080"/>
            <a:ext cx="75960" cy="1371600"/>
          </a:xfrm>
          <a:custGeom>
            <a:avLst/>
            <a:gdLst>
              <a:gd name="textAreaLeft" fmla="*/ 0 w 75960"/>
              <a:gd name="textAreaRight" fmla="*/ 5328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426708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DB2-EBE3-40E3-99FD-68FB6293F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alibration Obje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rcRect l="40002" t="21093" r="38127" b="45314"/>
          <a:stretch/>
        </p:blipFill>
        <p:spPr>
          <a:xfrm>
            <a:off x="5029200" y="2286000"/>
            <a:ext cx="2666880" cy="3276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676520" y="289548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a is to sn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s at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ths and get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 of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D-3D 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spond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377-23DD-4244-8643-690069AC5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Tsai Procedur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0600" y="1523880"/>
            <a:ext cx="6924600" cy="411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sai procedure was developed by Roger Ts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IBM Research and is most widely u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al images are taken of the calibration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ielding point correspondences at different dista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sai’s algorithm requires n &gt; 5 correspond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{(xi, yi, zi), (ui, vi)) |  i = 1,…,n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(real) image points and 3D 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54F-113D-473A-A6F7-60EB120C27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In this* version of Tsai’s algorithm,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2760" y="1143000"/>
            <a:ext cx="6828480" cy="484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al-valu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u,v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computed from their pix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r,c)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dx (c-u0)   v = -dy (r - v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u0,v0) is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nter of th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x and dy are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nter-to-center (real) di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pixels and come from the camera’s spe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ale fac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earned from previous t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1240" y="626256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* This version is for single-plane calibr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3E9-6BBF-44A0-A93A-6390532270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sai’s Geometric Setup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2438280"/>
            <a:ext cx="3048120" cy="1371600"/>
          </a:xfrm>
          <a:prstGeom prst="parallelogram">
            <a:avLst>
              <a:gd name="adj" fmla="val 5555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5680" y="13716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95680" y="38098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72160" y="1184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116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6272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95680" y="30481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2480" y="289548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ncipal point p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266720" y="304812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191120" y="1371600"/>
            <a:ext cx="304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048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44480" y="5334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191120" y="4419720"/>
            <a:ext cx="304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95680" y="4419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5680" y="1371600"/>
            <a:ext cx="990720" cy="358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3352680"/>
            <a:ext cx="76320" cy="76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3048120"/>
            <a:ext cx="533520" cy="3045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64920" y="31654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i = (ui,v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86400" y="4952880"/>
            <a:ext cx="76320" cy="76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4419720"/>
            <a:ext cx="990720" cy="5331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21400" y="4689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i = (xi,yi,z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40680" y="42051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0,0,z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481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15360" y="415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79320" y="252900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age 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04040" y="12333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93520" y="519588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5EA-CCB3-4897-9413-9C3DD8B7B9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sai’s Procedu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6560" y="1946160"/>
            <a:ext cx="704196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Given the n point correspondence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(xi,yi,zi), (ui,vi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 matrix A with rows 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i = (vi*xi, vi*yi, -ui*xi, -ui*vi, v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are known quantities which will be used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e for intermediate values, which will then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to solve for the parameters sou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C23-BBC7-4D40-B214-4A65B45D41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termediate Unknow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2640" y="1828800"/>
            <a:ext cx="8006760" cy="460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The vector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know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,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,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,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,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=r11/ty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=r12/ty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=r21/ty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=r22/ty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=tx/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th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’s and t’s are unknown rotation and translation paramet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vect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u1,u2,…,un) contain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 image coordin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 of linear equ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=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unknown parameter vector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4C9-2581-467F-BAB0-1DB608C6C7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se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o solve for ty, tx, and 4 rotation parameter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20920" y="2022480"/>
            <a:ext cx="6297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t U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 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 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  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.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Use U to calculate ty 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.  Try the positive square root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y = (ty  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and use it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 translation and rotation paramet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7324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904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4484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3064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9260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87840" y="25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40120" y="25909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08000" y="3699000"/>
            <a:ext cx="144864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11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 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12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 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21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 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22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4 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x 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5 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19400" y="205740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ee tex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79720" y="4308480"/>
            <a:ext cx="36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w we kn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translation parameters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 rotation para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86200" y="578160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xcep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8AE-CDDE-4276-857A-5EC3561EDA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etermine true sign of ty and compute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emaining rotation parameters.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69080" y="1752480"/>
            <a:ext cx="6863400" cy="448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Select an object point P whose image coord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u,v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far from the image cent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Use P’s coordinates and the translation and 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meters so far to estimate the image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corresponds to P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its coordinates hav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ame signs as (u,v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n keep ty, else negate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e the first 4 rotation parameters to calcu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remaining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E6B-9D9F-44EA-B9BD-FE8DDF751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mera Model:  Recall there are 5 Different Frames of Reference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4000" y="2174760"/>
            <a:ext cx="18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xel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419720" y="190476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419720" y="2285640"/>
            <a:ext cx="8380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2590920"/>
            <a:ext cx="160020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77120" y="266652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4800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572000" y="4800600"/>
            <a:ext cx="19051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019920" y="55627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943240" y="56386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248520" y="54097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248520" y="5866920"/>
            <a:ext cx="9903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2590920"/>
            <a:ext cx="2057400" cy="2971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5562720"/>
            <a:ext cx="30456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248160" y="556272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648320" y="2666520"/>
            <a:ext cx="8380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743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7960" y="350532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29718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952880" y="2971440"/>
            <a:ext cx="838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952880" y="2666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7960" y="3200400"/>
            <a:ext cx="5331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80920" y="15382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5320" y="2071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5520" y="4510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62720" y="22240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24440" y="232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15000" y="4232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90800" y="45864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52320" y="5805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3940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33560" y="316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75840" y="2757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85120" y="23004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248520" y="6019560"/>
            <a:ext cx="5331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6019560" y="5791320"/>
            <a:ext cx="2286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7000" y="5586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24640" y="5295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05520" y="5143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3240" y="4952880"/>
            <a:ext cx="10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yram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960" y="31240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FA4-2D09-420F-AA19-FB54A13A7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olve another linear system.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205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843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68360" y="1600200"/>
            <a:ext cx="6650280" cy="448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  We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 rotation paramet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xt step is to find tz and 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 a matrix 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 whose rows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´ = (r21*xi + r22*yi + ty,   v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 vector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 whose rows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´ = (r31*xi + r32*yi) * 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ve  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´*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´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(f, tz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EC1-2186-4B73-94B7-EDCAC66F3B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lmost there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47480" y="1793880"/>
            <a:ext cx="674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  If f is negative, change signs (see tex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  Compute the lens distortion fact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im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stimates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solving a nonli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of equations by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nlinear regres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.  All parameters have been compu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 them in 3D data acquisition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6A7-9E17-4F7E-AFD8-45FC4C12EE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 use them for general stereo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2362320"/>
            <a:ext cx="152640" cy="15228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2438280"/>
            <a:ext cx="1600200" cy="228600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438280"/>
            <a:ext cx="3581280" cy="28958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4724280"/>
            <a:ext cx="5181480" cy="6098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5120" y="3581280"/>
            <a:ext cx="152388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29000" y="411480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904760" y="4495680"/>
            <a:ext cx="152388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358128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419720" y="3809880"/>
            <a:ext cx="175248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419720" y="4724280"/>
            <a:ext cx="1752480" cy="4572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72200" y="380988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7400" y="4267080"/>
            <a:ext cx="1371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572000" y="4191120"/>
            <a:ext cx="1066680" cy="838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4038480"/>
            <a:ext cx="1676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419720" y="4190760"/>
            <a:ext cx="2057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743200" y="37335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105520" y="39621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198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5120" y="40384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1=(r1,c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15720" y="3886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2=(r2,c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28080" y="3443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56880" y="374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66160" y="4357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90600" y="3976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20960" y="43434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4038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861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96600" y="522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55F-7064-45EA-B19F-B1411E37AF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or a correspondence (r1,c1) in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mage 1 to (r2,c2) in image 2: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49640" y="2022480"/>
            <a:ext cx="752472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Both cameras were calibrated.  Both camera matrices 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known.  From the two camera equations we 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linear equations in 3 unknow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1 = (b11 - b31*r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(b12 - b32*r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(b13-b33*r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1 = (b21 - b31*c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(b22 - b32*c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(b23-b33*c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2 = (c11 - c31*r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(c12 - c32*r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(c13 - c33*r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2 = (c21 - c31*c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(c22 - c32*c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(c23 - c33*c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46400" y="59086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rect solution uses 3 equations, won’t give reliable resul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F4B-169B-4A9D-8F95-6856CCE22F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olve by computing the closest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pproach of the two skew ray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590920"/>
            <a:ext cx="3733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209680" y="3809880"/>
            <a:ext cx="37339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440" y="3089160"/>
            <a:ext cx="210564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s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ectly in 3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er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be 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5410080" y="335268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9184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4800600"/>
            <a:ext cx="473580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tead, we solve for the shortest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gment connecting the two rays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t P be its midpo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24600" y="21747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40440" y="388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581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66880" y="2666880"/>
            <a:ext cx="76320" cy="76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4267080"/>
            <a:ext cx="76320" cy="76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60720" y="3200400"/>
            <a:ext cx="10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v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998-A3AA-4B9E-84D9-845D5086DF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:  Kari Pulli’s Reconstruction of 3D Objects from light-striping stereo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rcRect l="15001" t="28908" r="33752" b="30470"/>
          <a:stretch/>
        </p:blipFill>
        <p:spPr>
          <a:xfrm>
            <a:off x="1981080" y="1981080"/>
            <a:ext cx="624852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6DB-9BB7-44B1-92CA-8B89135AA8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pplication:  Zhenrong Qian’s 3D Blood Vessel Reconstruction from Visible Human Dat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206880" y="1981080"/>
            <a:ext cx="3948120" cy="4114800"/>
            <a:chOff x="3206880" y="1981080"/>
            <a:chExt cx="3948120" cy="4114800"/>
          </a:xfrm>
        </p:grpSpPr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3206880" y="1981080"/>
              <a:ext cx="39481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 txBox="1"/>
            <p:nvPr/>
          </p:nvSpPr>
          <p:spPr>
            <a:xfrm>
              <a:off x="3206880" y="1981080"/>
              <a:ext cx="39481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CF8-0E6F-4689-B6C3-CEA48E8EF0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igid Body Transformations in 3D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477120" y="266652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4800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572000" y="4800600"/>
            <a:ext cx="19051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019920" y="55627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5562720"/>
            <a:ext cx="30456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248160" y="556272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79840" y="1538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62720" y="22240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15000" y="4232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90800" y="45864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2320" y="5805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48520" y="6019560"/>
            <a:ext cx="5331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019560" y="5791320"/>
            <a:ext cx="2286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08120" y="5105520"/>
            <a:ext cx="173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stance of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bject in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or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362320" y="2666880"/>
            <a:ext cx="838080" cy="10670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2666880"/>
            <a:ext cx="228600" cy="10670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2666880"/>
            <a:ext cx="533520" cy="7621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3733920"/>
            <a:ext cx="10666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429000" y="3428640"/>
            <a:ext cx="304920" cy="3049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362320" y="198072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371600" y="3733920"/>
            <a:ext cx="9907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1981080"/>
            <a:ext cx="20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yramid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 its 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odel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28280" y="3519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80160" y="4281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23520" y="17668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3962520"/>
            <a:ext cx="2819520" cy="1523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55960" y="4433760"/>
            <a:ext cx="104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o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rans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FD5-6612-41FD-AA39-DA4CF760D6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nslation and Scaling in 3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41877" t="44535" r="22500" b="41408"/>
          <a:stretch/>
        </p:blipFill>
        <p:spPr>
          <a:xfrm>
            <a:off x="2590920" y="2133720"/>
            <a:ext cx="4343400" cy="1371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rcRect l="29376" t="53129" r="18125" b="32814"/>
          <a:stretch/>
        </p:blipFill>
        <p:spPr>
          <a:xfrm>
            <a:off x="1981080" y="4495680"/>
            <a:ext cx="64008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C54-BFAB-4F60-AD59-2A8DF823B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otation in 3D is about an ax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895480" y="182844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904760" y="3505320"/>
            <a:ext cx="9903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20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5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2000" y="160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895480" y="2895480"/>
            <a:ext cx="1752840" cy="6098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285640" y="1981080"/>
            <a:ext cx="609480" cy="15242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7640" y="312408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4000" y="2708280"/>
            <a:ext cx="252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by angl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the x ax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4156200"/>
            <a:ext cx="60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4600" y="4114800"/>
            <a:ext cx="247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0         0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c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- s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s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c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0          0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74560" y="4038480"/>
            <a:ext cx="50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4114800"/>
            <a:ext cx="76320" cy="1523880"/>
          </a:xfrm>
          <a:custGeom>
            <a:avLst/>
            <a:gdLst>
              <a:gd name="textAreaLeft" fmla="*/ 0 w 76320"/>
              <a:gd name="textAreaRight" fmla="*/ 53640 w 7632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4114800"/>
            <a:ext cx="76320" cy="152388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114800"/>
            <a:ext cx="75960" cy="152388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4114800"/>
            <a:ext cx="75960" cy="152388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4114800"/>
            <a:ext cx="76320" cy="1523880"/>
          </a:xfrm>
          <a:custGeom>
            <a:avLst/>
            <a:gdLst>
              <a:gd name="textAreaLeft" fmla="*/ 0 w 76320"/>
              <a:gd name="textAreaRight" fmla="*/ 53640 w 7632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05920" y="4114800"/>
            <a:ext cx="75960" cy="1523880"/>
          </a:xfrm>
          <a:custGeom>
            <a:avLst/>
            <a:gdLst>
              <a:gd name="textAreaLeft" fmla="*/ 0 w 75960"/>
              <a:gd name="textAreaRight" fmla="*/ 53280 w 7596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7640" y="4724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341-D522-4995-9080-42418A0F64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otation about Arbitrary Ax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920" y="4572000"/>
            <a:ext cx="60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7480" y="4648320"/>
            <a:ext cx="246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11   r12   r13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21   r22   r23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31   r32   r33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 0          0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98240" y="4572000"/>
            <a:ext cx="50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4648320"/>
            <a:ext cx="76320" cy="1523880"/>
          </a:xfrm>
          <a:custGeom>
            <a:avLst/>
            <a:gdLst>
              <a:gd name="textAreaLeft" fmla="*/ 0 w 76320"/>
              <a:gd name="textAreaRight" fmla="*/ 53640 w 7632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648320"/>
            <a:ext cx="76320" cy="152388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572000"/>
            <a:ext cx="75960" cy="152388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0120" y="449568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4572000"/>
            <a:ext cx="76320" cy="1523880"/>
          </a:xfrm>
          <a:custGeom>
            <a:avLst/>
            <a:gdLst>
              <a:gd name="textAreaLeft" fmla="*/ 0 w 76320"/>
              <a:gd name="textAreaRight" fmla="*/ 53640 w 7632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53280" y="4495680"/>
            <a:ext cx="76320" cy="1524240"/>
          </a:xfrm>
          <a:custGeom>
            <a:avLst/>
            <a:gdLst>
              <a:gd name="textAreaLeft" fmla="*/ 0 w 76320"/>
              <a:gd name="textAreaRight" fmla="*/ 5364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764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828800" y="17524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295280" y="266688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33920" y="17524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09588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815328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53280" y="2590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200400" y="266688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562360" y="2590920"/>
            <a:ext cx="5331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619760" y="2590920"/>
            <a:ext cx="5331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1980720"/>
            <a:ext cx="609840" cy="304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828440" y="228600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7280" y="2057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733920" y="2362320"/>
            <a:ext cx="609480" cy="304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4320" y="19810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2590920"/>
            <a:ext cx="533520" cy="304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8040" y="19810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53280" y="25909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47840" y="3241800"/>
            <a:ext cx="703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translation and two rotations to line it up with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 axis. Now rotate it about that axis.  Then a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verse transformations (R2, R1, T) to move it bac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2438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E7D-0B70-40EC-AFF5-B11BBE2795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Camera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80400" y="1793880"/>
            <a:ext cx="7027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age po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P from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ld po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6040" y="3048120"/>
            <a:ext cx="26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11   c12   c13   c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21   c22   c23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c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31   c32   c33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80720" y="3089160"/>
            <a:ext cx="7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Ip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I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69640" y="2895480"/>
            <a:ext cx="50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304812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86600" y="3048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3124080"/>
            <a:ext cx="75960" cy="1143000"/>
          </a:xfrm>
          <a:custGeom>
            <a:avLst/>
            <a:gdLst>
              <a:gd name="textAreaLeft" fmla="*/ 22320 w 75960"/>
              <a:gd name="textAreaRight" fmla="*/ 76320 w 7596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3124080"/>
            <a:ext cx="76320" cy="1143000"/>
          </a:xfrm>
          <a:custGeom>
            <a:avLst/>
            <a:gdLst>
              <a:gd name="textAreaLeft" fmla="*/ 0 w 76320"/>
              <a:gd name="textAreaRight" fmla="*/ 5364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2971800"/>
            <a:ext cx="152280" cy="1447920"/>
          </a:xfrm>
          <a:custGeom>
            <a:avLst/>
            <a:gdLst>
              <a:gd name="textAreaLeft" fmla="*/ 44640 w 152280"/>
              <a:gd name="textAreaRight" fmla="*/ 152640 w 15228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01000" y="2971800"/>
            <a:ext cx="76320" cy="1447920"/>
          </a:xfrm>
          <a:custGeom>
            <a:avLst/>
            <a:gdLst>
              <a:gd name="textAreaLeft" fmla="*/ 0 w 76320"/>
              <a:gd name="textAreaRight" fmla="*/ 53640 w 7632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95480" y="3470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449568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29600" y="453708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mera matrix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2960" y="4495680"/>
            <a:ext cx="8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240" y="51814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’s in 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50D-52B9-4398-A574-835E202ED2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camera model handles 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id body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transformation from world coordinates to camera coordinates plus 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spectiv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ansformation to image coordinates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02120" y="2514600"/>
            <a:ext cx="29422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   CP   =    T R  W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    IP    =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f)  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2720" y="3962520"/>
            <a:ext cx="78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Ip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I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920" y="403848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    0    0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    1    0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    0   1/f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93680" y="3809880"/>
            <a:ext cx="70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41148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41148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2880" y="41911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41148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1520" y="3886200"/>
            <a:ext cx="75960" cy="1371600"/>
          </a:xfrm>
          <a:custGeom>
            <a:avLst/>
            <a:gdLst>
              <a:gd name="textAreaLeft" fmla="*/ 22320 w 75960"/>
              <a:gd name="textAreaRight" fmla="*/ 7632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01000" y="3886200"/>
            <a:ext cx="76320" cy="1371600"/>
          </a:xfrm>
          <a:custGeom>
            <a:avLst/>
            <a:gdLst>
              <a:gd name="textAreaLeft" fmla="*/ 0 w 76320"/>
              <a:gd name="textAreaRight" fmla="*/ 5364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04960" y="4308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4760" y="5334120"/>
            <a:ext cx="19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41760" y="529920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93720" y="5375160"/>
            <a:ext cx="15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D point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ord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693-B757-47FA-A48B-BD202686E3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amera Calibration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64040" y="1676520"/>
            <a:ext cx="711756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work in 3D, we need to know the 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particular camera set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for the camera parameters is called calib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133720" y="411444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33720" y="51814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600200" y="518148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90000" y="3672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91640" y="499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21120" y="525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7600" y="4876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34340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343400" y="42670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76360" y="35193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62160" y="40528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2560" y="4572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6432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4876920"/>
            <a:ext cx="380880" cy="83808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14440" y="44197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05400" y="3581280"/>
            <a:ext cx="32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rinsic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parameter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f the camera de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rinsic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arameter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ere the camera s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 the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6B2-E2E0-4899-BC0D-C3CDF00206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21:45:20Z</dcterms:created>
  <dc:creator>uw</dc:creator>
  <dc:description/>
  <dc:language>en-US</dc:language>
  <cp:lastModifiedBy>uw</cp:lastModifiedBy>
  <dcterms:modified xsi:type="dcterms:W3CDTF">2002-11-26T18:47:11Z</dcterms:modified>
  <cp:revision>36</cp:revision>
  <dc:subject/>
  <dc:title>3D Sensing</dc:title>
</cp:coreProperties>
</file>