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971-3187-47B5-A39D-DC044444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055-E695-4EA1-BCD4-0882532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F90-651F-46D4-8C4E-99D59D89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B49-DE72-4868-AE3D-B3EB7734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8FE1-C522-4DA0-AAD6-837B8048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248E-AC9D-42E9-BCE1-B9FFCB7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B5B-338B-4AEB-84BC-400029C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69A-53E6-4D9B-AC63-D82AED7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BDB-0F30-4E80-A6F9-B181992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4CA9-3D8A-433C-BCBF-93C1CFEA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812-2455-4B50-B4BF-B77C4BB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633-2EA4-416F-B70C-DC19175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1424-3F5B-4854-B098-BDA121F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ADD-47FF-42A1-922C-0CEE325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9286-094E-4E91-AA57-427284A7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BF9C-9236-4547-BA02-10684524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35E6-F71F-4A57-8553-B32BA24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772-58D2-4B82-8E7C-5DE7FBA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CD5-6506-4D02-A020-2E230C6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709-E31C-4640-BF1C-F6AB11A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FD0-7CD4-424B-8D39-D4C7C688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EB1-EC28-4179-88D1-7BE7DA78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A04-CDC4-4AFC-B547-78E66B7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E5D-D0A8-4DC4-BA1A-CBF13DC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04EF-32D1-4FE8-96EF-D0CA6572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3EA-71AD-4BD2-BFC8-BCDF9302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44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3-D Object Recognition From Shap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vador Ruiz Cor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artment of Electr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sm.bw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598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alitative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7" name="scene53.recognition.top" descr=""/>
          <p:cNvPicPr/>
          <p:nvPr/>
        </p:nvPicPr>
        <p:blipFill>
          <a:blip r:embed="rId1"/>
          <a:stretch/>
        </p:blipFill>
        <p:spPr>
          <a:xfrm>
            <a:off x="2133720" y="4419720"/>
            <a:ext cx="1695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scene129.recognition.top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743200" cy="2266920"/>
          </a:xfrm>
          <a:prstGeom prst="rect">
            <a:avLst/>
          </a:prstGeom>
          <a:ln w="0">
            <a:noFill/>
          </a:ln>
        </p:spPr>
      </p:pic>
      <p:pic>
        <p:nvPicPr>
          <p:cNvPr id="189" name="scene53.mesh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214920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scene129.recognition.mesh.top" descr=""/>
          <p:cNvPicPr/>
          <p:nvPr/>
        </p:nvPicPr>
        <p:blipFill>
          <a:blip r:embed="rId4"/>
          <a:stretch/>
        </p:blipFill>
        <p:spPr>
          <a:xfrm>
            <a:off x="5638680" y="1752480"/>
            <a:ext cx="2819520" cy="2394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28240" y="1717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50480" y="3927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s % Improv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7800" y="1600200"/>
            <a:ext cx="65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four methods ~ 4000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pin Images vs Spherical Spin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 vs 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with PCA  vs SSI with Random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C + SS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47920" y="4343400"/>
          <a:ext cx="7086600" cy="208584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  <a:gridCol w="1181160"/>
                <a:gridCol w="118080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I vs 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IC vs S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SI-C40_RO.color" descr=""/>
          <p:cNvPicPr/>
          <p:nvPr/>
        </p:nvPicPr>
        <p:blipFill>
          <a:blip r:embed="rId1"/>
          <a:stretch/>
        </p:blipFill>
        <p:spPr>
          <a:xfrm>
            <a:off x="800280" y="64764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SI-C40_RC_color" descr=""/>
          <p:cNvPicPr/>
          <p:nvPr/>
        </p:nvPicPr>
        <p:blipFill>
          <a:blip r:embed="rId1"/>
          <a:stretch/>
        </p:blipFill>
        <p:spPr>
          <a:xfrm>
            <a:off x="800280" y="49536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urrent Re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well defined classes of objects based on 3-D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echniques from statistical learning theory (support vector machines) and knowledge from the physiology of learning in humans to achieve categorization, detection and recognition of shape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model2bunny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3353040" cy="271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8480" y="556272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3280" y="55627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cene64.crop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111480" cy="2987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29200" y="2133720"/>
            <a:ext cx="3352680" cy="32004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fficult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scene38.points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666880" cy="2179440"/>
          </a:xfrm>
          <a:prstGeom prst="rect">
            <a:avLst/>
          </a:prstGeom>
          <a:ln w="0">
            <a:noFill/>
          </a:ln>
        </p:spPr>
      </p:pic>
      <p:pic>
        <p:nvPicPr>
          <p:cNvPr id="139" name="bunny.scene38" descr=""/>
          <p:cNvPicPr/>
          <p:nvPr/>
        </p:nvPicPr>
        <p:blipFill>
          <a:blip r:embed="rId2"/>
          <a:stretch/>
        </p:blipFill>
        <p:spPr>
          <a:xfrm>
            <a:off x="3657600" y="4495680"/>
            <a:ext cx="2057400" cy="1847880"/>
          </a:xfrm>
          <a:prstGeom prst="rect">
            <a:avLst/>
          </a:prstGeom>
          <a:ln w="0">
            <a:noFill/>
          </a:ln>
        </p:spPr>
      </p:pic>
      <p:pic>
        <p:nvPicPr>
          <p:cNvPr id="140" name="model2bunny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2057400" cy="1667160"/>
          </a:xfrm>
          <a:prstGeom prst="rect">
            <a:avLst/>
          </a:prstGeom>
          <a:ln w="0">
            <a:noFill/>
          </a:ln>
        </p:spPr>
      </p:pic>
      <p:pic>
        <p:nvPicPr>
          <p:cNvPr id="141" name="setup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2286000" cy="1568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67600" y="17524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720" y="2362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0040" y="14130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 of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2438280"/>
            <a:ext cx="761760" cy="990720"/>
          </a:xfrm>
          <a:prstGeom prst="ellipse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2578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5840" y="6248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89280" y="6248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scene38.mesh" descr=""/>
          <p:cNvPicPr/>
          <p:nvPr/>
        </p:nvPicPr>
        <p:blipFill>
          <a:blip r:embed="rId5"/>
          <a:stretch/>
        </p:blipFill>
        <p:spPr>
          <a:xfrm>
            <a:off x="6553080" y="4495680"/>
            <a:ext cx="2057400" cy="1789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7280" y="5181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6248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g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scene129.recognition.mesh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276720" cy="2774880"/>
          </a:xfrm>
          <a:prstGeom prst="rect">
            <a:avLst/>
          </a:prstGeom>
          <a:ln w="0">
            <a:noFill/>
          </a:ln>
        </p:spPr>
      </p:pic>
      <p:pic>
        <p:nvPicPr>
          <p:cNvPr id="156" name="modelbunny2.search_ssi" descr=""/>
          <p:cNvPicPr/>
          <p:nvPr/>
        </p:nvPicPr>
        <p:blipFill>
          <a:blip r:embed="rId2"/>
          <a:stretch/>
        </p:blipFill>
        <p:spPr>
          <a:xfrm>
            <a:off x="1996920" y="2397240"/>
            <a:ext cx="2347920" cy="25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09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428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01840" y="43779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9560" y="331164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368520" y="27781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3040" y="18288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9240" y="16765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628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467480" y="4114800"/>
            <a:ext cx="152640" cy="838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3320" y="5105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7360" y="358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05720" y="3962160"/>
            <a:ext cx="22860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077320" y="4038480"/>
            <a:ext cx="45720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4200" y="565776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fac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local “feat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rface Match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39640" y="2209680"/>
            <a:ext cx="743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candidate ‘point correspondences’ betwe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and scene that are geometrically 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 distance measure in the “space of local features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 set of potential matches (groups of 3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en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match that produces the best alignmen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meshes (rotation matrix and trans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cal Fea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tp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70106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in Signature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3295440" cy="3066840"/>
          </a:xfrm>
          <a:prstGeom prst="rect">
            <a:avLst/>
          </a:prstGeom>
          <a:ln w="0">
            <a:noFill/>
          </a:ln>
        </p:spPr>
      </p:pic>
      <p:pic>
        <p:nvPicPr>
          <p:cNvPr id="178" name="surfacesignature.230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274840" cy="2308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4120" y="3657600"/>
            <a:ext cx="3047760" cy="29718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981080"/>
            <a:ext cx="3124440" cy="2895840"/>
          </a:xfrm>
          <a:prstGeom prst="rect">
            <a:avLst/>
          </a:prstGeom>
          <a:noFill/>
          <a:ln w="381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48920" y="220968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descriptors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 to clutter and oc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herical Spin Images (SS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ssi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53341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gnition using S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5" name="ssi_search4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76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38:05Z</dcterms:created>
  <dc:creator>sruiz</dc:creator>
  <dc:description/>
  <dc:language>en-US</dc:language>
  <cp:lastModifiedBy>uw</cp:lastModifiedBy>
  <dcterms:modified xsi:type="dcterms:W3CDTF">2002-11-20T09:05:18Z</dcterms:modified>
  <cp:revision>42</cp:revision>
  <dc:subject/>
  <dc:title>3-D Object Recognition from Shape</dc:title>
</cp:coreProperties>
</file>