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F46-6DD6-4FD7-A2F6-BA6FC4F3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B1F-C2D5-4F5F-BE38-E150FD63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DA3-0278-4552-B850-658EB8B8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30B-247C-4EC7-B3A2-F1587B53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8F74-4101-49FA-8953-8EA5A9B7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9500-1E84-425B-8DD6-3550DF01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D74D-6932-4345-AE23-6EE5B244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0F65-0E71-43F1-AB58-65CEC3A0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19C2-259E-41E4-950F-A4A3CCC3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C099-1A63-4D78-BAAB-5869B56A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BA52-3D91-411D-B3FE-5D542AA0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279-3C94-4540-B6D5-3A4089F0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E0AC-EA1B-48D3-B02E-5A663E02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E931-8DFA-468C-83F3-0B14F04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60CC-062F-4F34-A335-F55D7AF9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858E-4DCD-40B7-A493-C945F1C7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D885-B4AE-445C-89EA-E79836FD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FEC-A4C3-4A7D-97DF-CE804280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FEC-C38F-4C95-BD28-B103D228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2EA-5966-4248-B252-7EE7FC1D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7DB-37A2-4754-93CA-718A03B0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30D-0DC3-431C-BD16-82E26D0F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486-D347-43E4-80E0-835F6626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566-A997-41CB-8A72-2B66559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7600-4D8E-42F5-833B-7493903A6C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31DD-4723-42E6-9945-0F66D7894A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3D Models and Match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93520" y="2708280"/>
            <a:ext cx="4875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presentations for 3D object mode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ticular matching techniq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ignment-based syste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earance-based syste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962520"/>
            <a:ext cx="685800" cy="175248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7010280" y="2438280"/>
            <a:ext cx="76320" cy="175284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886200"/>
            <a:ext cx="380880" cy="38088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04680" y="594360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GC model of a screwdriv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219-AD66-413E-810F-744F1B69CA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2D Deformable Mode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3111480" cy="3873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276720" y="3809880"/>
            <a:ext cx="1295280" cy="9907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2760" y="2514600"/>
            <a:ext cx="361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e fitting mimiz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- internal energy of t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tour (smoothnes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- image energy (fit to da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- external energy (user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fined constraint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72960" y="1793880"/>
            <a:ext cx="63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2D deformable model or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nak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s a function th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fit to some real data, along its contou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67E-B850-4BD7-9E71-615E84EF22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3D Deformable Mode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7560" y="1828800"/>
            <a:ext cx="71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3D, the snake concept becomes a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alloon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at expan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fill a point cloud of 3D da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23126" t="9376" r="22500" b="10155"/>
          <a:stretch/>
        </p:blipFill>
        <p:spPr>
          <a:xfrm>
            <a:off x="3352680" y="2819520"/>
            <a:ext cx="321804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B12-199A-481E-8FB0-18749BCF4F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tching Geometric Model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ia Align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8360" y="1905120"/>
            <a:ext cx="690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ignment is the most common paradigm for match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D models to either 2D or 3D data.  The steps ar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8640" y="2895480"/>
            <a:ext cx="7134480" cy="34480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1. 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hypothesize a correspondence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between a set of mode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oints and a set of data poi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2.   From the correspondence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ompute a transform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from model to 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3. 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pply the transformation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to the model features 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roduce transformed featu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4. 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ompare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the transformed model features to the ima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features to verify or disprove the hypothes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721-D89B-4CAA-959B-456E7797E9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3D-3D Alignment of Mesh Models to Mesh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6120" y="2251080"/>
            <a:ext cx="812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lder Wor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match 3D features such as 3D edges and jun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 surface patch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ore Recent Wor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match surface signat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05400" y="3927600"/>
            <a:ext cx="659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curvature at a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curvature histogram in the neighborhood of a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Medioni’s splash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Johnson and Hebert’s spin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6FA-027D-48CC-9E06-24FAECE507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Spin Image Signatu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657600"/>
            <a:ext cx="3276720" cy="1143000"/>
          </a:xfrm>
          <a:prstGeom prst="parallelogram">
            <a:avLst>
              <a:gd name="adj" fmla="val 7166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495680" y="3200400"/>
            <a:ext cx="0" cy="99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4114800"/>
            <a:ext cx="152280" cy="15228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3048120"/>
            <a:ext cx="152280" cy="152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40280" y="4038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856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3124080"/>
            <a:ext cx="0" cy="838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95680" y="3962160"/>
            <a:ext cx="914400" cy="2286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00760" y="293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62880" y="39974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0280" y="32767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0440" y="2133720"/>
            <a:ext cx="8320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 is the selected vertex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is a contributing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f the mes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the perpendicular distance from X to P’s surface norm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the signed perpendicular distance from X to P’s tangent pla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25600" y="392760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angent plane at 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D44-DAEA-448C-8095-39A2EA1657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in Image Constr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0440" y="2133720"/>
            <a:ext cx="7866000" cy="41173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spin image is construc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about a specified oriented point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f the object surf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 with respect to a set of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tributing points C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which 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led by maximum distance and angle from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t is stored as an array of accumulators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(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computed vi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point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(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1. compute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for 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2. increment S (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724280"/>
            <a:ext cx="289512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4120" y="5029200"/>
            <a:ext cx="289440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1120" y="5334120"/>
            <a:ext cx="28951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6070200">
            <a:off x="5100480" y="4054680"/>
            <a:ext cx="289440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6070200">
            <a:off x="4795560" y="3902040"/>
            <a:ext cx="289512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6070200">
            <a:off x="4491360" y="3750120"/>
            <a:ext cx="28951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6070200">
            <a:off x="4186080" y="3597480"/>
            <a:ext cx="289440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6070200">
            <a:off x="3881160" y="3444840"/>
            <a:ext cx="289512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5562720"/>
            <a:ext cx="28951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400800" y="4648320"/>
            <a:ext cx="0" cy="761760"/>
          </a:xfrm>
          <a:prstGeom prst="line">
            <a:avLst/>
          </a:prstGeom>
          <a:ln w="3816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26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1D8-12E3-41C2-95C0-74DA40B0D4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92400" y="122400"/>
            <a:ext cx="54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in Image Match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la Sal Rui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0" name="ssi_search4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943600" cy="474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141-516D-4447-ACC6-02E7CF77FD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in Images Object Recogn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9600" y="2666880"/>
            <a:ext cx="7677360" cy="37515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. Compute spin images at selected points of a sce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2. Compare scene spin images with model scene images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rrelation or related metho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3.  Group strong matches as in pose clustering and elimin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utlie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4.  Use the winning pose transformation to align the model 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he image points and verify or disprov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3040" y="1981080"/>
            <a:ext cx="84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ffline: Compute spin images of each vertex of the object model(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839-AD27-43F5-9059-93ECAB3EF2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2D-3D Alignment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1360" y="2438280"/>
            <a:ext cx="6179040" cy="302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ngl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D image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f the ob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object mode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ull 3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models, such as GC or SE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view cla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models representing characteris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ob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1D5-BDEB-49E7-9903-C56644D384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iew Classes and Viewing Spher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2438280"/>
            <a:ext cx="2819520" cy="274320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3505320"/>
            <a:ext cx="838080" cy="5331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7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486400" y="4267080"/>
            <a:ext cx="533520" cy="60984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280" y="2174760"/>
            <a:ext cx="682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pace of view points can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titioned into a finite set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aracteristic view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ach view class represents a set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iew points that have someth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 common, such a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same surfaces are visi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same line segments are visi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lational distance between pairs of them is sma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2819520"/>
            <a:ext cx="1893960" cy="79200"/>
          </a:xfrm>
          <a:custGeom>
            <a:avLst/>
            <a:gdLst/>
            <a:ahLst/>
            <a:rect l="l" t="t" r="r" b="b"/>
            <a:pathLst>
              <a:path w="1201" h="98">
                <a:moveTo>
                  <a:pt x="0" y="0"/>
                </a:moveTo>
                <a:cubicBezTo>
                  <a:pt x="76" y="38"/>
                  <a:pt x="135" y="81"/>
                  <a:pt x="218" y="98"/>
                </a:cubicBezTo>
                <a:cubicBezTo>
                  <a:pt x="450" y="96"/>
                  <a:pt x="681" y="95"/>
                  <a:pt x="913" y="91"/>
                </a:cubicBezTo>
                <a:cubicBezTo>
                  <a:pt x="977" y="90"/>
                  <a:pt x="1047" y="89"/>
                  <a:pt x="1110" y="70"/>
                </a:cubicBezTo>
                <a:cubicBezTo>
                  <a:pt x="1181" y="49"/>
                  <a:pt x="1125" y="65"/>
                  <a:pt x="1180" y="42"/>
                </a:cubicBezTo>
                <a:cubicBezTo>
                  <a:pt x="1187" y="39"/>
                  <a:pt x="1201" y="35"/>
                  <a:pt x="1201" y="35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804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02D-8AEA-490F-B5CD-4183AC10A1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3D Mode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1080" y="2251080"/>
            <a:ext cx="808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ny different representations have been used to mod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D objec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e are very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ars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just picking up the important featur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s are very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in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describing the entire surface of the objec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ually, the recognition procedure depends very much 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type of mode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3C8-FB3A-4DAB-A1D5-35CBA89FB2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3 View Classes of a Cub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3200400"/>
            <a:ext cx="1295640" cy="11430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581280"/>
            <a:ext cx="990360" cy="8384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3657600"/>
            <a:ext cx="990360" cy="838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952520" y="3200400"/>
            <a:ext cx="22860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190760" y="3200400"/>
            <a:ext cx="22860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3200400"/>
            <a:ext cx="5331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63080" y="461340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 surface            2 surfaces                3 surfa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B5A-4DB0-4AE2-9D6A-F05949E610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IBORS: view class matching of polyhedral obj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23752" t="45314" r="22500" b="28908"/>
          <a:stretch/>
        </p:blipFill>
        <p:spPr>
          <a:xfrm>
            <a:off x="1295280" y="1600200"/>
            <a:ext cx="6553440" cy="2514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29440" y="4267080"/>
            <a:ext cx="7521840" cy="22885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ch object had 4-5 view classes (hand selecte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representation of a view class for matching include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riplets of line segm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visible in that cla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the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robability of detectabilit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f each triplet determin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y graphics simul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8D0-8D94-4ECF-B82B-CCED3EC4D8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O: Relational Indexing for Object Recogn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08640" y="1981080"/>
            <a:ext cx="694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IO worked with more complex parts that could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planar surfa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cylindrical surfa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threa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23752" t="14844" r="22500" b="60157"/>
          <a:stretch/>
        </p:blipFill>
        <p:spPr>
          <a:xfrm>
            <a:off x="1447920" y="3809880"/>
            <a:ext cx="6553080" cy="24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C53-B5E8-4FC3-97DA-C874CD6A2A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bject Representation in 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2480" y="1981080"/>
            <a:ext cx="875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D objects are represented by a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3D mes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nd set of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2D view classe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ch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iew cla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s represented by an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ttributed grap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des are features and whose attributed edges are relationship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purposes of indexing, attributed graphs are stored 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ts of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2-graph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graphs with 2 nodes and 2 relationship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8000" y="5375160"/>
            <a:ext cx="979200" cy="4597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llip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97360" y="5222880"/>
            <a:ext cx="1512720" cy="8254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axial ar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5638680"/>
            <a:ext cx="3886200" cy="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19160" y="51814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hare an ar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FDE-F35F-4B2B-AA30-C1BFB1238A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O Fea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2362320"/>
            <a:ext cx="1295640" cy="6858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67240" y="2362320"/>
            <a:ext cx="22852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640" y="2666880"/>
            <a:ext cx="22852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2160" y="2133720"/>
            <a:ext cx="22852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962520" y="2057040"/>
            <a:ext cx="1218960" cy="1219320"/>
          </a:xfrm>
          <a:prstGeom prst="line">
            <a:avLst/>
          </a:prstGeom>
          <a:ln cap="rnd" w="1260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6240" y="251460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6240" y="2666880"/>
            <a:ext cx="913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6240" y="259092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6240" y="274320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6240" y="281952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64040" y="358128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lipses                   coaxials                 coaxials-mult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4419720"/>
            <a:ext cx="0" cy="9144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4419720"/>
            <a:ext cx="0" cy="9144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4419720"/>
            <a:ext cx="0" cy="914400"/>
          </a:xfrm>
          <a:prstGeom prst="line">
            <a:avLst/>
          </a:prstGeom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4419720"/>
            <a:ext cx="0" cy="914400"/>
          </a:xfrm>
          <a:prstGeom prst="line">
            <a:avLst/>
          </a:prstGeom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4419720"/>
            <a:ext cx="0" cy="9144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5334120"/>
            <a:ext cx="5335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4280" y="4419720"/>
            <a:ext cx="533520" cy="91440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724280" y="4952520"/>
            <a:ext cx="990720" cy="38124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4419720"/>
            <a:ext cx="75960" cy="8380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5257800"/>
            <a:ext cx="5335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686800" y="4419720"/>
            <a:ext cx="228600" cy="8380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4495680"/>
            <a:ext cx="381240" cy="304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391520" y="4419720"/>
            <a:ext cx="228600" cy="3808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0120" y="4419720"/>
            <a:ext cx="304560" cy="7617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4495680"/>
            <a:ext cx="304920" cy="30492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171840" y="4800600"/>
            <a:ext cx="228600" cy="38088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00800" y="4724280"/>
            <a:ext cx="380880" cy="7632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840" y="5791320"/>
            <a:ext cx="79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llel lines                           junctions                          trip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ose and far                   L            V              Y          Z             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78F-C926-4BA2-A371-68146168BA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O Relationship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1480" y="2251080"/>
            <a:ext cx="484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are one ar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hare one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are two li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ax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ose at extremal po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unding box encloses / enclosed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7400" y="5029200"/>
            <a:ext cx="380880" cy="8380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867280"/>
            <a:ext cx="1295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733920" y="5029200"/>
            <a:ext cx="380880" cy="8380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5181480"/>
            <a:ext cx="685800" cy="381240"/>
          </a:xfrm>
          <a:prstGeom prst="ellipse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4876920"/>
            <a:ext cx="2286000" cy="1218960"/>
          </a:xfrm>
          <a:prstGeom prst="rect">
            <a:avLst/>
          </a:prstGeom>
          <a:noFill/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2133720"/>
            <a:ext cx="914400" cy="228600"/>
          </a:xfrm>
          <a:prstGeom prst="line">
            <a:avLst/>
          </a:prstGeom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2362320"/>
            <a:ext cx="0" cy="533160"/>
          </a:xfrm>
          <a:prstGeom prst="line">
            <a:avLst/>
          </a:prstGeom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334120" y="2895480"/>
            <a:ext cx="914400" cy="228600"/>
          </a:xfrm>
          <a:prstGeom prst="line">
            <a:avLst/>
          </a:prstGeom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2362320"/>
            <a:ext cx="0" cy="533160"/>
          </a:xfrm>
          <a:prstGeom prst="line">
            <a:avLst/>
          </a:prstGeom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87F-1F47-4351-B691-302572B80A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exnut Objec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rcRect l="18057" t="22225" r="29167" b="34261"/>
          <a:stretch/>
        </p:blipFill>
        <p:spPr>
          <a:xfrm>
            <a:off x="304920" y="2590920"/>
            <a:ext cx="579096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397920" y="3276720"/>
            <a:ext cx="25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other feat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relationshi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 you fin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414-FB47-40AB-B717-5462396D21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raph and 2-Graph Represent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6640" y="2362320"/>
            <a:ext cx="1512720" cy="8254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 coaxials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lt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920" y="4800600"/>
            <a:ext cx="1326600" cy="8254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 parall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09080" y="3699000"/>
            <a:ext cx="1207800" cy="4597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 ellip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1676520" y="2895120"/>
            <a:ext cx="1371600" cy="838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914400" y="3200040"/>
            <a:ext cx="0" cy="1600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752480" y="4190760"/>
            <a:ext cx="1143000" cy="6094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752120" y="4191120"/>
            <a:ext cx="1600200" cy="91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5480" y="35053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clos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18960" y="2781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clos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9000" y="419112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clos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65600" y="491508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oaxi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rcRect l="18057" t="22225" r="51391" b="34261"/>
          <a:stretch/>
        </p:blipFill>
        <p:spPr>
          <a:xfrm>
            <a:off x="1600200" y="228600"/>
            <a:ext cx="1711440" cy="1828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243760" y="2860560"/>
            <a:ext cx="261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        1        2      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        3        3       2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81480" y="2895480"/>
            <a:ext cx="38124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2895480"/>
            <a:ext cx="38088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2895480"/>
            <a:ext cx="38088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2895480"/>
            <a:ext cx="38124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91520" y="4724280"/>
            <a:ext cx="38088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4724280"/>
            <a:ext cx="38088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724280"/>
            <a:ext cx="38088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57800" y="4724280"/>
            <a:ext cx="38088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3276720"/>
            <a:ext cx="0" cy="144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72200" y="3276720"/>
            <a:ext cx="0" cy="144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3276720"/>
            <a:ext cx="0" cy="144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0120" y="3276720"/>
            <a:ext cx="0" cy="144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58680" y="39243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e          e            e           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4AC-2A31-4809-A291-93764F6AE4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Relational Indexing for Recognitio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3800" y="19810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reprocessing (off-line) Ph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0840" y="2743200"/>
            <a:ext cx="6716520" cy="22885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model view Mi in the datab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ncod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ch 2-graph of Mi to produce an ind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re Mi and associated information in the index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in of a hash table 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7A9-01A1-47A6-8610-45A7069384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tching (on-line) pha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4440" y="2403360"/>
            <a:ext cx="7864920" cy="41173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struct a relational (2-graph)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scriptio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 for the sce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2-graph 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f 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elect the Mis with high vote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s possible hypothe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ify or disprove via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lignment, using the 3D mesh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26440" y="3851280"/>
            <a:ext cx="7204320" cy="119124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ncode it, producing an index to access the hash table 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ast a vote for each Mi in the associated b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5C1-A982-4435-9984-37D247FBD5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sh Mode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880" y="1752480"/>
            <a:ext cx="660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sh models were originally for computer graphic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current availability of range data, they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used for 3D object recogni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501" t="35937" r="25627" b="19532"/>
          <a:stretch/>
        </p:blipFill>
        <p:spPr>
          <a:xfrm>
            <a:off x="990720" y="350532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08400" y="3581280"/>
            <a:ext cx="3589920" cy="119124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What types of feat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an we extract from mesh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or matching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1920" y="5105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 addition to matching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ey can be used f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erifica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7AF-8724-4740-A434-4CC0F064CF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Voting Proces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30625" t="21093" r="19999" b="26564"/>
          <a:stretch/>
        </p:blipFill>
        <p:spPr>
          <a:xfrm>
            <a:off x="1523880" y="1066680"/>
            <a:ext cx="601992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D6E-58B6-4467-984C-38BF16DCA0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O Verific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95400" y="2209680"/>
            <a:ext cx="4111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1. The matched featu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of the hypothesize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object are used 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determine its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ose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Times New Roman"/>
              </a:rPr>
              <a:t>2. The 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3D mesh</a:t>
            </a:r>
            <a:r>
              <a:rPr b="0" lang="en-US" sz="2000" spc="-1" strike="noStrike">
                <a:solidFill>
                  <a:srgbClr val="cc00cc"/>
                </a:solidFill>
                <a:latin typeface="Times New Roman"/>
              </a:rPr>
              <a:t> of th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cc00cc"/>
                </a:solidFill>
                <a:latin typeface="Times New Roman"/>
              </a:rPr>
              <a:t>object is used 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cc00cc"/>
                </a:solidFill>
                <a:latin typeface="Times New Roman"/>
              </a:rPr>
              <a:t>project all its featu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cc00cc"/>
                </a:solidFill>
                <a:latin typeface="Times New Roman"/>
              </a:rPr>
              <a:t>onto th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3. A 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verification proced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checks how well the objec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features line up with edg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on th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9520" y="10666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Times New Roman"/>
              </a:rPr>
              <a:t>incorrec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Times New Roman"/>
              </a:rPr>
              <a:t>hypothe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9320" y="1752480"/>
            <a:ext cx="0" cy="838440"/>
          </a:xfrm>
          <a:prstGeom prst="line">
            <a:avLst/>
          </a:prstGeom>
          <a:ln w="1260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27501" t="36720" r="16876" b="11721"/>
          <a:stretch/>
        </p:blipFill>
        <p:spPr>
          <a:xfrm>
            <a:off x="380880" y="2590920"/>
            <a:ext cx="5334120" cy="39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27F-AB37-42B6-8CE3-8C48603EBE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nctional Model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(Stark and Bowyer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88920" y="2286000"/>
            <a:ext cx="6945480" cy="41173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Classes of objects are defined through their func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Knowledge primitives are parameterized proced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at check for basic physical concepts such 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- dimen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- ori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- proxim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- stabi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- clear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- encl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624-F406-4BA6-9573-A61DCFF4A5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Chai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0" t="18519" r="36806" b="15741"/>
          <a:stretch/>
        </p:blipFill>
        <p:spPr>
          <a:xfrm>
            <a:off x="380880" y="2286000"/>
            <a:ext cx="5257800" cy="4102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rcRect l="35418" t="43518" r="45833" b="20370"/>
          <a:stretch/>
        </p:blipFill>
        <p:spPr>
          <a:xfrm>
            <a:off x="6324480" y="2819520"/>
            <a:ext cx="205740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4BF-05BB-4F7C-9991-C4F0A23748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Functional Recognition Procedur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1560" y="2098800"/>
            <a:ext cx="8067240" cy="33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gment the range data into surfa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a bottom-up analysis to determine all functional proper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is, construct indexes that are used to rank order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sible objects and prune away the impossible 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a top-down approach to fully test for the most high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nked categori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13680" y="5867280"/>
            <a:ext cx="7116480" cy="459720"/>
          </a:xfrm>
          <a:prstGeom prst="rect">
            <a:avLst/>
          </a:prstGeom>
          <a:noFill/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What are the strengths and weaknesses of this approach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C35-751B-4E90-BB4A-7225674377E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cognition by Appeara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7080" y="2251080"/>
            <a:ext cx="7486560" cy="37515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earance-based recognition is a competing paradigm 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atures and align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No features are extracte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represented by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basis func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eigenvecto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their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coeffici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atching is performed on this compressed im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representa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476-79B6-4768-8004-F598DEC5C5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near subspaces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368360" y="990360"/>
            <a:ext cx="2819520" cy="2819520"/>
            <a:chOff x="1368360" y="990360"/>
            <a:chExt cx="2819520" cy="2819520"/>
          </a:xfrm>
        </p:grpSpPr>
        <p:sp>
          <p:nvSpPr>
            <p:cNvPr id="380" name=""/>
            <p:cNvSpPr/>
            <p:nvPr/>
          </p:nvSpPr>
          <p:spPr>
            <a:xfrm>
              <a:off x="1368360" y="3809880"/>
              <a:ext cx="281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368360" y="990360"/>
              <a:ext cx="0" cy="28191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225720" cy="2109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3971880" y="3900600"/>
            <a:ext cx="211320" cy="210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352680" y="182880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38280" y="25909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8120" y="2057400"/>
            <a:ext cx="7596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24382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95480" y="22096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19051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00400" y="19810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19520" y="3505320"/>
            <a:ext cx="75960" cy="7596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251460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71800" y="31240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43200" y="297180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3505320"/>
            <a:ext cx="76320" cy="7596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62320" y="3352680"/>
            <a:ext cx="7596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182880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2438280"/>
            <a:ext cx="7596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28800" y="15238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90920" y="3276720"/>
            <a:ext cx="75960" cy="7596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15238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2514600"/>
            <a:ext cx="7596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19520" y="1676520"/>
            <a:ext cx="75960" cy="7596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09680" y="19810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1240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29000" y="2819520"/>
            <a:ext cx="76320" cy="7596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38280" y="17524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15238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371600"/>
            <a:ext cx="7596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3048120"/>
            <a:ext cx="76320" cy="7596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9880" y="26668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00200" y="22096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1905120"/>
            <a:ext cx="76320" cy="7596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00400" y="1447920"/>
            <a:ext cx="76320" cy="7596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05120" y="2133720"/>
            <a:ext cx="75960" cy="7596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2514600"/>
            <a:ext cx="7596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209680"/>
            <a:ext cx="76320" cy="7632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09680" y="297180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274320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28195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2286000"/>
            <a:ext cx="76320" cy="763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1905120" y="2286000"/>
            <a:ext cx="129960" cy="11916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2362320" y="1973160"/>
            <a:ext cx="914400" cy="679680"/>
            <a:chOff x="2362320" y="1973160"/>
            <a:chExt cx="914400" cy="679680"/>
          </a:xfrm>
        </p:grpSpPr>
        <p:pic>
          <p:nvPicPr>
            <p:cNvPr id="433" name="" descr=""/>
            <p:cNvPicPr/>
            <p:nvPr/>
          </p:nvPicPr>
          <p:blipFill>
            <a:blip r:embed="rId4"/>
            <a:stretch/>
          </p:blipFill>
          <p:spPr>
            <a:xfrm>
              <a:off x="2514600" y="1973160"/>
              <a:ext cx="228600" cy="1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 flipV="1">
              <a:off x="2743200" y="2057400"/>
              <a:ext cx="381240" cy="380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2362320" y="2057400"/>
              <a:ext cx="380880" cy="380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5"/>
            <a:stretch/>
          </p:blipFill>
          <p:spPr>
            <a:xfrm>
              <a:off x="3048120" y="2209680"/>
              <a:ext cx="22860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6"/>
            <a:stretch/>
          </p:blipFill>
          <p:spPr>
            <a:xfrm>
              <a:off x="2743200" y="2496960"/>
              <a:ext cx="155520" cy="1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"/>
          <p:cNvSpPr/>
          <p:nvPr/>
        </p:nvSpPr>
        <p:spPr>
          <a:xfrm>
            <a:off x="2133720" y="2286000"/>
            <a:ext cx="609480" cy="15228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16280" y="1050840"/>
            <a:ext cx="391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onsider the sum squared distance of a point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to all of the orange points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17720" y="2406600"/>
            <a:ext cx="33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What unit vector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minimizes SSD?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7"/>
          <a:stretch/>
        </p:blipFill>
        <p:spPr>
          <a:xfrm>
            <a:off x="76320" y="1660680"/>
            <a:ext cx="1224000" cy="549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8"/>
          <a:stretch/>
        </p:blipFill>
        <p:spPr>
          <a:xfrm>
            <a:off x="4411800" y="1754280"/>
            <a:ext cx="4208400" cy="5302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9"/>
          <a:stretch/>
        </p:blipFill>
        <p:spPr>
          <a:xfrm>
            <a:off x="5391000" y="2797200"/>
            <a:ext cx="2516400" cy="2509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4650120" y="3092400"/>
            <a:ext cx="342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What unit vector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maximizes SSD?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0"/>
          <a:stretch/>
        </p:blipFill>
        <p:spPr>
          <a:xfrm>
            <a:off x="5383080" y="3432240"/>
            <a:ext cx="2565360" cy="2509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1"/>
          <a:stretch/>
        </p:blipFill>
        <p:spPr>
          <a:xfrm>
            <a:off x="2270160" y="4280040"/>
            <a:ext cx="4748040" cy="18158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149120" y="6095880"/>
            <a:ext cx="5272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olution: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is eigenvector of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with </a:t>
            </a: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largest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eigenvalu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is eigenvector of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with </a:t>
            </a: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smallest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eigenvalu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85D-7E14-43A5-AB9B-94CEC6F059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inciple component analy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ose each data point is N-dimens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ame procedure applie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eigenvectors of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define a new coordinate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igenvector with largest eigenvalue captures the most variation among training vectors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igenvector with smallest eigenvalue has least vari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e can compress the data by only using the top few eigenvecto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orresponds to choosing a “linear subspace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epresent points on a line, plane, or “hyper-plane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748400" cy="83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007-BF44-4B19-AC19-DD967B8B6E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space of fac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 image is a point in a high dimensional sp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 N x M image is a point in R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N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 can define vectors in this sp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676520" y="2361960"/>
            <a:ext cx="2819160" cy="24382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676520" y="1752120"/>
            <a:ext cx="0" cy="30481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76520" y="4800600"/>
            <a:ext cx="41907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676520" y="2514600"/>
            <a:ext cx="761760" cy="228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676520" y="3657240"/>
            <a:ext cx="1904760" cy="1143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38280" y="2514600"/>
            <a:ext cx="1143000" cy="114300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9" name="bush" descr=""/>
          <p:cNvPicPr/>
          <p:nvPr/>
        </p:nvPicPr>
        <p:blipFill>
          <a:blip r:embed="rId1"/>
          <a:stretch/>
        </p:blipFill>
        <p:spPr>
          <a:xfrm>
            <a:off x="2057400" y="1862280"/>
            <a:ext cx="712800" cy="576000"/>
          </a:xfrm>
          <a:prstGeom prst="rect">
            <a:avLst/>
          </a:prstGeom>
          <a:ln w="0">
            <a:noFill/>
          </a:ln>
        </p:spPr>
      </p:pic>
      <p:pic>
        <p:nvPicPr>
          <p:cNvPr id="460" name="ape" descr=""/>
          <p:cNvPicPr/>
          <p:nvPr/>
        </p:nvPicPr>
        <p:blipFill>
          <a:blip r:embed="rId2"/>
          <a:stretch/>
        </p:blipFill>
        <p:spPr>
          <a:xfrm>
            <a:off x="3657600" y="3367080"/>
            <a:ext cx="712800" cy="576360"/>
          </a:xfrm>
          <a:prstGeom prst="rect">
            <a:avLst/>
          </a:prstGeom>
          <a:ln w="0">
            <a:noFill/>
          </a:ln>
        </p:spPr>
      </p:pic>
      <p:pic>
        <p:nvPicPr>
          <p:cNvPr id="461" name="bush-ape." descr=""/>
          <p:cNvPicPr/>
          <p:nvPr/>
        </p:nvPicPr>
        <p:blipFill>
          <a:blip r:embed="rId3"/>
          <a:stretch/>
        </p:blipFill>
        <p:spPr>
          <a:xfrm>
            <a:off x="3048120" y="2432160"/>
            <a:ext cx="712800" cy="576000"/>
          </a:xfrm>
          <a:prstGeom prst="rect">
            <a:avLst/>
          </a:prstGeom>
          <a:ln w="0">
            <a:noFill/>
          </a:ln>
        </p:spPr>
      </p:pic>
      <p:grpSp>
        <p:nvGrpSpPr>
          <p:cNvPr id="462" name=""/>
          <p:cNvGrpSpPr/>
          <p:nvPr/>
        </p:nvGrpSpPr>
        <p:grpSpPr>
          <a:xfrm>
            <a:off x="4573800" y="3367080"/>
            <a:ext cx="2512800" cy="595440"/>
            <a:chOff x="4573800" y="3367080"/>
            <a:chExt cx="2512800" cy="595440"/>
          </a:xfrm>
        </p:grpSpPr>
        <p:sp>
          <p:nvSpPr>
            <p:cNvPr id="463" name=""/>
            <p:cNvSpPr/>
            <p:nvPr/>
          </p:nvSpPr>
          <p:spPr>
            <a:xfrm>
              <a:off x="5869080" y="33703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3800" y="33670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465" name="bush" descr=""/>
            <p:cNvPicPr/>
            <p:nvPr/>
          </p:nvPicPr>
          <p:blipFill>
            <a:blip r:embed="rId4"/>
            <a:stretch/>
          </p:blipFill>
          <p:spPr>
            <a:xfrm>
              <a:off x="5029200" y="3386160"/>
              <a:ext cx="7128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bush-ape." descr=""/>
            <p:cNvPicPr/>
            <p:nvPr/>
          </p:nvPicPr>
          <p:blipFill>
            <a:blip r:embed="rId5"/>
            <a:stretch/>
          </p:blipFill>
          <p:spPr>
            <a:xfrm>
              <a:off x="6373800" y="3386160"/>
              <a:ext cx="71280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A12-8B26-4AE4-A971-AB65D4D78E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 flipV="1">
            <a:off x="533520" y="2361960"/>
            <a:ext cx="2819160" cy="24382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6909200">
            <a:off x="456840" y="1676160"/>
            <a:ext cx="3276720" cy="2514600"/>
          </a:xfrm>
          <a:prstGeom prst="parallelogram">
            <a:avLst>
              <a:gd name="adj" fmla="val 39092"/>
            </a:avLst>
          </a:prstGeom>
          <a:solidFill>
            <a:srgbClr val="dddddd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mensionality redu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5866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t of faces is a “subspace” of the set of imag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33520" y="1752120"/>
            <a:ext cx="0" cy="30481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520" y="4800600"/>
            <a:ext cx="41907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33520" y="2514600"/>
            <a:ext cx="761760" cy="228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09480" y="3657240"/>
            <a:ext cx="1905120" cy="1143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2514600"/>
            <a:ext cx="1143000" cy="114300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6" name="bush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12800" cy="576000"/>
          </a:xfrm>
          <a:prstGeom prst="rect">
            <a:avLst/>
          </a:prstGeom>
          <a:ln w="0">
            <a:noFill/>
          </a:ln>
        </p:spPr>
      </p:pic>
      <p:pic>
        <p:nvPicPr>
          <p:cNvPr id="477" name="ape" descr=""/>
          <p:cNvPicPr/>
          <p:nvPr/>
        </p:nvPicPr>
        <p:blipFill>
          <a:blip r:embed="rId2"/>
          <a:stretch/>
        </p:blipFill>
        <p:spPr>
          <a:xfrm>
            <a:off x="2514600" y="3276720"/>
            <a:ext cx="712800" cy="576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494160" y="2362320"/>
            <a:ext cx="531504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e can find the best subspace using PC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uppose it is K dimensio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is is like fitting a “hyper-plane” to the set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f fa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panned by vectors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v</a:t>
            </a:r>
            <a:r>
              <a:rPr b="1" lang="en-US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..., v</a:t>
            </a:r>
            <a:r>
              <a:rPr b="1" lang="en-US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y face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ffffcc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ffffcc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+ , ..., +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669-3B81-45A2-A4E1-F38F7C050E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rface-Edge-Vertex Mode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81720" y="1828800"/>
            <a:ext cx="750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V models are at the opposite extreme from mesh model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y specify the (usually linear) features that would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racted from 2D or 3D da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y are suitable for objects with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harp edges and corn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at are easily detectable and characterize the objec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715000"/>
            <a:ext cx="1600200" cy="7621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5029200"/>
            <a:ext cx="380880" cy="83808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324480" y="5257800"/>
            <a:ext cx="381240" cy="4572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5715000"/>
            <a:ext cx="0" cy="7621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10080" y="5715000"/>
            <a:ext cx="9144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54864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verte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1000" y="51814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d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5320" y="59817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1880" y="6019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71640" y="51436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553080" y="54100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400440" y="5715000"/>
            <a:ext cx="6094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188-ED9D-4D01-9924-D38E569C00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urk and Pentland’s Eigenfaces: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ai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09000" y="1905120"/>
            <a:ext cx="793764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t F1, F2,…, FM be a set of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raining face image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t F be their mean and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= Fi – 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rincipal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o compute the eigenvec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eigenvalues of the covariance matrix of the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oose the vector u of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most significant M eigenvec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use as the bas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ch face is represented as a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linear combination of eigenfa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 = (u1, u2, u3, u4, u5); 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F27 = a1*u1 + a2*u2 + … + a5*u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5F4-B869-41C7-B90F-198E804F2BB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tch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9440" y="281952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kn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ce im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57400" y="342900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8400" y="2819520"/>
            <a:ext cx="1911960" cy="11912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vert to i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igenfac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342900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53840" y="3159000"/>
            <a:ext cx="29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(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, …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04400" y="4724280"/>
            <a:ext cx="4559040" cy="119124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ind the face class k that minimiz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k = ||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k ||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1D0-CC4C-49FC-9FB2-ED1F84E25CF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848720" y="281952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 eigen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0880" y="289548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rcRect l="25001" t="14844" r="23752" b="30470"/>
          <a:stretch/>
        </p:blipFill>
        <p:spPr>
          <a:xfrm>
            <a:off x="1523880" y="609480"/>
            <a:ext cx="6248520" cy="53341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27880" y="990720"/>
            <a:ext cx="11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080" y="4537080"/>
            <a:ext cx="12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e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rox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30B-D361-4615-8BB3-1C32D19F46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tension to 3D Obj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1200" y="2251080"/>
            <a:ext cx="8210520" cy="41173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rase and Nayar (1994, 1995) extended this idea to 3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bjec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training set had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multiple views of each obje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on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rk backgroun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views included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multiple (discrete) rota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f the object 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urntable and also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multiple (discrete) illumina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ystem could be used first to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dentif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object and then 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termine its (approximate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pos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nd illumina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BCB-F3C8-4DF7-A0AD-3931D3CDF9B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gnificance of this wor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9560" y="2209680"/>
            <a:ext cx="7796160" cy="41173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extension to 3D objects was an important contribu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stead of using brute force search, the authors observed th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ll the views of a single object, when transformed into t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eigenvector space became points on a manifold in that spa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ing this, they developed fast algorithms to find the clos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bject manifold to an unknown input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ecognition with pose finding took less than a secon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24A-EDB1-4A56-9168-C820587706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ample Objects</a:t>
            </a:r>
            <a:br>
              <a:rPr sz="3600"/>
            </a:b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Columbia Object Recognition Databas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rcRect l="34027" t="30555" r="21528" b="13891"/>
          <a:stretch/>
        </p:blipFill>
        <p:spPr>
          <a:xfrm>
            <a:off x="2133720" y="2133720"/>
            <a:ext cx="487656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431-0988-4F57-90EE-1C8ABD3AF0D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ppearance-Based Recogni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4720" y="1447920"/>
            <a:ext cx="8266680" cy="484884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ining images must be representative of the instan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f objects to be recogniz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e object must be well-fram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ositions and sizes must be controll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imensionality reduction is need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It is still not powerful enough to handle general sce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without prior segmentation into relevant objects.-- my com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Hybrid systems (features plus appearance) seem worth pursui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3640" y="56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C9F-B772-45DB-A40B-6677A943196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eneralized-Cylind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600" y="2286000"/>
            <a:ext cx="32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space curve ax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cross section 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9280" y="2098800"/>
            <a:ext cx="75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generalized cylind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s a volumetric primitive defined 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029200"/>
            <a:ext cx="60948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4648320"/>
            <a:ext cx="60948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267080"/>
            <a:ext cx="60948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3886200"/>
            <a:ext cx="609480" cy="228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4038480"/>
            <a:ext cx="0" cy="1143000"/>
          </a:xfrm>
          <a:prstGeom prst="line">
            <a:avLst/>
          </a:prstGeom>
          <a:ln w="1908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3680" y="5486400"/>
            <a:ext cx="1291680" cy="8254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ndar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lin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657600"/>
            <a:ext cx="1371600" cy="7621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48" y="128"/>
                  <a:pt x="96" y="256"/>
                  <a:pt x="192" y="336"/>
                </a:cubicBezTo>
                <a:cubicBezTo>
                  <a:pt x="288" y="416"/>
                  <a:pt x="464" y="480"/>
                  <a:pt x="576" y="480"/>
                </a:cubicBezTo>
                <a:cubicBezTo>
                  <a:pt x="688" y="480"/>
                  <a:pt x="776" y="408"/>
                  <a:pt x="864" y="336"/>
                </a:cubicBezTo>
              </a:path>
            </a:pathLst>
          </a:custGeom>
          <a:noFill/>
          <a:ln w="19080">
            <a:solidFill>
              <a:srgbClr val="ffff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422600">
            <a:off x="6171840" y="3809520"/>
            <a:ext cx="304920" cy="763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422600">
            <a:off x="6171840" y="3962160"/>
            <a:ext cx="5731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8836400">
            <a:off x="6246360" y="4154040"/>
            <a:ext cx="68580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318000">
            <a:off x="6438960" y="4304880"/>
            <a:ext cx="68580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6777800">
            <a:off x="6733800" y="4383000"/>
            <a:ext cx="620640" cy="74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5121200">
            <a:off x="6987240" y="4350240"/>
            <a:ext cx="527040" cy="74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3948800">
            <a:off x="7260120" y="4220280"/>
            <a:ext cx="4572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422600">
            <a:off x="6164280" y="3633480"/>
            <a:ext cx="228600" cy="763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7040" y="5029200"/>
            <a:ext cx="3089880" cy="11912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cylinder h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curved ax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varying cross s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3809880"/>
            <a:ext cx="457200" cy="457200"/>
          </a:xfrm>
          <a:prstGeom prst="parallelogram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3962520"/>
            <a:ext cx="457200" cy="457200"/>
          </a:xfrm>
          <a:prstGeom prst="parallelogram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4114800"/>
            <a:ext cx="457200" cy="457200"/>
          </a:xfrm>
          <a:prstGeom prst="parallelogram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267080"/>
            <a:ext cx="457200" cy="457200"/>
          </a:xfrm>
          <a:prstGeom prst="parallelogram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419720"/>
            <a:ext cx="457200" cy="457200"/>
          </a:xfrm>
          <a:prstGeom prst="parallelogram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4572000"/>
            <a:ext cx="457200" cy="457200"/>
          </a:xfrm>
          <a:prstGeom prst="parallelogram">
            <a:avLst>
              <a:gd name="adj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9480" y="5486400"/>
            <a:ext cx="1869480" cy="8254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ct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ross s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514600" y="4038120"/>
            <a:ext cx="457200" cy="7621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CF1-AE4C-4121-98D0-7B94CC90A1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eneralized-Cylinder Mode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520" y="22510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ralized cylinder models includ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5040" y="286056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set of generalized cylind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patial relationships among th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lobal properties of the 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2895480"/>
            <a:ext cx="457200" cy="23623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3809880"/>
            <a:ext cx="2743200" cy="30492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31800">
            <a:off x="7315200" y="5028840"/>
            <a:ext cx="600120" cy="4572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2895480"/>
            <a:ext cx="75960" cy="838440"/>
          </a:xfrm>
          <a:custGeom>
            <a:avLst/>
            <a:gdLst>
              <a:gd name="textAreaLeft" fmla="*/ 0 w 75960"/>
              <a:gd name="textAreaRight" fmla="*/ 27360 w 759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2895480"/>
            <a:ext cx="76320" cy="2362320"/>
          </a:xfrm>
          <a:custGeom>
            <a:avLst/>
            <a:gdLst>
              <a:gd name="textAreaLeft" fmla="*/ 48960 w 76320"/>
              <a:gd name="textAreaRight" fmla="*/ 76320 w 763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3440" y="430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869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15960" y="5451480"/>
            <a:ext cx="333000" cy="4597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87560" y="4994280"/>
            <a:ext cx="333000" cy="4597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03400" y="6095880"/>
            <a:ext cx="333000" cy="4597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05120" y="5181480"/>
            <a:ext cx="99036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5638680"/>
            <a:ext cx="990360" cy="685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715000"/>
            <a:ext cx="4905000" cy="8254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How can we describe the attributes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e cylinders and of their connection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667-F079-48C5-9DFE-15201112C4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nding GCs in Intensity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8920" y="1828800"/>
            <a:ext cx="7006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ralized cylinder models have been used for sever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fferent classes of object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 airplanes (Brook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 animals   (Marr and Nishihar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 humans   (Medioni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 human anatomy (Zhenrong Qia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2D projections of standard GCs a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ribb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ellip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3752" t="71878" r="22500" b="11721"/>
          <a:stretch/>
        </p:blipFill>
        <p:spPr>
          <a:xfrm>
            <a:off x="2209680" y="4876920"/>
            <a:ext cx="655344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44A-2351-4567-8777-521697ED88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ctre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6200" y="1752480"/>
            <a:ext cx="763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Octrees are 8-ary tree structures that compress a vox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presentation of a 3D objec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Kari Puli used them to represent the 3D objects du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pace carving proce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They are sometimes used for medical object representa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2720" y="4495680"/>
            <a:ext cx="45216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37080" y="5638680"/>
            <a:ext cx="34992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70600" y="5638680"/>
            <a:ext cx="34992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0080" y="5638680"/>
            <a:ext cx="34992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9200" y="5638680"/>
            <a:ext cx="36648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8000" y="5638680"/>
            <a:ext cx="34992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37480" y="5638680"/>
            <a:ext cx="34992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46960" y="5638680"/>
            <a:ext cx="34992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56440" y="5638680"/>
            <a:ext cx="36648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733560" y="4952880"/>
            <a:ext cx="609480" cy="68580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952880"/>
            <a:ext cx="228600" cy="68580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123720" y="4952880"/>
            <a:ext cx="1219320" cy="68580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4952880"/>
            <a:ext cx="914400" cy="68580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590920" y="4952880"/>
            <a:ext cx="1752480" cy="68580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4952880"/>
            <a:ext cx="1523880" cy="68580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981080" y="4952880"/>
            <a:ext cx="2362320" cy="68580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4952880"/>
            <a:ext cx="2057400" cy="68580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14400" y="621360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    1       2      3         4      5      6      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5105520"/>
            <a:ext cx="990360" cy="7617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162920" y="4572000"/>
            <a:ext cx="38088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153280" y="4572000"/>
            <a:ext cx="38124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4572000"/>
            <a:ext cx="9907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153280" y="5638320"/>
            <a:ext cx="152640" cy="2286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534520" y="45720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8305560" y="4952880"/>
            <a:ext cx="228600" cy="304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480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524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480060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62560" y="4557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5105520"/>
            <a:ext cx="0" cy="7617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696080" y="4572000"/>
            <a:ext cx="381240" cy="533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4876920"/>
            <a:ext cx="9907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5486400"/>
            <a:ext cx="9903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153280" y="5257800"/>
            <a:ext cx="152640" cy="2286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05920" y="4876920"/>
            <a:ext cx="0" cy="7617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00800" y="5167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6640" y="556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58000" y="5167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58000" y="54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2E5-36AB-4F2B-9E76-FDF113875D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perquadric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6480" y="2327400"/>
            <a:ext cx="700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erquadrics are parameterized equation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scribe solid shapes algebraical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y have been used for graphics and for represen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e organs of the human body, ie. the hear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5627" t="31253" r="25001" b="52346"/>
          <a:stretch/>
        </p:blipFill>
        <p:spPr>
          <a:xfrm>
            <a:off x="1523880" y="4648320"/>
            <a:ext cx="601992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3CD-34FB-42FC-A932-B09D5547D7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20:55:33Z</dcterms:created>
  <dc:creator>uw</dc:creator>
  <dc:description/>
  <dc:language>en-US</dc:language>
  <cp:lastModifiedBy>uw</cp:lastModifiedBy>
  <dcterms:modified xsi:type="dcterms:W3CDTF">2002-12-02T22:00:42Z</dcterms:modified>
  <cp:revision>51</cp:revision>
  <dc:subject/>
  <dc:title>3D Models and Matching</dc:title>
</cp:coreProperties>
</file>