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A4CD-CA8B-48F3-8216-67E815404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127C-D3BB-4BAB-8797-A45908F87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74CB-06F7-4B66-BF34-371B95C4E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8E40-E674-4A11-8389-C71D824E8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3CF6-B895-47A8-8FB7-D3197DF21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7B4C-8BDA-4D12-B006-D6A04D158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3738-6C7B-4228-A08D-2B07244D7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6C3B-1724-4153-857F-E2F160832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1FB8-944E-421F-B3E3-8C85D0624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AC1F-E0E2-4CF1-BEC2-F61E3F51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3225-0644-4F88-B019-8DD61515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1385-8631-4DBC-ADF5-33D84983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146F1-F164-4FAE-8998-BC0A051FB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s.washington.edu/education/courses/cse457/04sp/projects/trace/vote/omicron-tortman/omicron-tortman2.txt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washington.edu/education/courses/cse457/05au/projects/trace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washington.edu/education/courses/457/CurrentQtr/projects/trace/extra/triangle_intersection.pdf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y Trac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umn 2006 Help S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hong specular-reflec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 in Material::shade in material.cp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 to slide 23 of the shading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cs.washington.edu/education/courses/457/CurrentQtr/lectures/shading.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to slide 17 of the raytracing l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cs.washington.edu/education/courses/457/CurrentQtr/lectures/ray-tracing.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um over the light sources, use an iterator as described in the comments of the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ion from multiple light 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 in PointLight::distanceAttenuation in light.cpp (DirectionalLight::distanceAttenuation is already done for you).  Use the alternative described in slide 19 of the shading lecture 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 constant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= linear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quadratic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light.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dow Atten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 in DirectionalLight::shadowAttenuation and PointLight::shadowAttenuation in light.cp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e into account shadow attenuation in the f_atten term in the Phong model as suggested in the ray-tracing lec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ther than simply setting the attenuation to 0 if an object blocks the light, accumulate the product of k_t’s for objects which block the light (use 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o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from the vector package).  Count each object only once, even if it is intersected multiple times by the shadow r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Foley, et. al. Section 16.12 in course reader – this particular method is not really covered in lecture sl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er ways to handle shadows (caustics, global illumination, etc.) get extra cr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Raytracing Slide 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cs.washington.edu/education/courses/457/CurrentQtr/lectures/ray-tracing.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fl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RayTracer::traceRay in RayTracer.cpp to implement recursive ray tracing which takes into account reflected ra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Foley, et. al. in course reader and lecture sli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fr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RayTracer::traceRay in RayTracer.cpp to implement recursive ray tracing which takes into account refracted ray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ember Snell’s law, watch out for total internal refraction, and consider the case when the ray is exiting a material into air (think about the direction of the normal) Try testing using trans.r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rning: Unlike reflection, this routine has several cases to consider: an incoming ray, an outgoing ray and a totally internally refracted ra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4120" y="4495680"/>
            <a:ext cx="6858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038480" y="4800600"/>
            <a:ext cx="12956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4647960" y="5105520"/>
            <a:ext cx="6858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19920" y="5867280"/>
            <a:ext cx="7617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19920" y="5867280"/>
            <a:ext cx="1295280" cy="30492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34120" y="5105520"/>
            <a:ext cx="685800" cy="76176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03880" y="476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429880" y="4495680"/>
            <a:ext cx="105444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glas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.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724280" y="4952880"/>
                <a:ext cx="15264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5479920" y="5105520"/>
                <a:ext cx="16524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5334120" y="5105520"/>
            <a:ext cx="609480" cy="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86400" y="5867280"/>
            <a:ext cx="609480" cy="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5638680" y="5638680"/>
                <a:ext cx="16524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6705720" y="5867280"/>
                <a:ext cx="1522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3288240" y="5410080"/>
            <a:ext cx="138492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ai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1.0002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sign of the dot product r.getDirection() with i.N to determine whether you’re entering or exiting an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RAY_EPSIL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account for computer precision error when checking for interse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ark scattered dots appearing on objec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/>
          <p:nvPr/>
        </p:nvCxnSpPr>
        <p:spPr>
          <a:xfrm>
            <a:off x="4114800" y="5257800"/>
            <a:ext cx="2160" cy="1448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1" name=""/>
          <p:cNvSpPr/>
          <p:nvPr/>
        </p:nvSpPr>
        <p:spPr>
          <a:xfrm>
            <a:off x="2438280" y="5562720"/>
            <a:ext cx="15242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579132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267080" y="6019920"/>
            <a:ext cx="1371600" cy="53316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594360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191120" y="556236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495680" y="55627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495680" y="54097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786200" y="5167440"/>
            <a:ext cx="154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Y_EPSIL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38480" y="5867280"/>
            <a:ext cx="152640" cy="76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tifact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(or two) JPEG images traced with your Ray Tracer per group submitted for vo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to be a (somewhat) original sc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image submitted for voting, a short .txt description of the scene or special fea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each bell/whistle implemented with an accompanying readme.txt specifying which image demonstrates which feature (and where/how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lls and Whist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aliasing – A must for nice scenes (to render scenes without “jaggies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olate trimesh material properties – will make them look ni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/Texture/Bump Mapping – Relatively easy ways to create complex, compelling sc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Image Random Dot Stereograms – I have no idea, but they look coo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th of field, Soft shadows, Motion blur, Glossy reflection – most images we’re used to have at least one of these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D and 4D Fract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The image “http://www.cs.washington.edu/education/courses/cse457/CurrentQtr/projects/trace/examples/menger.jpg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609480" y="2590920"/>
            <a:ext cx="3886200" cy="31096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76920" y="2286000"/>
            <a:ext cx="3558960" cy="35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uctive Solid Geom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for complex objects while still just intersecting simple primi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The image “http://www.cs.washington.edu/education/courses/cse457/CurrentQtr/projects/trace/examples/csg.jpg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1447920" y="2057400"/>
            <a:ext cx="563868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Web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have to do for this proj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y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ect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ifact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lls and Whist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Web P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ption of sample sc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ad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 of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L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of useful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format 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bugging display doc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angle intersection hand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1"/>
          </p:cNvPr>
          <p:cNvSpPr/>
          <p:nvPr/>
        </p:nvSpPr>
        <p:spPr>
          <a:xfrm>
            <a:off x="126720" y="1219320"/>
            <a:ext cx="855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cs.washington.edu/education/courses/cse457/CurrentQtr/projects/trac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lcome to the Raytracer Proj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ally, you are given a raytrac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you have to imple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ding  (has multiple par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ere Intersection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bility to intersect triang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any triangles make up the 3D mesh of really complex objec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ion and Ref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y C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3D ray is the fundamental component of a raytrac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y r (start position, direction, RayTy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um RayType{VISIBILITY, REFLECTION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RACTION, SHADOW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.at(t), a method that determines the position of the ray r as a function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distance from the start position (t*direction vecto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.at(t) =&gt; where the end of the ray points at (a distance t away from the start poi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7621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057400" y="10666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.at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4572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t Product &amp; Cross Produ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tProduct and CrossProduct are provided by vec.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 - dot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 double dot = v1 * v2;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^ - cross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ec3d cross = v1 ^ v2;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ect Cl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sect represents the location where a ray intersects a specific o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member variab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 SceneObjec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obj;  // the object that was intersect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uble 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// the distance along the ray where it occurr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c3d N;                              // the normal to the surface where it occur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c2d uvCoordinates;         // texture coordinates on the surface. [1.0,1.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terial *material;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/ non-NULL if exists a unique material for this intersec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 Material &amp;getMaterial() const; // return the material to 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data structure is used to record the details of a ray’s intersection with an object. (Filled-out in an object’s intersection rout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here Inters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 in Sphere::intersectLocal in SceneObjects\Sphere.cp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ray r intersects the canonical sphere (sphere centered at the origin with radius 1.0) in positive ti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the values of isect 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.obj = th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.setT(time of interse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.setN(normal at intersect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iangle Inters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l in TrimeshFace::intersectLocal in SceneObjects\trimesh.cp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sect r with the triangle a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c3d &amp;a = parent-&gt;vertices[ ids [0] 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c3d &amp;b = parent-&gt;vertices[ ids [1] 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c3d &amp;c = parent-&gt;vertices[ ids [2] 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isect i and retur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ray r intersects the plane containing triangle abc and the intersection is within the triang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s.washington.edu/education/courses/457/CurrentQtr/projects/trace/extra/triangle_intersection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2T19:05:13Z</dcterms:created>
  <dc:creator>davedoan</dc:creator>
  <dc:description/>
  <dc:language>en-US</dc:language>
  <cp:lastModifiedBy>Chris Gonterman</cp:lastModifiedBy>
  <dcterms:modified xsi:type="dcterms:W3CDTF">2006-10-30T18:38:08Z</dcterms:modified>
  <cp:revision>43</cp:revision>
  <dc:subject/>
  <dc:title>Ray Tracer</dc:title>
</cp:coreProperties>
</file>