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927-1A63-4A39-AF6A-914278BB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63D-3A04-4742-99D4-BFA17453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6E9-670E-4F21-8F31-016BEFAD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F3B-3930-4A56-B98E-E101ED7B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27D-F375-47AF-95E6-6C51FACE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FAC-1105-4BA1-ACF5-EF8F103A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22B-31C4-4646-815C-148BF1FF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131-E81E-4DA5-B97C-ABB5A3CA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F45-E1FE-46EC-ADCE-622E992C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377-415B-4875-A3BD-08C8CEDB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EEC-5F37-405F-9739-A579C62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710-6F99-4197-95FD-CA78DD2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B226-A793-4D0D-B0CB-E5F2AD9F3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s.washington.edu/education/courses/cse457/04sp/projects/trace/vote/omicron-tortman/omicron-tortman2.tx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457/05au/projects/trac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457/CurrentQtr/projects/trace/extra/triangle_intersection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 Tra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umn 2006 Help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g specular-ref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Material::shade in material.cp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slide 23 of the shading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s.washington.edu/education/courses/457/CurrentQtr/lectures/shading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 slide 17 of the raytrac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s.washington.edu/education/courses/457/CurrentQtr/lectures/ray-tracing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m over the light sources, use an iterator as described in the comments of th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ion from multiple light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PointLight::distanceAttenuation in light.cpp (DirectionalLight::distanceAttenuation is already done for you).  Use the alternative described in slide 19 of the shading lecture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constant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linear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quadratic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ght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ow Atten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DirectionalLight::shadowAttenuation and PointLight::shadowAttenuation in light.c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shadow attenuation in the f_atten term in the Phong model as suggested in the ray-tracing l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simply setting the attenuation to 0 if an object blocks the light, accumulate the product of k_t’s for objects which block the light (us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from the vector package).  Count each object only once, even if it is intersected multiple times by the shadow 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oley, et. al. Section 16.12 in course reader – this particular method is not really covered in lectur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ays to handle shadows (caustics, global illumination, etc.) get extra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Raytracing Slid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s.washington.edu/education/courses/457/CurrentQtr/lectures/ray-tracing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RayTracer::traceRay in RayTracer.cpp to implement recursive ray tracing which takes into account reflected 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oley, et. al. in course reader and lecture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RayTracer::traceRay in RayTracer.cpp to implement recursive ray tracing which takes into account refracted r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Snell’s law, watch out for total internal refraction, and consider the case when the ray is exiting a material into air (think about the direction of the normal) Try testing using trans.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: Unlike reflection, this routine has several cases to consider: an incoming ray, an outgoing ray and a totally internally refracted 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495680"/>
            <a:ext cx="685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48006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647960" y="51055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58672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5867280"/>
            <a:ext cx="129528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5105520"/>
            <a:ext cx="685800" cy="7617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038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29880" y="4495680"/>
            <a:ext cx="10544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g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24280" y="4952880"/>
                <a:ext cx="152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479920" y="5105520"/>
                <a:ext cx="1652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334120" y="5105520"/>
            <a:ext cx="6094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5867280"/>
            <a:ext cx="6094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638680" y="5638680"/>
                <a:ext cx="165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705720" y="5867280"/>
                <a:ext cx="152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288240" y="5410080"/>
            <a:ext cx="1384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.000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ign of the dot product r.getDirection() with i.N to determine whether you’re entering or exiting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AY_EPSIL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count for computer precision error when checking for interse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rk scattered dots appearing on obj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/>
          <p:nvPr/>
        </p:nvCxnSpPr>
        <p:spPr>
          <a:xfrm>
            <a:off x="4114800" y="5257800"/>
            <a:ext cx="216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2438280" y="556272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5791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6019920"/>
            <a:ext cx="1371600" cy="5331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943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191120" y="55623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95680" y="540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6200" y="516744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Y_EPSI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5867280"/>
            <a:ext cx="15264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ac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(or two) JPEG images traced with your Ray Tracer per group submitted for vo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o be a (somewhat) original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image submitted for voting, a short .txt description of the scene or special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each bell/whistle implemented with an accompanying readme.txt specifying which image demonstrates which feature (and where/ho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s and Whis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aliasing – A must for nice scenes (to render scenes without “jaggi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e trimesh material properties – will make them look n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/Texture/Bump Mapping – Relatively easy ways to create complex, compelling sc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Image Random Dot Stereograms – I have no idea, but they look co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field, Soft shadows, Motion blur, Glossy reflection – most images we’re used to have at least one of thes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and 4D Frac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he image “http://www.cs.washington.edu/education/courses/cse457/CurrentQtr/projects/trace/examples/menger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09480" y="2590920"/>
            <a:ext cx="3886200" cy="31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589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ve Solid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complex objects while still just intersecting simple primi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The image “http://www.cs.washington.edu/education/courses/cse457/CurrentQtr/projects/trace/examples/csg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447920" y="20574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Web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have to do for this pro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c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act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s and Whis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Web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sample sc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usefu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format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 display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 intersection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/>
          </p:cNvPr>
          <p:cNvSpPr/>
          <p:nvPr/>
        </p:nvSpPr>
        <p:spPr>
          <a:xfrm>
            <a:off x="126720" y="1219320"/>
            <a:ext cx="85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washington.edu/education/courses/cse457/CurrentQtr/projects/trac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the Raytracer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, you are given a raytrac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you have to imp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 (has multiple p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e Intersec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intersect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ny triangles make up the 3D mesh of really complex 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and 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3D ray is the fundamental component of a raytra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r (start position, direction, Ray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um RayType{VISIBILITY, REFLEC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RACTION, SHADOW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at(t), a method that determines the position of the ray r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distance from the start position (t*direction vecto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at(t) =&gt; where the end of the ray points at (a distance t away from the start 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1066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at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57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t Product &amp; Cross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Product and CrossProduct are provided by vec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- dot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 double dot = v1 * v2;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^ - cross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ec3d cross = v1 ^ v2;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ect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sect represents the location where a ray intersects a specific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ember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SceneObje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obj;  // the object that was intersec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// the distance along the ray where it occur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3d N;                              // the normal to the surface where it occur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2d uvCoordinates;         // texture coordinates on the surface. [1.0,1.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 *material;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/ non-NULL if exists a unique material for this inters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Material &amp;getMaterial() const; // return the material to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structure is used to record the details of a ray’s intersection with an object. (Filled-out in an object’s intersection rout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here Inter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Sphere::intersectLocal in SceneObjects\Sphere.cp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ray r intersects the canonical sphere (sphere centered at the origin with radius 1.0) in positive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values of isect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obj =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setT(time of inter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setN(normal at interse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Inters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TrimeshFace::intersectLocal in SceneObjects\trimesh.cp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ect r with the triangle a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3d &amp;a = parent-&gt;vertices[ ids [0]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3d &amp;b = parent-&gt;vertices[ ids [1]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3d &amp;c = parent-&gt;vertices[ ids [2]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isect i and 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ray r intersects the plane containing triangle abc and the intersection is within the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.washington.edu/education/courses/457/CurrentQtr/projects/trace/extra/triangle_intersection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2T19:05:13Z</dcterms:created>
  <dc:creator>davedoan</dc:creator>
  <dc:description/>
  <dc:language>en-US</dc:language>
  <cp:lastModifiedBy>Chris Gonterman</cp:lastModifiedBy>
  <dcterms:modified xsi:type="dcterms:W3CDTF">2006-10-30T18:38:08Z</dcterms:modified>
  <cp:revision>43</cp:revision>
  <dc:subject/>
  <dc:title>Ray Tracer</dc:title>
</cp:coreProperties>
</file>