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875-543B-4488-9E33-9BF536ED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AFF-755C-420D-9185-CFAB3B62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59E-8129-4CBB-9CD2-14E5E6C2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82B-3E22-45F0-84A8-D597A540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071-5B78-4CD5-B58D-CC2C0D80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8A3-933A-47BD-8631-D3FFD045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AE4-0584-4979-A038-D252E368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14D-BE4D-4B3F-95A8-DB99EABB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17F-5BD5-48EB-93C9-4783F950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6B8-1AE9-4840-9DB3-AE826CE8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81C-969A-4317-BCCD-35708F10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D81-7651-4A41-86B5-1DB1FD5E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3A72-C361-4FF3-84BC-F05D29D42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Ensem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03:03:59Z</dcterms:created>
  <dc:creator>Administrator</dc:creator>
  <dc:description/>
  <dc:language>en-US</dc:language>
  <cp:lastModifiedBy>Pedro Domingos</cp:lastModifiedBy>
  <dcterms:modified xsi:type="dcterms:W3CDTF">2008-04-26T01:22:59Z</dcterms:modified>
  <cp:revision>2</cp:revision>
  <dc:subject/>
  <dc:title>PowerPoint Presentation</dc:title>
</cp:coreProperties>
</file>