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9F6-26EB-4970-9A16-238A0E2A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269-AE57-4F9B-821A-548687D3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483-8AAF-449F-8AE8-74C7B272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CA1-3113-45A8-81CE-C2DE10EF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44C-E782-4731-88D7-17E0F404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DB1-FCDA-4CC1-B954-E37677C4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D48-3D0D-4BCF-A26E-B4661E1C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25B-C971-4846-9C9E-009C895B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12D-FB21-411D-97D5-29CCD4CA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C6E-6404-470D-AB83-F82629ED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9CF-9BDB-41FB-838D-1FFD7E67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820-1D5F-41ED-A65F-9C8B72E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741D-7D06-4EBA-9BF3-D47969B0F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Ensem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03:03:59Z</dcterms:created>
  <dc:creator>Administrator</dc:creator>
  <dc:description/>
  <dc:language>en-US</dc:language>
  <cp:lastModifiedBy>Pedro Domingos</cp:lastModifiedBy>
  <dcterms:modified xsi:type="dcterms:W3CDTF">2008-04-26T01:22:59Z</dcterms:modified>
  <cp:revision>2</cp:revision>
  <dc:subject/>
  <dc:title>PowerPoint Presentation</dc:title>
</cp:coreProperties>
</file>