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30E-C287-4124-A0FA-9F75C26F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25F-357A-4A0F-8AE7-A92F7CE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0F2-0B5C-411E-8222-E731508D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5AC-6553-4015-A5CF-15D7EA2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8EE-27B0-4108-A6E9-A99F96FD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0C2-2064-498D-A987-BC5B4F9F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005-818F-4713-B1DB-FFD1902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0E9-5A43-42A0-9E05-E166C77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271-8C10-4505-A8CD-90F639CE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B9A-45FA-403F-B95A-F498497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23F-4A32-40E2-ABA8-96A8C1C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D51-5656-487F-A772-CF3E545B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6876-B6BF-4A37-BD2F-DDA7956B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SE 546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: Pedro Domi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 of thousands of machine learn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new every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chine learning algorithm has 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of rules / Logic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models (Bayes/Markov n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ion and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/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L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orial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eedy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Gradient 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ed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: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vised (inductive)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does not include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supervi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ata includes a few desire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rom sequence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amples of a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X, F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X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ew examp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bability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Probability 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e’ll C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nse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supervi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i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L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domain, prior knowledge,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integration, selection, clean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rocess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ing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ing and deploying discovere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pedrod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CSE 6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Wednesdays 3:30-4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ifung P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 hoifung@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: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: Mondays 1:30-2: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ww.cs.washington.edu/5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ling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se546@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homeworks (15% e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d out on weeks 1, 3, 5 a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wo week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, some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rc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. Duda, P. Hart &amp; D. Stork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.), Wiley 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 Mitch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Graw-Hill  (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Few Qu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eakthrough in machine learning would be w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Microsofts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ill Gates, Chairman, Microso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next Internet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ny Tether, Director, DAR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he hot new thing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ohn Hennessy, President, Stanf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rankings today are mostly a matter of machine learning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abhakar Raghavan, Dir. Research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going to result in a real revolution”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reg Papadopoulos, CTO, Su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 is today’s discontinuity”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Jerry Yang, CEO, Yaho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 What Is Machine Lear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computers to program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oftware is the bottle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data do the work instea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radi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chin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600200"/>
            <a:ext cx="266724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74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2860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57200" y="1692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6520" y="23623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2400" y="1981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419720"/>
            <a:ext cx="2666880" cy="15238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876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5562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51055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33160" y="451152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7400" y="5257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720" y="480060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gic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, more like g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Gard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81680" y="1523880"/>
            <a:ext cx="3351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Your favorite are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16:18Z</dcterms:created>
  <dc:creator>Pedro Domingos</dc:creator>
  <dc:description/>
  <dc:language>en-US</dc:language>
  <cp:lastModifiedBy>Pedro Domingos</cp:lastModifiedBy>
  <dcterms:modified xsi:type="dcterms:W3CDTF">2008-03-27T03:00:06Z</dcterms:modified>
  <cp:revision>12</cp:revision>
  <dc:subject/>
  <dc:title>Machine Learning</dc:title>
</cp:coreProperties>
</file>