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39E9-A095-41C4-ABAF-28A9044F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4554-4800-4698-AAC2-5A3DADC1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3D93-D73B-49BD-A357-A51BBA3F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06A-B1EE-4BEC-8BBD-192D8DC8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3F0-EEEA-4DE9-80A9-65F94B06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C5E1-CD99-4B64-BAFA-EAE0D419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0D3-C775-4E51-A864-7CB2B84D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88A2-9674-4A92-A811-8B15200A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5E70-C4CB-42D3-A795-D19393B0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AC2C-1298-4C0C-BD4D-3344E6CA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03D-24DF-43FF-A39D-487897FA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08D-C5EC-436E-BA28-4ED4F359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91B6-7753-4E85-AE75-8227AD331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SE 546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ata Mining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achin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edro Domin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L in a Nut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 of thousands of machine learning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new every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machine learning algorithm has three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 of rules / Logic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 models (Bayes/Markov n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al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vector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ense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ision and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d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/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L di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orial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: Greedy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: Gradient des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ed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: Linear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vised (inductive)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ata includes desired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supervis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ata does not include desired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i-supervis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ata includes a few desired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inforcem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ards from sequence of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ductiv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amples of a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X, F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F(X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ew exampl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robability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Probability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We’ll C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vis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tree 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ce-bas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yesia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al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vector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ensem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supervis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ality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L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domain, prior knowledge, and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integration, selection, clean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processing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ing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lidating and deploying discovere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dro Domin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pedrod@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: CSE 6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Wednesdays 3:30-4: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ifung P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hoifung@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: 2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Mondays 1:30-2: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ww.cs.washington.edu/5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ling 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se546@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homeworks (15% e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ed out on weeks 1, 3, 5 and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wo weeks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gramming, some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(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ource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. Duda, P. Hart &amp; D. Stork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), Wiley  (Requi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 Mitchell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chine Learn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Graw-Hill  (Recommen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 Few Qu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eakthrough in machine learning would be wo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 Microsofts”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ill Gates, Chairman, Microso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earning is the next Internet” 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Tony Tether, Director, DARP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earning is the hot new thing” 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John Hennessy, President, Stanf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rankings today are mostly a matter of machine learning”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rabhakar Raghavan, Dir. Research, Yaho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earning is going to result in a real revolution”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Greg Papadopoulos, CTO, Su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earning is today’s discontinuity” 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Jerry Yang, CEO, Yaho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o What Is Machine Lear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ng auto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computers to program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software is the bottlen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the data do the work instea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raditional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achin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1600200"/>
            <a:ext cx="2667240" cy="15238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2057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27432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228600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57200" y="16923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6520" y="236232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2400" y="1981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419720"/>
            <a:ext cx="2666880" cy="15238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48769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55627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510552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33160" y="451152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7400" y="5257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720" y="480060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agic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more like ga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ee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Nutr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Gard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Pl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981680" y="1523880"/>
            <a:ext cx="3351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amp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expl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ex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Your favorite area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7T21:16:18Z</dcterms:created>
  <dc:creator>Pedro Domingos</dc:creator>
  <dc:description/>
  <dc:language>en-US</dc:language>
  <cp:lastModifiedBy>Pedro Domingos</cp:lastModifiedBy>
  <dcterms:modified xsi:type="dcterms:W3CDTF">2008-03-27T03:00:06Z</dcterms:modified>
  <cp:revision>12</cp:revision>
  <dc:subject/>
  <dc:title>Machine Learning</dc:title>
</cp:coreProperties>
</file>