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B2E-FE79-4895-ADDB-0EFB6AA3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EC3-28FD-4EE9-968F-C9D4F53B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302D-2866-4A6B-BB86-4FD9638C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587-4455-48EA-ABD2-EB3C3AA5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7F9-99A0-44D4-9C98-BD30F071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706E-3805-4875-8E9F-FB3DBF53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EA7-0B8F-453E-B09C-2FF3B59C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980-1A97-4E23-B4AF-B2B52272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B97-FB74-4476-A2FD-C91127CB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F8E-E55E-475D-872C-EA3711B3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8D3-39FC-4E79-9F51-69429919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6CB3-6F24-48D0-83D3-2004A042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BD51-5851-4814-81AB-5A034C50D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06:05:24Z</dcterms:created>
  <dc:creator>Administrator</dc:creator>
  <dc:description/>
  <dc:language>en-US</dc:language>
  <cp:lastModifiedBy>Pedro Domingos</cp:lastModifiedBy>
  <dcterms:modified xsi:type="dcterms:W3CDTF">2008-03-27T02:13:21Z</dcterms:modified>
  <cp:revision>7</cp:revision>
  <dc:subject/>
  <dc:title>CSE 592: Data Mining</dc:title>
</cp:coreProperties>
</file>