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69A-73B4-4D7E-9F90-66C0B2C4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82C-88E0-47BE-AD8A-D9EBD7C7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96F-BCBB-4914-8F08-68A7FD82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123-6F37-4C69-AE81-DEA61E1C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74A-B72E-445F-9BA5-3B83B556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854-17CD-471A-AED4-F419993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473-8ACD-4184-9B69-F68AC23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68-87D7-4AEF-B2AC-F98748E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070-3179-4457-8B98-43AD38C7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91C-C324-482C-92C8-ED93E3F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19F-D261-47C2-83DC-3A7173D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240-F133-4260-A283-ECDB5EB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B9A-4592-404A-8E25-DE471C61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Pedro Domingos</cp:lastModifiedBy>
  <dcterms:modified xsi:type="dcterms:W3CDTF">2008-03-27T02:13:21Z</dcterms:modified>
  <cp:revision>7</cp:revision>
  <dc:subject/>
  <dc:title>CSE 592: Data Mining</dc:title>
</cp:coreProperties>
</file>