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7B0-720D-44B5-A443-7EB99956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33F-77A8-4E53-8E89-72E4834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478-A59B-4AA6-AB96-D40790AA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C97-A46D-444B-B7C7-F6D4C4EB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5D3-6C74-46A5-9447-F1FFC3E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BD3-1A89-427C-A8DC-9A93B9B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1F7-595C-4EEC-8C20-21217B5E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FD9-2782-4F18-AAC1-2177137C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5D3-103E-46AD-89A3-0F3A6FB9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FB5-A9AB-43CF-A7BD-2218439E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ED7-CE35-4B6A-97BC-1C6FD00D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509-FAB0-4FDF-AC72-B0942800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4EB-680C-42B4-B50D-0C1F7B161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64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0:08:41Z</dcterms:created>
  <dc:creator>hoifung</dc:creator>
  <dc:description/>
  <dc:language>en-US</dc:language>
  <cp:lastModifiedBy>hoifung</cp:lastModifiedBy>
  <dcterms:modified xsi:type="dcterms:W3CDTF">2008-06-01T00:08:48Z</dcterms:modified>
  <cp:revision>1</cp:revision>
  <dc:subject/>
  <dc:title>Slide 1</dc:title>
</cp:coreProperties>
</file>