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565-5996-4630-B53E-D3EA22AA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5A2-E02C-45C8-9F42-AF632C21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BC6-208E-41B1-A0A8-3B1F0F35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F0E-B90E-4134-9829-B2D983EA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E26-6EB8-4BF4-AB28-1109F89C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89E-EDE4-46E0-9F64-DF905571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F59-6DE4-4871-A918-233767DD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C11-ECD7-434E-8F91-F7B460AD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29E-61D6-4C85-B0CB-2C403639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421-E830-45F6-A6DC-22B5D6F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404-DD7D-4872-BC9E-9BF07112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241-8DC0-42A1-9B96-CFFBBE06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99D9-DEFB-4D22-AFDF-F10851C2C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0:08:41Z</dcterms:created>
  <dc:creator>hoifung</dc:creator>
  <dc:description/>
  <dc:language>en-US</dc:language>
  <cp:lastModifiedBy>hoifung</cp:lastModifiedBy>
  <dcterms:modified xsi:type="dcterms:W3CDTF">2008-06-01T00:08:48Z</dcterms:modified>
  <cp:revision>1</cp:revision>
  <dc:subject/>
  <dc:title>Slide 1</dc:title>
</cp:coreProperties>
</file>