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64C-908A-43EB-A127-A446BA62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5A5-469F-4B29-A821-E4CB483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3D3-606F-46E1-843C-2DA420AB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1C4-0CE5-4F8A-A054-06F34558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1BC-F8DB-4DDD-BCD3-08472AA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6DE-94E7-449F-9234-856E029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7D2-E809-4B7C-A168-AD72C9E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E29-C8BC-44A4-8663-62B20966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13A-FF91-402C-9382-D0BAFED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8E0-6139-4AC5-A097-87BD409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E14-3691-4256-978C-7467D2A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5CA-AF93-4CE5-A325-BE0D4A4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0CD-F7FE-473B-AA63-8350B09F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sem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3:03:59Z</dcterms:created>
  <dc:creator>Administrator</dc:creator>
  <dc:description/>
  <dc:language>en-US</dc:language>
  <cp:lastModifiedBy>Pedro Domingos</cp:lastModifiedBy>
  <dcterms:modified xsi:type="dcterms:W3CDTF">2008-04-26T01:22:59Z</dcterms:modified>
  <cp:revision>2</cp:revision>
  <dc:subject/>
  <dc:title>PowerPoint Presentation</dc:title>
</cp:coreProperties>
</file>