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3C1C-8585-4E1A-A40F-620802D53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0358-48E4-4CD5-982B-B3DD6D1D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A603-DB5F-4223-9B6E-F8C6BBBC0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7D07-56C2-49FA-9896-14AFEE510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9075-E394-42ED-BB36-5290469E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3F9E-671D-4A72-8DBA-DCAE8890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D58A-2E90-442C-B132-8F0805FE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AE4C-9E9D-43CB-81BB-67D54F02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28AA-D2F3-473C-B977-36F1D36E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9F0C-A22F-40FB-8E5A-023DF759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762B-ED0A-4797-AABF-90B187BF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29BB-8E50-4266-9C80-1A014568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B390-6E7C-4D83-A983-3C3B4DD8B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 Ensem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2T03:03:59Z</dcterms:created>
  <dc:creator>Administrator</dc:creator>
  <dc:description/>
  <dc:language>en-US</dc:language>
  <cp:lastModifiedBy>Pedro Domingos</cp:lastModifiedBy>
  <dcterms:modified xsi:type="dcterms:W3CDTF">2008-04-26T01:22:59Z</dcterms:modified>
  <cp:revision>2</cp:revision>
  <dc:subject/>
  <dc:title>PowerPoint Presentation</dc:title>
</cp:coreProperties>
</file>