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4382C-3C18-499D-A00D-EA1D2976E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E3A26-F71E-4562-AC26-1B9E031E3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0F4FE-AD47-47FE-9138-4E74728C6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3EE18-9982-4CDD-9B97-8457827F5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71447-1125-45DC-B4B2-63A17201A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051C5-E2E3-4A00-B993-3D025E35C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B1BCC-3C0F-41D7-89BC-6A6A29CEC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55F4D-A29C-40DA-85AA-A1DB92536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11E2E-43B1-4E2C-A3E4-35A907DBA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C37CB-086A-496F-9411-F88F7EEC8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4DFB6-BC97-488B-BC7F-CEDEFD7AF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4F04D-D924-40A6-820F-DEADB505F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B1063-D0CF-4A75-9720-2AC111A746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CSE 546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Data Mining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Machine Lear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3886200"/>
            <a:ext cx="70106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ructor: Pedro Doming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ML in a Nutsh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ns of thousands of machine learning algorith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undreds new every y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y machine learning algorithm has three compone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ptim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Re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ision tre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ts of rules / Logic progr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a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phical models (Bayes/Markov net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ural netwo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vector mach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 ensem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Eval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cision and rec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ared 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terior prob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st / Ut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g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rop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-L diverg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Optim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atorial optim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: Greedy 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vex optim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: Gradient desc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trained optim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: Linear program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Types of Lear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pervised (inductive) lea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ining data includes desired outpu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nsupervised lea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ining data does not include desired outpu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mi-supervised lea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ining data includes a few desired outpu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inforcement lea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wards from sequence of 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Inductive Lear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iv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xamples of a functio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(X, F(X)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edic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unction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F(X)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new examples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re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(X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lass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inuou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(X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Regre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(X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Probability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: Probability esti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What We’ll Co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ervised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ision tree 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le 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ance-based lear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yesian lear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ural net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 vector mach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l ensem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rning the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nsupervised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ust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mensionality re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ML in Pract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ing domain, prior knowledge, and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 integration, selection, cleaning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-processing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rning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preting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olidating and deploying discovered knowle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Logist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tructor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edro Doming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ail: pedrod@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fice: CSE 6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fice hours: Wednesdays 3:30-4: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A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oifung Po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ail: hoifung@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fice: 2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fice hours: Mondays 1:30-2: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eb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ww.cs.washington.edu/5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ling li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se546@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Eval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 homeworks (15% eac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nded out on weeks 1, 3, 5 and 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e two weeks l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programming, some exerci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(40%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Source Materi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. Duda, P. Hart &amp; D. Stork,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Pattern Classific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d.), Wiley  (Requir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. Mitchell,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Machine Learning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cGraw-Hill  (Recommend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p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A Few Quo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breakthrough in machine learning would be worth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n Microsofts”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Bill Gates, Chairman, Microsoft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hine learning is the next Internet” </a:t>
            </a:r>
            <a:br>
              <a:rPr sz="24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Tony Tether, Director, DARP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hine learning is the hot new thing” </a:t>
            </a:r>
            <a:br>
              <a:rPr sz="24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John Hennessy, President, Stanford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b rankings today are mostly a matter of machine learning”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Prabhakar Raghavan, Dir. Research, Yahoo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hine learning is going to result in a real revolution”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Greg Papadopoulos, CTO, Sun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hine learning is today’s discontinuity” </a:t>
            </a:r>
            <a:br>
              <a:rPr sz="24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Jerry Yang, CEO, Yahoo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560" y="304920"/>
            <a:ext cx="838188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So What Is Machine Learni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tomating auto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tting computers to program themsel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software is the bottlene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 the data do the work instea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3059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Traditional Programm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Machine Lea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352680" y="1600200"/>
            <a:ext cx="2667240" cy="152388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38280" y="2057400"/>
            <a:ext cx="914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438280" y="2743200"/>
            <a:ext cx="914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019920" y="2286000"/>
            <a:ext cx="7617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357200" y="1692360"/>
            <a:ext cx="103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86520" y="2362320"/>
            <a:ext cx="17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782400" y="198108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p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4419720"/>
            <a:ext cx="2666880" cy="152388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514600" y="4876920"/>
            <a:ext cx="914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514600" y="5562720"/>
            <a:ext cx="914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095880" y="5105520"/>
            <a:ext cx="7621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433160" y="4511520"/>
            <a:ext cx="103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067400" y="525780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p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858720" y="4800600"/>
            <a:ext cx="17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Magic?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495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, more like garde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Seed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Arial"/>
              </a:rPr>
              <a:t>Nutrien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Garden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Y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cc33"/>
                </a:solidFill>
                <a:latin typeface="Arial"/>
              </a:rPr>
              <a:t>Plan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4981680" y="1523880"/>
            <a:ext cx="335124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Sample Applic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b searc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ational bi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-comme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ace explo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o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ormation extr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al net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bugg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Your favorite area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7T21:16:18Z</dcterms:created>
  <dc:creator>Pedro Domingos</dc:creator>
  <dc:description/>
  <dc:language>en-US</dc:language>
  <cp:lastModifiedBy>Pedro Domingos</cp:lastModifiedBy>
  <dcterms:modified xsi:type="dcterms:W3CDTF">2008-03-27T03:00:06Z</dcterms:modified>
  <cp:revision>12</cp:revision>
  <dc:subject/>
  <dc:title>Machine Learning</dc:title>
</cp:coreProperties>
</file>