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9A0-2DD1-495F-B1A3-8A790CD4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532-C1B2-45BF-86F4-5F1927C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BBB-4742-4AF3-ACB2-E3E81F07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955-FFFA-40FC-B421-8E968CEF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571-4695-4D12-A5F9-0FCA3B9D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D30-63A3-4458-AB93-9BA683CA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72A-B190-41F9-A8D8-A588B21D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B1A-C0CF-4A76-B425-92B6978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422-D440-44A8-8274-143DB2C4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B05-A3CF-41CB-AC8F-EA5D577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3A0-3993-400E-80C9-6324B6B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B7D-9D31-44B4-8DF5-98F4DBA9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05E-B09F-43A8-8C97-8E35874C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SE 546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edro Domi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 of thousands of machine lear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new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chine learning algorithm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of rules / Logic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models (Bayes/Markov n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/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L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orial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eed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adien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vised (inductive)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does not include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a few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rom sequence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s of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, 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ew examp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bability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Probabil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domain, prior knowledge,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gration, selection, clean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cess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and deploying discovere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pedrod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CSE 6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Wednesdays 3:30-4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ifung P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hoifung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Mondays 1:30-2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ww.cs.washington.edu/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ling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se546@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homeworks (15%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d out on weeks 1, 3, 5 a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wo week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, som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rc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 Duda, P. Hart &amp; D. Stork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), Wiley 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itch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Few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eakthrough in machine learning would be w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Microsofts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ll Gates, Chairman, Microso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next Internet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ny Tether, Director, DAR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hot new thing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ohn Hennessy, President, Stan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ankings today are mostly a matter of machine learning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abhakar Raghavan, Dir. Research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going to result in a real revolution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reg Papadopoulos, CTO, S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oday’s discontinuity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erry Yang, CEO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 What Is Machin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computers to program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oftware is the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ata do the work inst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di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600200"/>
            <a:ext cx="266724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74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2860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1692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520" y="23623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2400" y="1981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419720"/>
            <a:ext cx="266688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876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33160" y="45115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7400" y="5257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720" y="480060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gic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more like 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ard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81680" y="1523880"/>
            <a:ext cx="3351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Your favorite are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16:18Z</dcterms:created>
  <dc:creator>Pedro Domingos</dc:creator>
  <dc:description/>
  <dc:language>en-US</dc:language>
  <cp:lastModifiedBy>Pedro Domingos</cp:lastModifiedBy>
  <dcterms:modified xsi:type="dcterms:W3CDTF">2008-03-27T03:00:06Z</dcterms:modified>
  <cp:revision>12</cp:revision>
  <dc:subject/>
  <dc:title>Machine Learning</dc:title>
</cp:coreProperties>
</file>