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5DB-4FEB-4A41-8397-4EE0D9F1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648-8F9C-4090-A480-0E2549F1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82E-E8C9-4A73-B53E-28B76CBD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DFA-FB5C-4E19-A903-C20073F9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255-7DD5-4B16-A4CF-872A876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E6A-1A43-41A9-B096-33B63F69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EDE-9FBC-4CD1-AD12-BD265449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BCF-B6F0-4A12-B0AC-A0F9590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B3F-6329-45D8-BC2B-8B39867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CB5-49A3-4874-A329-74A6F0C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462-15F6-4C59-B3F7-62B72E48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403-5C11-454E-BA47-A6248BDB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6AE-4B0B-4125-8B0A-8915E62A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Pedro Domingos</cp:lastModifiedBy>
  <dcterms:modified xsi:type="dcterms:W3CDTF">2008-03-27T02:13:21Z</dcterms:modified>
  <cp:revision>7</cp:revision>
  <dc:subject/>
  <dc:title>CSE 592: Data Mining</dc:title>
</cp:coreProperties>
</file>