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9351B-23B6-4AEC-86C6-FEA956396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80C7A-99C6-465E-992C-2BCB70960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E7753-20E0-40B2-9788-F353956DA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41710-1265-4997-AD73-1DBA9EA17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A5C8B-C4D1-4371-BA9C-6A49490E9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C09B0-061D-41C6-83B5-737FDE95E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2181B-AFF2-49F7-B063-F7F475D72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F8605-1CED-48B0-9AF5-E0B381263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78417-B8B9-4346-BFCA-5B6538358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92BAC-BB06-4109-8DD4-D7372CB82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E5E9B-ACAA-4E77-970C-2F61F6D27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CF284-66F2-4F02-8678-BBE5B09B4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FEB15-4F8C-4774-ABC5-35CE0BD5C1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ductive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image1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image1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image1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image1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image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image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image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image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image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image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image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image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04T06:05:24Z</dcterms:created>
  <dc:creator>Administrator</dc:creator>
  <dc:description/>
  <dc:language>en-US</dc:language>
  <cp:lastModifiedBy>Pedro Domingos</cp:lastModifiedBy>
  <dcterms:modified xsi:type="dcterms:W3CDTF">2008-03-27T02:13:21Z</dcterms:modified>
  <cp:revision>7</cp:revision>
  <dc:subject/>
  <dc:title>CSE 592: Data Mining</dc:title>
</cp:coreProperties>
</file>