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D20A-214C-4BCD-9ED5-BA40F6F28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C02C-9949-439C-9B1F-72ADCEDC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C4FC-ACC9-4D1C-A436-3D9BCAAA1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E9AB-69E2-4D36-9D0B-3BCE5CD7D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5387-30F6-468C-84E1-16523AAF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661E-F672-4231-94F9-A52E77ED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D6D6-779C-4A17-9099-B23CA2CB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18C4-B91F-446E-A39A-631DBA98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DEBA-60F7-48A7-8DEB-6C8D9B01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0510-284A-4E8F-A753-4878753A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612F-564D-45B2-8D66-8B3EC90E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CC1C-EEC7-4D04-B113-0FA6F662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6ECC-6B89-4735-A470-603312178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1T00:08:41Z</dcterms:created>
  <dc:creator>hoifung</dc:creator>
  <dc:description/>
  <dc:language>en-US</dc:language>
  <cp:lastModifiedBy>hoifung</cp:lastModifiedBy>
  <dcterms:modified xsi:type="dcterms:W3CDTF">2008-06-01T00:08:48Z</dcterms:modified>
  <cp:revision>1</cp:revision>
  <dc:subject/>
  <dc:title>Slide 1</dc:title>
</cp:coreProperties>
</file>