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066-013B-4DEF-8C0E-74F76785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133-FBFB-49A3-91A2-5454806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8ED-7400-46C0-A747-E46ACE33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D64-1F94-4C04-BA0F-FF25F9C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5F1-2787-4E4F-8FE7-2480E70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FBC-2586-49AD-95DB-195D58E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74B-5515-4483-AE48-DF02FF3D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626-F501-4575-AE0D-BA6ADA89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368-6200-475E-9B1B-ABE362A0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4CB-D981-433C-92FE-A1B86DC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313-C586-48BB-8422-BC8CED7C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305B-5E76-4B38-B163-D56ACA8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8087-9993-4EED-B668-39E31115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0:08:41Z</dcterms:created>
  <dc:creator>hoifung</dc:creator>
  <dc:description/>
  <dc:language>en-US</dc:language>
  <cp:lastModifiedBy>hoifung</cp:lastModifiedBy>
  <dcterms:modified xsi:type="dcterms:W3CDTF">2008-06-01T00:08:48Z</dcterms:modified>
  <cp:revision>1</cp:revision>
  <dc:subject/>
  <dc:title>Slide 1</dc:title>
</cp:coreProperties>
</file>