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E84-22DA-496B-AE29-1F3E7F93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636-8ECB-4371-AFD6-42662308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C1D-E68E-4B35-B508-BFDBB375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68A-AF31-4912-91BF-00B95B26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EF0-2183-4DF7-A392-8E9277F0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41A-80EC-4CE1-B0CD-41E87C71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CFA-AC72-45B9-92C1-DA19CBD8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612-95BA-4734-A773-BD1BAA7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0C5-1364-496E-A204-AA7336F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65F-10A9-44D8-B0EA-A2573ED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669-B400-4DB7-846B-A4DD741D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FCB-A044-43BB-A509-37BF32AC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C10-E262-4384-A137-6385939B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eneral Framework for Mining Massive Data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ff Hu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d by Pedro Domi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FDT (Very Fast Decision Tree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ick split attribute for a node looking at a few example may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tream of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irst to pick the split at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succeeding ones to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best attribut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predict most commo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ast, incremental, any time decision tree inductio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best attribute is better than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sample so need Hoeffding 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data t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07000" y="411480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95480" y="4724280"/>
                <a:ext cx="2400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64000" y="304812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VFDT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ure VFD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 = Tree with single leaf (r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sufficient statistics at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xample (X, y)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(X, y) to leaf using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sufficient statistics at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G for each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(best) – G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st)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leaf on bes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ew leaf, init sufficie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6520" y="22096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3248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18080" y="3124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0400" y="301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42320" y="3124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1828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3248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48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28120" y="41148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974920" y="2536920"/>
            <a:ext cx="7621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59720" y="2536920"/>
            <a:ext cx="66348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813360" y="3440160"/>
            <a:ext cx="655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88360" y="3440160"/>
            <a:ext cx="62064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 Trees from VF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may contain incorrect splits,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 the difference with infinite dat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an arbitrary example takes differen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example on level i of tree has i chances to go through a mistaken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76720" y="5181480"/>
                <a:ext cx="26924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FD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dominated by sufficien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ctivate less promising leaves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ful to decide between identic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for splits period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r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ake splits that improve the value of G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top on bad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2819520"/>
                <a:ext cx="1625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FDT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strap with tradition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can dataset when tim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nging data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pr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VFDT and C4.5 (Quinlan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memory limit for both (40 M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k examples for C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DT setting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 = 10^-7, τ =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s: 2 classes, 100 binar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fteen synthetic trees 2.2k – 500k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ise from 0% to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63868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ntium III at 500 MHz running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4.5 takes 35 seconds to read and process 100k examples; VFDT takes 47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FDT takes 6377 seconds for 20 million examples; 5752s to read 625s t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FDT processes 32k examples per second (excluding I/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ng Massive Data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speed data streams ab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reta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distance &amp; cellular phone cal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model of the process crea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odel to interact more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 World Data Se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 of UW Web requ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 of Web page request from 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eek 23k clients, 170 orgs. 244k hosts, 82.8M requests (peak: 17k/min), 20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improve cache by predicting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M examples, 61% defaul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4.5 on 75k exs, 2975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.3%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FDT  ~3000 secs., 74.3%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caling up Decision T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ramework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verview of Application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ining as Discrete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90560" y="2819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6200" y="23623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– prior –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– many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ptimum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ining As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819520"/>
            <a:ext cx="8384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105520"/>
            <a:ext cx="8384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31240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3352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49528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5181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715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5715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4114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5943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352680"/>
            <a:ext cx="167616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048120"/>
            <a:ext cx="1600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563868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486400" y="4114440"/>
            <a:ext cx="16765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90560" y="2819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95252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95252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3581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31484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5410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54344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165096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057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200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495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563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286000"/>
            <a:ext cx="9907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029200"/>
            <a:ext cx="99036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3200400"/>
            <a:ext cx="1828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876920"/>
            <a:ext cx="99072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ecision Tr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990720" y="3352320"/>
            <a:ext cx="11430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2057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200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4495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286000"/>
            <a:ext cx="9907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36196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8564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75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5654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15238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447920"/>
            <a:ext cx="1371600" cy="236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752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133720"/>
            <a:ext cx="2286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2133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028840" y="1981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1981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1736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434340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267080"/>
            <a:ext cx="1371600" cy="2362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4572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95288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028840" y="4800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4800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45561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429000"/>
            <a:ext cx="19051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505320"/>
            <a:ext cx="21333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048120"/>
            <a:ext cx="20574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71800" y="2361960"/>
            <a:ext cx="1828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5520" y="16765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any leaf into a test o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rth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pr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010280" y="3886200"/>
                <a:ext cx="1524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al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 the learning algorithm as a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monitoring data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ach example to update sufficient statistics where appropriate (then discard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pause and use statistical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steps that can be made with high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old search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m when data strea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ata i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65096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4800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9056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5029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51424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2666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ata i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65096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  +/-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8620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tistical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ffding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scores that are average over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lect a winner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1 &gt; Score2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  +/-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76920" y="3657600"/>
                <a:ext cx="281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δ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266688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9056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90920" y="5029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51424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2666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Quality Guaran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33606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 – probability of error in single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 – branching factor of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 – depth of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 – number of checks for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20718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* = δbd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ing Mismatch Betwe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s an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the art data min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ho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static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1 million – 10 milli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Data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ream exists over months 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s – 100s of millions of new records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generating data changing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cal States And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s if states are identical (or nearly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τ – user supplied tie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winner early if alternatives differ by less than 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1 &gt; Score2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 &lt;= 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Time Changing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window of the most recent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odel up to date with th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when window size similar to concept drif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reapply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n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quality of old decisions as window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decisions in fine-grained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Se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ew test looks better grow alternate sub-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old when new is mor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moothly adjusts to chang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3429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3397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1911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4159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503064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61960" y="3740040"/>
            <a:ext cx="6937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3741840"/>
            <a:ext cx="60624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200400" y="4506840"/>
            <a:ext cx="57312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75040" y="4506840"/>
            <a:ext cx="6206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235400" y="4338360"/>
            <a:ext cx="180504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516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75280" y="415908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42120" y="506268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37400" y="506268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837400" y="4505400"/>
            <a:ext cx="57600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97640" y="4506840"/>
            <a:ext cx="62064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748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120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6540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6068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560680" y="5345280"/>
            <a:ext cx="558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20920" y="5345280"/>
            <a:ext cx="6210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5881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5881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3416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29200" y="50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320" y="320040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38280"/>
            <a:ext cx="914400" cy="2667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205740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396252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18288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281952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3809880"/>
            <a:ext cx="9144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57600" y="48006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2209680"/>
            <a:ext cx="914400" cy="457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743200"/>
            <a:ext cx="914400" cy="457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32767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0600" y="38098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34340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48769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54100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7400" y="29714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365760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352680" y="2286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2666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352680" y="4267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7200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57200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572000" y="4038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4343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533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1676520"/>
            <a:ext cx="914400" cy="457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7913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earch requires sufficient statistics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avc)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c^p)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320" y="320040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2438280"/>
            <a:ext cx="914400" cy="2667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205740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96252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8288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81952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809880"/>
            <a:ext cx="9144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48006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1676520"/>
            <a:ext cx="914400" cy="4572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209680"/>
            <a:ext cx="914400" cy="4572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2743200"/>
            <a:ext cx="914400" cy="4572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32767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38098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434340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48769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54100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057400" y="29714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7400" y="365760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2286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2666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352680" y="4267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57200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57200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572000" y="4038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4343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57200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533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91320" y="350532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791320" y="49525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19051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791320" y="281916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86600" y="2362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ily in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ata Mining as Discret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ur Framework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pplication to Decision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pplication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FDT (KDD ’00) – Decision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FDT (KDD ’01) – VFDT + concept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FBN &amp; VFBN2 (KDD ’02) – Bayesi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KM (ICML ’01) – K-Means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EM (NIPS ’01) – EM for mixtures of Gau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REL (Submitted) – Feature selection in relatio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VDT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21000" y="1600200"/>
            <a:ext cx="610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Profile for VFB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365120" y="1600200"/>
            <a:ext cx="6411960" cy="452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al World Data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of all web requests from UW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lustering to find good locations for proxy c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D Cup 2000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k page requests from an e-commerc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ze pages into 65 categories, predict which a session will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W CS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Million sessions over 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of 80 level 2 directories each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rawl of .edu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ta sets each with two million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lational structure to predict which will increase in popularity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st of This Mis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of data we can effectively mine shrinking towards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learned from heuristically selected sampl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out of date before being de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 Mine: A Performance Perspe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grawal, Imielinski, Swami ‘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scaling rul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Fo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hrke, Ramakrishnan, Ganti ‘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scaling decis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tre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ore, Lee ‘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 computing sufficient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reiner ‘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 hill climbing search via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anti, Gehrke, Ramakrishnan ‘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converting incremental algs. for time changing data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framework for discrete search with frameworks for continuous search and rel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time chang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language for specifying data stream learn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ramework to develop novel algorithms for massiv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lgorithms to more real-worl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helps scale up learning algorithms based on discrete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databases and data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limited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time changing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in time proportional to concept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of amount of training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have been demonstrated in a series of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New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 data stream and have a model available at al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model as data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the model as process generating data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quality guaran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in strict resourc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: General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to algorithms based on discrete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automatically converts algorithm to meet our design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ampling to select data size for each search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to continuous searches and relatio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up Decision Trees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ur Framework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ther Application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contain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contain pre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6520" y="1981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1981080"/>
            <a:ext cx="9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1808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28670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42320" y="28954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8280" y="2863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3248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28120" y="3886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74920" y="2308320"/>
            <a:ext cx="7621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9720" y="2308320"/>
            <a:ext cx="66348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13360" y="3211560"/>
            <a:ext cx="655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88360" y="3211560"/>
            <a:ext cx="62064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209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68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168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=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84320" y="1814400"/>
                <a:ext cx="20685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433600" y="2368440"/>
                <a:ext cx="2519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477120" y="38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38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75248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isionTree(Data D, Tree T, Attributes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D is 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T be a leaf predicting class i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X be best of A according to D and 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T be a node that splits o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value V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D^ be the portion of D with V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T^ be the child of T for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isionTree(D^, T^, A –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46:18Z</dcterms:created>
  <dc:creator>Geoff Hulten</dc:creator>
  <dc:description/>
  <dc:language>en-US</dc:language>
  <cp:lastModifiedBy>Geoffrey Hulten</cp:lastModifiedBy>
  <dcterms:modified xsi:type="dcterms:W3CDTF">2003-10-20T05:25:41Z</dcterms:modified>
  <cp:revision>45</cp:revision>
  <dc:subject/>
  <dc:title>A General Framework for Mining Massive Data Streams</dc:title>
</cp:coreProperties>
</file>