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C637-E54A-47FE-BBF3-FEDDAC26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49A6-3EA6-4327-8414-9C4D73E8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49A5-CBC1-4530-B706-9453A30D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C8BA-89F4-424F-8892-4A0B43FA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9DD7-DF61-4B4B-A9E5-D010A302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D5ED-EFE4-482A-894C-9671C867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E0F5-ECFB-4407-85BB-966AB493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DC03-34CB-4E24-BAE2-23836F5A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1D6A-B2D6-4DC9-9912-2BEF5917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0599-8A4F-4DA6-BFDB-6E24FB4A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67BE-AAA5-474E-9285-0430EDC2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B6E5-B379-41AA-A09D-32D073B2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0112-E716-4DFC-8EEA-68BC3512E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General Framework for Mining Massive Data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ff Hul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ised by Pedro Domi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FDT (Very Fast Decision Tree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pick split attribute for a node looking at a few example may be su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stream of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irst to pick the split at the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 succeeding ones to the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best attribute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s predict most common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fast, incremental, any time decision tree induction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best attribute is better than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sample so need Hoeffding b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data t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807000" y="4114800"/>
                <a:ext cx="2670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895480" y="4724280"/>
                <a:ext cx="24004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664000" y="3048120"/>
                <a:ext cx="2670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VFDT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ure VFDT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e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T = Tree with single leaf (ro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sufficient statistics at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example (X, y)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 (X, y) to leaf using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sufficient statistics at le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G for each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(best) – G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st) 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t leaf on best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new leaf, init sufficient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56520" y="220968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3248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18080" y="31240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40400" y="301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42320" y="312408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1828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32480" y="41148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54800" y="40053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728120" y="41148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772400" y="40053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974920" y="2536920"/>
            <a:ext cx="762120" cy="58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59720" y="2536920"/>
            <a:ext cx="663480" cy="58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813360" y="3440160"/>
            <a:ext cx="655560" cy="67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88360" y="3440160"/>
            <a:ext cx="620640" cy="67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2590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9246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=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of Trees from VFD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may contain incorrect splits, use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nd the difference with infinite data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ce an arbitrary example takes different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uition: example on level i of tree has i chances to go through a mistaken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276720" y="5181480"/>
                <a:ext cx="26924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T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VFD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2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dominated by sufficient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ctivate less promising leaves when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ful to decide between identical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for splits period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pru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ake splits that improve the value of G(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stop on bad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828800" y="2819520"/>
                <a:ext cx="16257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G</m:t>
                        </m:r>
                      </m:e>
                    </m:bar>
                    <m:r>
                      <m:t xml:space="preserve">&lt;</m:t>
                    </m:r>
                    <m:r>
                      <m:t xml:space="preserve">ε</m:t>
                    </m:r>
                    <m:r>
                      <m:t xml:space="preserve">&lt;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FDT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tstrap with traditional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can dataset when tim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nging data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pr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ch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VFDT and C4.5 (Quinlan, 1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memory limit for both (40 M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k examples for C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FDT setting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 = 10^-7, τ =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mains: 2 classes, 100 binary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fteen synthetic trees 2.2k – 500k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ise from 0% to 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5638680" cy="45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unning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ntium III at 500 MHz running Lin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4.5 takes 35 seconds to read and process 100k examples; VFDT takes 47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FDT takes 6377 seconds for 20 million examples; 5752s to read 625s to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FDT processes 32k examples per second (excluding I/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ng Massive Data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speed data streams abu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retai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distance &amp; cellular phone cal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fic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Web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model of the process crea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odel to interact more effici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l World Data Se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ce of UW Web reque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am of Web page request from 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week 23k clients, 170 orgs. 244k hosts, 82.8M requests (peak: 17k/min), 20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improve cache by predicting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M examples, 61% default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4.5 on 75k exs, 2975 s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3.3%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FDT  ~3000 secs., 74.3%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caling up Decision Tre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Framework for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Overview of Applications and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Mining as Discrete 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352680"/>
            <a:ext cx="838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3048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3581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2362320"/>
            <a:ext cx="8380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2590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4724280"/>
            <a:ext cx="838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4952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54100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219320" y="3352320"/>
            <a:ext cx="11430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4191120"/>
            <a:ext cx="11430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3886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590560" y="281952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5181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2286000"/>
            <a:ext cx="1371600" cy="4343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86200" y="236232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ty – prior –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 – many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optimum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3962520"/>
            <a:ext cx="12193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ining As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352680"/>
            <a:ext cx="838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3048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3581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2362320"/>
            <a:ext cx="8380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2590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4724280"/>
            <a:ext cx="838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4952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2819520"/>
            <a:ext cx="8384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3048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5105520"/>
            <a:ext cx="8384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3124080"/>
            <a:ext cx="838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91520" y="33526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4952880"/>
            <a:ext cx="838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91520" y="51814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54100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4290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57150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57150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3733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3733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38880" y="3733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012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62920" y="5562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91520" y="41148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1520" y="59436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219320" y="3352320"/>
            <a:ext cx="114300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4191120"/>
            <a:ext cx="11430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3886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3352680"/>
            <a:ext cx="1676160" cy="2133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3048120"/>
            <a:ext cx="1600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562720" y="5638680"/>
            <a:ext cx="152388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486400" y="4114440"/>
            <a:ext cx="16765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590560" y="281952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5181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952520" y="3276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52880" y="36576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952520" y="5562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81480" y="5562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39116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91520" y="39625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43800" y="3581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31484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54100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7543440" y="5791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2286000"/>
            <a:ext cx="1371600" cy="4343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2286000"/>
            <a:ext cx="1371600" cy="4343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0" y="2286000"/>
            <a:ext cx="1371600" cy="4343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650960"/>
            <a:ext cx="1676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1650960"/>
            <a:ext cx="1676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1650960"/>
            <a:ext cx="1676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2057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32004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44956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28195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4648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5880" y="41911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72200" y="5638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205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20574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2286000"/>
            <a:ext cx="99072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5029200"/>
            <a:ext cx="99036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3962520"/>
            <a:ext cx="12193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3200400"/>
            <a:ext cx="18288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4876920"/>
            <a:ext cx="990720" cy="1447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ecision Tr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3352680"/>
            <a:ext cx="838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3581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8380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4724280"/>
            <a:ext cx="838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990720" y="3352320"/>
            <a:ext cx="114300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4191120"/>
            <a:ext cx="11430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886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286000"/>
            <a:ext cx="1371600" cy="4343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50960"/>
            <a:ext cx="1676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2057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32004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19320" y="44956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2286000"/>
            <a:ext cx="99072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3962520"/>
            <a:ext cx="12193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4952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66880" y="5334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361960" y="5181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5181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62320" y="2590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29718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29718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285640" y="28195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28195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2575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1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62320" y="4952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35654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1523880"/>
            <a:ext cx="838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1447920"/>
            <a:ext cx="1371600" cy="2361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17524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76920" y="2133720"/>
            <a:ext cx="22860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34120" y="2133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028840" y="19810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57800" y="19810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29200" y="17366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1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4343400"/>
            <a:ext cx="8380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5867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4267080"/>
            <a:ext cx="1371600" cy="23623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45720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4952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4952880"/>
            <a:ext cx="2286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028840" y="4800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57800" y="4800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45561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1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66880" y="1650960"/>
            <a:ext cx="1676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5760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95480" y="3429000"/>
            <a:ext cx="19051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3505320"/>
            <a:ext cx="21333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048120"/>
            <a:ext cx="20574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971800" y="2361960"/>
            <a:ext cx="18288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5520" y="167652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any leaf into a test on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opy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urther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pr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7010280" y="3886200"/>
                <a:ext cx="1524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al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 the learning algorithm as a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monitoring data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ach example to update sufficient statistics where appropriate (then discard 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ally pause and use statistical t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steps that can be made with high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old search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m when data stream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Data i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3352680"/>
            <a:ext cx="838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3581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4724280"/>
            <a:ext cx="838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219320" y="3352320"/>
            <a:ext cx="11430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95280" y="4191120"/>
            <a:ext cx="11430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3886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57400" y="2286000"/>
            <a:ext cx="1371600" cy="4343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1650960"/>
            <a:ext cx="1828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205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1932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0" y="2362320"/>
            <a:ext cx="8380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4800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95280" y="3962520"/>
            <a:ext cx="12193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66688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54100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95480" y="54100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590560" y="5257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5257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5029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2666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3048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19520" y="3048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514240" y="2895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43200" y="2895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14600" y="2666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1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Data i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3352680"/>
            <a:ext cx="838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3581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62320" y="4724280"/>
            <a:ext cx="838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219320" y="3352320"/>
            <a:ext cx="11430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4191120"/>
            <a:ext cx="11430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14600" y="3886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57400" y="2286000"/>
            <a:ext cx="1371600" cy="4343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1650960"/>
            <a:ext cx="1828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76520" y="205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6  +/-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0" y="2362320"/>
            <a:ext cx="8380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86200" y="2362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tatistical b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ffding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to scores that are average over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elect a winner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1 &gt; Score2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4800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4  +/-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3962520"/>
            <a:ext cx="12193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876920" y="3657600"/>
                <a:ext cx="281304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δ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266688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38280" y="54100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95480" y="54100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590560" y="5257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5257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590920" y="5029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90920" y="2666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62320" y="3048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30481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514240" y="2895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43200" y="2895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14600" y="2666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X1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Quality Guarant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33606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δ – probability of error in single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 – branching factor of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 – depth of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 – number of checks for wi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895480" y="207180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* = δbd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wing Mismatch Betwe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orithms and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of the art data mining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hot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static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of 1 million – 10 millio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ies of Data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tream exists over months or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s – 100s of millions of new records per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generating data changing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cal States And 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s if states are identical (or nearly 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τ – user supplied tie par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winner early if alternatives differ by less than 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re1 &gt; Score2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ε &lt;= 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ling with Time Changing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a window of the most recent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model up to date with thi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when window size similar to concept drif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ally reapply lea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ineffici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quality of old decisions as window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decisions in fine-grained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e Sear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new test looks better grow alternate sub-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old when new is more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moothly adjusts to changing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743200" y="34290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66880" y="33973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d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4191120"/>
            <a:ext cx="7617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29000" y="4191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41590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503064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361960" y="3740040"/>
            <a:ext cx="693720" cy="45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3640" y="3741840"/>
            <a:ext cx="60624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200400" y="4506840"/>
            <a:ext cx="573120" cy="53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75040" y="4506840"/>
            <a:ext cx="62064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235400" y="4338360"/>
            <a:ext cx="1805040" cy="4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51600" y="4191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975280" y="4159080"/>
            <a:ext cx="10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le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442120" y="5062680"/>
            <a:ext cx="7617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37400" y="506268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5837400" y="4505400"/>
            <a:ext cx="576000" cy="54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97640" y="4506840"/>
            <a:ext cx="620640" cy="5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77488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5120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i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65400" y="590076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60680" y="590076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560680" y="5345280"/>
            <a:ext cx="55872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20920" y="5345280"/>
            <a:ext cx="6210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1916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209680" y="5881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505320" y="5881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734160" y="5043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129200" y="5014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486400" y="5043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M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6320" y="3200400"/>
            <a:ext cx="8380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43000" y="2438280"/>
            <a:ext cx="914400" cy="2667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38280" y="2057400"/>
            <a:ext cx="914400" cy="1600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38280" y="3962520"/>
            <a:ext cx="914400" cy="1600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657600" y="1828800"/>
            <a:ext cx="9144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657600" y="2819520"/>
            <a:ext cx="9144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657600" y="3809880"/>
            <a:ext cx="914400" cy="838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657600" y="4800600"/>
            <a:ext cx="9144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800600" y="2209680"/>
            <a:ext cx="914400" cy="4572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800600" y="2743200"/>
            <a:ext cx="914400" cy="4572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800600" y="3276720"/>
            <a:ext cx="914400" cy="457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0600" y="3809880"/>
            <a:ext cx="914400" cy="457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800600" y="4343400"/>
            <a:ext cx="914400" cy="457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00600" y="4876920"/>
            <a:ext cx="914400" cy="457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00600" y="5410080"/>
            <a:ext cx="914400" cy="457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057400" y="297144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057400" y="365760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352680" y="2286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352680" y="26668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3352680" y="42670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352680" y="47242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572000" y="1905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2209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572000" y="28951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572000" y="40381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4343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572000" y="5028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0" y="5334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00600" y="1676520"/>
            <a:ext cx="914400" cy="4572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79132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earch requires sufficient statistics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avc)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yesia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c^p)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M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320" y="3200400"/>
            <a:ext cx="8380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143000" y="2438280"/>
            <a:ext cx="914400" cy="2667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438280" y="2057400"/>
            <a:ext cx="914400" cy="1600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438280" y="3962520"/>
            <a:ext cx="914400" cy="1600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657600" y="1828800"/>
            <a:ext cx="9144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2819520"/>
            <a:ext cx="9144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657600" y="3809880"/>
            <a:ext cx="914400" cy="838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657600" y="4800600"/>
            <a:ext cx="9144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1676520"/>
            <a:ext cx="914400" cy="4572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00600" y="2209680"/>
            <a:ext cx="914400" cy="4572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2743200"/>
            <a:ext cx="914400" cy="4572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800600" y="3276720"/>
            <a:ext cx="914400" cy="457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800600" y="3809880"/>
            <a:ext cx="914400" cy="457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800600" y="4343400"/>
            <a:ext cx="914400" cy="457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800600" y="4876920"/>
            <a:ext cx="914400" cy="457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5410080"/>
            <a:ext cx="914400" cy="457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144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057400" y="297144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57400" y="365760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352680" y="22860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352680" y="26668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3352680" y="42670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47242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572000" y="1905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2209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4572000" y="28951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572000" y="40381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4343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4572000" y="5028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0" y="5334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91320" y="3505320"/>
            <a:ext cx="12189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791320" y="495252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86600" y="4648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791320" y="1905120"/>
            <a:ext cx="121896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791320" y="2819160"/>
            <a:ext cx="1218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86600" y="23623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orarily in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Data Mining as Discrete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Our Framework for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Application to Decision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pplications and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FDT (KDD ’00) – Decision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FDT (KDD ’01) – VFDT + concept dr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FBN &amp; VFBN2 (KDD ’02) – Bayesian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 Sear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KM (ICML ’01) – K-Means 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EM (NIPS ’01) – EM for mixtures of Gauss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al Data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REL (Submitted) – Feature selection in relation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FVDT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521000" y="1600200"/>
            <a:ext cx="6100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 Profile for VFB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1365120" y="1600200"/>
            <a:ext cx="6411960" cy="4525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al World Data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of all web requests from UW ca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lustering to find good locations for proxy c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DD Cup 2000 Data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k page requests from an e-commerce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ize pages into 65 categories, predict which a session will vi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W CSE Data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Million sessions over  two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 which of 80 level 2 directories each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Crawl of .edu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ata sets each with two million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lational structure to predict which will increase in popularity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st of This Mism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 of data we can effectively mine shrinking towards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learned from heuristically selected sample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out of date before being depl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 Mine: A Performance Perspecti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grawal, Imielinski, Swami ‘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 for scaling rul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nFor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ehrke, Ramakrishnan, Ganti ‘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 for scaling decision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tre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oore, Lee ‘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 computing sufficient s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reiner ‘9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 hill climbing search via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anti, Gehrke, Ramakrishnan ‘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 for converting incremental algs. for time changing data str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framework for discrete search with frameworks for continuous search and relation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tudy time changing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language for specifying data stream learning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framework to develop novel algorithms for massive data st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algorithms to more real-worl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work helps scale up learning algorithms based on discrete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ing algorith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on databases and data str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with limited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 to time changing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in time proportional to concept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of amount of training dat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 have been demonstrated in a series of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New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a data stream and have a model available at all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the model as data arr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 the model as process generating data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quality guarant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in strict resourc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: General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ble to algorithms based on discrete sea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-automatically converts algorithm to meet our design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sampling to select data size for each search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s to continuous searches and relation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ing up Decision Trees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Our Framework for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Other Applications and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s contain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s contain pred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56520" y="198108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1981080"/>
            <a:ext cx="95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d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18080" y="28954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54800" y="286704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42320" y="289548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18280" y="2863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32480" y="3886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28120" y="3886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974920" y="2308320"/>
            <a:ext cx="762120" cy="58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59720" y="2308320"/>
            <a:ext cx="663480" cy="58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813360" y="3211560"/>
            <a:ext cx="655560" cy="67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88360" y="3211560"/>
            <a:ext cx="620640" cy="67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2209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22096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3168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772400" y="3168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=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884320" y="1814400"/>
                <a:ext cx="206856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433600" y="2368440"/>
                <a:ext cx="25192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6477120" y="38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72400" y="38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Tree In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1752480"/>
            <a:ext cx="65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cisionTree(Data D, Tree T, Attributes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D is p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t T be a leaf predicting class in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t X be best of A according to D and G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t T be a node that splits o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each value V of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t D^ be the portion of D with V for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t T^ be the child of T for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cisionTree(D^, T^, A –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9:46:18Z</dcterms:created>
  <dc:creator>Geoff Hulten</dc:creator>
  <dc:description/>
  <dc:language>en-US</dc:language>
  <cp:lastModifiedBy>Geoffrey Hulten</cp:lastModifiedBy>
  <dcterms:modified xsi:type="dcterms:W3CDTF">2003-10-20T05:25:41Z</dcterms:modified>
  <cp:revision>45</cp:revision>
  <dc:subject/>
  <dc:title>A General Framework for Mining Massive Data Streams</dc:title>
</cp:coreProperties>
</file>