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DC32-686E-465C-82F1-3D6AC7AD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DCE9-4059-45BF-91F2-5543B6B0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D924-98C0-4E12-BCDC-6581B7B7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108E-CAA2-428C-9898-B6900066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4019-31BE-4EE3-8B18-3A2F838E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8D23-23A3-4E6E-AD79-B910BE58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9404-B826-470D-98D6-607D5E47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3AEC-E98D-43A3-B635-5FEF5A45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30BA-E085-4C1C-B33A-9C4D80A5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05D6-369D-44C3-929B-FFDF1CAC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32C2-60CE-4AFC-A769-D5AE1774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D013-B216-45D0-B96A-2E63D768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700E-FE2A-4339-AD1F-45CFD2F78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06:05:24Z</dcterms:created>
  <dc:creator>Administrator</dc:creator>
  <dc:description/>
  <dc:language>en-US</dc:language>
  <cp:lastModifiedBy>Administrator</cp:lastModifiedBy>
  <dcterms:modified xsi:type="dcterms:W3CDTF">2001-10-03T03:53:44Z</dcterms:modified>
  <cp:revision>6</cp:revision>
  <dc:subject/>
  <dc:title>CSE 592: Data Mining</dc:title>
</cp:coreProperties>
</file>