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F4A-3946-4309-9DFE-7FE41349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01E-F2B2-4476-9D1B-FCB710FE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0D3-15EB-4A4A-9A99-FD1D3308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1DF-84C2-4D43-833D-A7ADB6C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466-85B0-495F-9571-A6A65F2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8D4-0116-4C2B-BF5A-6C493AC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2E4-45D8-4D1E-B352-C16CB04A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0BD-53F4-48AA-84E9-F6487F3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91C-6E90-4883-822A-1186B758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B31-5B8B-424A-A333-8D4C8C6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41D-050B-4D3E-AC4E-C1835F8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258-B758-4542-B766-B733D8A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DCE-5385-4F50-9F88-99CA8448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3:44Z</dcterms:modified>
  <cp:revision>6</cp:revision>
  <dc:subject/>
  <dc:title>CSE 592: Data Mining</dc:title>
</cp:coreProperties>
</file>