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25CE-8323-4632-A2EB-E89D058C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5348-C152-483F-9A79-1D4CC056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3505-6FEC-43F5-AC87-25F62277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251B-16AE-4AE4-84AE-27243D70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2F4C-AB67-4EC4-8AB5-F23B3CEF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AEAA-7D3E-4C45-95AC-EC763E6B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1CBE-38B1-45CD-B417-3AF8EA17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7E6B-040F-44F3-AB8E-85A83168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E3CA-96AF-4E2E-9772-7A59161F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26C2-1055-4083-B1BC-ADFCEFB7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11E7-CA11-40C7-829C-1ACF3F56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6501-05CE-4FC6-95ED-DAAC9747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CF6F-300A-4381-8283-7F68DB8C1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s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sion Tree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u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fitting and pru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ing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06:05:24Z</dcterms:created>
  <dc:creator>Administrator</dc:creator>
  <dc:description/>
  <dc:language>en-US</dc:language>
  <cp:lastModifiedBy>Administrator</cp:lastModifiedBy>
  <dcterms:modified xsi:type="dcterms:W3CDTF">2001-10-03T03:59:29Z</dcterms:modified>
  <cp:revision>6</cp:revision>
  <dc:subject/>
  <dc:title>CSE 592: Data Mining</dc:title>
</cp:coreProperties>
</file>