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2EC8-91FE-4C11-9CDD-8BE39E0C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235-C265-4404-816A-8C4DA7AD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5594-6258-4768-B61E-F1666343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BE56-D877-4AE9-A3E7-764A7379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F489-B874-47F5-854F-96B8BA47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A446-8ECB-4D3F-8FFC-77C8B3C1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F2D9-22C8-47F2-A935-610C5292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2589-E166-4F5F-8652-EBD31015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9AC-1EBA-4724-A9E3-605EE8A5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191-C127-4EAE-9AFB-1CC2C358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D502-AC71-4012-9500-75BFCC5F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651B-84D4-45F8-8E14-6B9442AE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244E-67AD-4E16-B4F8-B0D6A5852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s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sion Tree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u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fitting and pru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ing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06:05:24Z</dcterms:created>
  <dc:creator>Administrator</dc:creator>
  <dc:description/>
  <dc:language>en-US</dc:language>
  <cp:lastModifiedBy>Administrator</cp:lastModifiedBy>
  <dcterms:modified xsi:type="dcterms:W3CDTF">2001-10-03T03:59:29Z</dcterms:modified>
  <cp:revision>6</cp:revision>
  <dc:subject/>
  <dc:title>CSE 592: Data Mining</dc:title>
</cp:coreProperties>
</file>