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BD9-5FE3-4BEC-90DE-0FC44C0F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9D5-67DF-42EE-9478-A1A6972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D50-7596-4CE1-8308-E4EDD3C9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355-9A6A-41AD-B2F0-F4157E2D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572-27CF-4558-BC58-52AE076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C37-D76E-484D-B6E6-D60033D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CE0-6906-4238-BC18-6BA51F5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D43-390D-4757-9A07-2BE84AA8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13D-B437-4857-9B79-C830D16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7A4-531E-4263-9CA5-089A728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E74-2D1E-4862-9BE7-981DA8F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6DA-7CCD-45A1-83C1-E6075DF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7AD-25AB-41E8-AFB6-597C94D2D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3:44Z</dcterms:modified>
  <cp:revision>6</cp:revision>
  <dc:subject/>
  <dc:title>CSE 592: Data Mining</dc:title>
</cp:coreProperties>
</file>