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4DD4-48B8-44B2-998E-D32546EC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A4E-69C7-45FB-92D1-34875A22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06D-68C5-4A2E-9EB5-27FC1004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B94-0747-4D97-9220-595D995C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055-7668-46F2-BD3E-B61AA5D6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5D29-580A-45EA-98FD-55B6EFA6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4BA-3C37-4CC0-A3E1-9C8F68D3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319-00E8-4906-AE85-4390EAAD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708-861A-4CC8-A405-62619266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A83-F5E6-45A0-90ED-19CCCABE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E835-8710-4DF3-B846-C2D58E2E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542-FF8C-406B-A8F4-F5EB9970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9C7E-05DA-47D6-9F4C-EE4EA2125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06:05:24Z</dcterms:created>
  <dc:creator>Administrator</dc:creator>
  <dc:description/>
  <dc:language>en-US</dc:language>
  <cp:lastModifiedBy>Administrator</cp:lastModifiedBy>
  <dcterms:modified xsi:type="dcterms:W3CDTF">2001-10-03T03:53:44Z</dcterms:modified>
  <cp:revision>6</cp:revision>
  <dc:subject/>
  <dc:title>CSE 592: Data Mining</dc:title>
</cp:coreProperties>
</file>