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140-FD68-41C0-A954-4A3AA993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6DB-94D4-44E4-A6A0-8FC6199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024-E230-4B41-8EB2-D3A77C0D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AF3-0FCD-45CA-9BE4-7154EE7E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9BD-9DAD-422C-8DC4-ED1E992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4AD-AFCB-4F4C-8E5B-686F47D4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1EF-EF5F-4C6D-8978-E4D3656E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DEC-09AC-4F20-BDF7-A6012678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A04-0162-4EE9-A5B2-BF7EE3F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FED-B3FC-4CFB-A949-887EB4F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E15-75A5-4AD2-83F1-5BCE70E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5A3-3772-4AC2-8B33-954FFD7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A13-E322-46A1-AD5F-C643429DC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itting and 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9:29Z</dcterms:modified>
  <cp:revision>6</cp:revision>
  <dc:subject/>
  <dc:title>CSE 592: Data Mining</dc:title>
</cp:coreProperties>
</file>