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486-30B9-47F6-BD9A-5DAADB9E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C61-A28C-4229-B3C6-FE3A6C65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83C-FBA3-473F-AEE2-12D11051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B70-2DAC-4BD0-8FD5-5BC3A54B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4B3-BB93-476C-899D-1E3AFBAC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654-ED4D-44D0-8312-CD5C527C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2E3-4AE4-4974-A8ED-E0A7C39F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6CC-9BC8-47D0-9512-1B325270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126-D966-44CA-BE7E-1BAA5DC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DCF-B12A-4F7F-BA92-8124DD4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211-1AFD-492B-AF3F-CB11D9D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810-A427-451C-A73A-964A084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02F-7252-483C-8431-19F1D764C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fitting and pr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Administrator</cp:lastModifiedBy>
  <dcterms:modified xsi:type="dcterms:W3CDTF">2001-10-03T03:59:29Z</dcterms:modified>
  <cp:revision>6</cp:revision>
  <dc:subject/>
  <dc:title>CSE 592: Data Mining</dc:title>
</cp:coreProperties>
</file>