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4E9-4926-4187-976E-DA288306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A10-2F75-453A-9B01-BDBA32B8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F30-2A81-49D3-92AB-A95833C7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7FC-406A-4A5B-8D18-BCEE4EA7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1E6-CB24-4F95-9739-CF49C0C1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457-FBB2-4932-B3A3-D735E2CB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5CD-63E1-44B3-BFD3-F0AA5D57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69D9-1697-4E78-B777-0DB7DA59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D7A-0C23-4A08-A0FD-799E0F70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71F-1DA5-41D6-8EF7-E54DC0F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746-2587-4F86-9F90-ADC1D54C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C12-C50C-4E73-B355-69C284F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366B-F9EF-4493-9BBF-ED08D088A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ing Decision Tre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98720" y="1709640"/>
            <a:ext cx="5014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74680" y="1633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38080" y="1905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905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371240" y="25146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905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1905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590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590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= 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9600" y="228600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2514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60480" y="2895480"/>
            <a:ext cx="50184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94200" y="174312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70520" y="1666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24316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33560" y="193824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193824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266720" y="25480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19382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193824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26240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26240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=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231948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75080" y="231948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54808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292896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56320" y="292896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37400" y="174312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3720" y="1666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224316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476760" y="193824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93824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009920" y="25480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19382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193824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26240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26240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=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31948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8280" y="231948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54808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292896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99520" y="292896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8195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3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2004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200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46080" y="2895480"/>
            <a:ext cx="50184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1240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50532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7320" y="350532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37720" y="31240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46480" y="4105440"/>
            <a:ext cx="50184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22800" y="40291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605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6200" y="43005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430056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19720" y="491004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3005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43005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49863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gt; 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986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=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4681440"/>
            <a:ext cx="5014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27720" y="4681440"/>
            <a:ext cx="501480" cy="1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491004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529128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08600" y="5291280"/>
            <a:ext cx="501480" cy="19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342900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419360" y="33526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560" y="3352680"/>
            <a:ext cx="1904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FDT/CVF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lten, Spencer, Domi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high probability learns what traditional methods would learn, but much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s from data stream instead of dat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FDT is extension to time changing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use a data stream mod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ly infinit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ed in varied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algorithms that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 time per example &amp; use each example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results ‘equivalent’ to traditional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ffding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pick split attribute for a node looking at a few example may be su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tream of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irst to pick the split at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succeeding ones to the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k best attribute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s predict most commo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best attribute is better than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statistical result: Hoeffding b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data ti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733920" y="3691080"/>
                <a:ext cx="2670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200400" y="4572000"/>
                <a:ext cx="2400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514600" y="2590920"/>
                <a:ext cx="2670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ffding Tre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edure HoeffdingTree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HT = Tree with single leaf (roo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 sufficient statistics at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example (X, y)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(X, y) to leaf using 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sufficient statistics at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G for each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G(best) – G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st) 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leaf on best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new leaf, init sufficient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56520" y="22096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3248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18080" y="3124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40400" y="301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42320" y="31240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828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3248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54800" y="4005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28120" y="41148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4005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974920" y="2536920"/>
            <a:ext cx="76212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59720" y="2536920"/>
            <a:ext cx="66348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813360" y="3440160"/>
            <a:ext cx="65556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88360" y="3440160"/>
            <a:ext cx="62064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246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Hoeffding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may contain incorrect splits,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 the difference with infinite data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ce an arbitrary example takes different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on: example on level i of tree has i chances to go through a mistaken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76720" y="5181480"/>
                <a:ext cx="26924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FDT (Very Fast Decision Tr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ominated by sufficient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ctivate less promising leaves whe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teful to decide between identical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splits period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-pruning (op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make splits that improve the value of G(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op on ba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strap with traditional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can old data when time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905120" y="2514600"/>
                <a:ext cx="1625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d VFDT and C4.5 (Quinlan, 19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memory limit for both (40 M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k examples for C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FDT setting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= 10^-7, τ 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s: 2 classes, 100 binary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fteen synthetic trees 2.2k – 500k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 from 0% to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638680" cy="45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need scal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 state of the art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on my research (which is one of the state of the art meth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ium III at 500 MHz running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5 takes 35 seconds to read and process 100k examples; VFDT takes 47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DT takes 6377 seconds for 20 million examples; 5752s to read 625s to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DT processes 32k examples per second (excluding I/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-Changing Data 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concept often change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sonal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KDD systems assume data is sample from stationary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FDT -- Extends VFDT for time changing data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 Changing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-of-date data misleads learner and results in larger or less accurat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window of the most recent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ew data arrives update the window and reapply the lea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when window size similar to concept drif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emely ineffici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adapting VF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up to date with a window of size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ly incorporate and forget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ly change the induced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 speculativ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structure when more 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es new examples in constant time instead of relearning on window: O(w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 (Forgetting Examp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sufficient statistics at every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ith new &amp; ol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an ID and only forget wher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ly update leaf 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ally check for any invalid sp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rtion due to incorrect initial sp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t due to changes in the data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30680" y="5924520"/>
                <a:ext cx="2960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lit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Sub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ew test looks better grow alternate sub-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the old when new is more 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moothly adjusts to changing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3429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397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d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419112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191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4159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503064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361960" y="3740040"/>
            <a:ext cx="69372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3741840"/>
            <a:ext cx="60624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200400" y="4506840"/>
            <a:ext cx="57312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75040" y="4506840"/>
            <a:ext cx="62064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235400" y="4338360"/>
            <a:ext cx="1805040" cy="4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51600" y="4191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75280" y="415908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g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42120" y="506268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37400" y="506268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837400" y="4505400"/>
            <a:ext cx="57600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97640" y="4506840"/>
            <a:ext cx="62064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748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5120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i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5400" y="590076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60680" y="590076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560680" y="5345280"/>
            <a:ext cx="558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0920" y="5345280"/>
            <a:ext cx="6210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1916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5881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5881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34160" y="50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29200" y="50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50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FDT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rift present, CVFDT uses fewer nodes than VF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d good results with relatively few alternate-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# attribs * # values * # classes * path leng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of training set and window s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window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stic changes in the dat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stic changes in the induc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pparent changes (learn more det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Scaling Deci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doesn’t fit in 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eric attributes require repeated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y datasets lead to very large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datasets fundamentally different from smaller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store the entire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ying phenomenon changes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tic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 based on parallel hyper-pl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ed axis better split attribute, rotate the hyper-planes to change structure of ‘true’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4419720"/>
            <a:ext cx="1905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143000" y="457200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184400" y="5181120"/>
            <a:ext cx="186372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371600" y="57913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62720" y="4495680"/>
            <a:ext cx="19047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919920" y="4522680"/>
            <a:ext cx="325440" cy="17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324480" y="4522320"/>
            <a:ext cx="325440" cy="17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694480" y="4508640"/>
            <a:ext cx="325440" cy="172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5334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876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D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tic Experiment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VFDT with VF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illion training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ft inserted by periodically rotating hyper-pl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8% of test points change label each d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,000 examples in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%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sampled every 10k examples throughout the run and avera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Rate vs. #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5627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 Size vs. #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4104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ed View of Single R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ying Levels of Dr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676520" y="1881360"/>
            <a:ext cx="579096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f 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With VFDT-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562720" y="21337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VFDT most of the accuracy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FDT: 1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VFDT: 46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FDT-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. 548 day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5867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FDT-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90920" y="6033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VF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F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228600" y="2171880"/>
          <a:ext cx="5124600" cy="37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71880"/>
                    <a:ext cx="512460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: Web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of all web requests from UW cam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2.8 million requests over one-week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to predict which pages to 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FDT does better for first 70% of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FDT’s performance improved near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eems to contain drift, but more study i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tinuous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atch version of VFD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ery Fast Post Pru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tending general method to other algorith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e-Of-The-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k base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FDT &amp; CVF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ream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FDT &amp; CVF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ecision trees important, need some more work to scale to today's probl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isk based metho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out one scan per level of tre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mpling can produce equivalent trees much fas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INT/SLI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fer, Agrawal, Meh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IBM Intelligent Miner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s the same tree as traditional method but works with data on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can over the data per level of the induced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INT/SLIQ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the dataset into one file per 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alue, record 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sort each numeric attribute’s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one scan over each file, find best split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hash-tables to split the files maintaining sort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INT/SLIQ Splitt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4703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      |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7748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743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      |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0798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3048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   |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847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52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       |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6892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657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    |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9942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962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     |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01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     |  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462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    |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8512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2819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    |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1561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12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|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34606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     |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656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733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     |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40705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4038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     |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2178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     |   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397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23940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    |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26989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666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    |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003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2971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|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45720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540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    |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48769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4844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     |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181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5149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     |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1981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46800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     |  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9849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952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   |  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52894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525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      |  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559440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5562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      |  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899320"/>
            <a:ext cx="11430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5867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      |   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6203880"/>
            <a:ext cx="1143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6172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      |  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4387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tabl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873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p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Attr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hrke, Ganti, Ramakrishnan, L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s the same tree as traditional methods but can be as much as 3x faster than SPRINT/SLI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ngs work out learns more than one level of tree in one scan over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AT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 sample of data into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N trees via traditional methods on bootstrap samples from this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any subset of the N trees that is exactly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the subtree with a scan over al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fails revert to SPRINT/SLI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8:51:54Z</dcterms:created>
  <dc:creator>Unknown User</dc:creator>
  <dc:description/>
  <dc:language>en-US</dc:language>
  <cp:lastModifiedBy>ghulten</cp:lastModifiedBy>
  <cp:lastPrinted>2001-10-18T05:08:08Z</cp:lastPrinted>
  <dcterms:modified xsi:type="dcterms:W3CDTF">2001-10-18T08:39:41Z</dcterms:modified>
  <cp:revision>29</cp:revision>
  <dc:subject/>
  <dc:title>Scaling Decision Tree Induction</dc:title>
</cp:coreProperties>
</file>