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D48-CBE9-4FE1-A2DE-0C888118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E80-6B9E-4F93-A72C-7FCB0A3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164-EE80-4842-B56B-A22C75F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55A-1879-415A-9E53-3DF8083E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37B-5B7E-42A4-BAEE-91A20A8A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640-0C3E-4634-93A0-A722C092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50B-82A9-453B-9B1C-00CFD788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665-F8CF-449F-83CC-BB3A1F2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050-6759-42DD-A3A0-7890CB4C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ABC-7BA2-4AC0-B1EA-491562B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870-B69C-49E1-B31E-7EC2E3C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902-B81D-4AA9-B5F9-F7ADACA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8A1-4160-428A-9A92-135E749B7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 Decision Tre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98720" y="1709640"/>
            <a:ext cx="501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74680" y="1633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38080" y="1905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905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240" y="2514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905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905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590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9600" y="228600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514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60480" y="2895480"/>
            <a:ext cx="50184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94200" y="174312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0520" y="1666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24316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560" y="193824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93824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266720" y="25480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9382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1938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26240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624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3194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75080" y="231948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48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92896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56320" y="292896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7400" y="174312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3720" y="1666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24316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76760" y="193824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93824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09920" y="25480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382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1938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6240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2624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3194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8280" y="231948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548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92896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99520" y="292896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819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3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200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46080" y="2895480"/>
            <a:ext cx="50184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1240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50532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7320" y="350532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37720" y="3124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6480" y="410544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22800" y="4029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605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6200" y="4300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300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19720" y="491004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3005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3005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9863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986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681440"/>
            <a:ext cx="501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7720" y="4681440"/>
            <a:ext cx="501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491004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52912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08600" y="52912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4290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19360" y="33526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560" y="3352680"/>
            <a:ext cx="1904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FDT/CVF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lten, Spencer, Domi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high probability learns what traditional methods would learn, but much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s from data stream instead of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FDT is extension to time changing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 a data stream mod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ly infini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ed in varied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algorithms that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time per example &amp; use each example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results ‘equivalent’ to traditiona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ffd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pick split attribute for a node looking at a few example may be su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tream of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irst to pick the spli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succeeding ones to the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best attribute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s predict most commo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best attribute is better than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statistical result: Hoeffding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data t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733920" y="369108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00400" y="4572000"/>
                <a:ext cx="2400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514600" y="259092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ffding Tre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edure HoeffdingTre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HT = Tree with single leaf (ro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sufficient statistics at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example (X, y)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(X, y) to leaf using 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sufficient statistics at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G for each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G(best) – G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st)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leaf on best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new leaf, init sufficient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56520" y="22096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3248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18080" y="3124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40400" y="301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42320" y="3124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828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248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548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28120" y="41148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974920" y="2536920"/>
            <a:ext cx="7621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59720" y="2536920"/>
            <a:ext cx="66348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813360" y="3440160"/>
            <a:ext cx="655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88360" y="3440160"/>
            <a:ext cx="62064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Hoeffd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may contain incorrect splits,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 the difference with infinite dat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ce an arbitrary example takes differen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example on level i of tree has i chances to go through a mistaken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76720" y="5181480"/>
                <a:ext cx="26924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FDT (Very Fast Decision Tr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ominated by sufficient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ctivate less promising leaves whe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teful to decide between identical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splits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pruning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ake splits that improve the value of G(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op on ba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strap with traditional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can old data when tim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05120" y="2514600"/>
                <a:ext cx="1625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VFDT and C4.5 (Quinlan, 19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memory limit for both (40 M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k examples for C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FDT setting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= 10^-7, τ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s: 2 classes, 100 binary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een synthetic trees 2.2k – 500k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from 0% to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63868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scal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state of the ar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n my research (which is one of the state of the art meth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ium III at 500 MHz running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5 takes 35 seconds to read and process 100k examples; VFDT takes 47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DT takes 6377 seconds for 20 million examples; 5752s to read 625s to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DT processes 32k examples per second (excluding I/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-Changing Data 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concept often chang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sonal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KDD systems assume data is sample from stationar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FDT -- Extends VFDT for time changing data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 Changing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of-date data misleads learner and results in larger or less accurat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window of the most recent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ew data arrives update the window and reapply the lea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when window size similar to concept drif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ineffici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adapting VF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up to date with a window of size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ly incorporate and forget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ly change the induced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speculativ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structure when mor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s new examples in constant time instead of relearning on window: O(w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 (Forgetting Examp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sufficient statistics at every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ith new &amp; ol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n ID and only forget wher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ly update leaf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check for any invalid sp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rtion due to incorrect initial sp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t due to changes in the data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30680" y="5924520"/>
                <a:ext cx="2960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lit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Sub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ew test looks better grow alternate sub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the old when new is mor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moothly adjusts to changing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3429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397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1911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4159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03064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361960" y="3740040"/>
            <a:ext cx="6937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3741840"/>
            <a:ext cx="60624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200400" y="4506840"/>
            <a:ext cx="57312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75040" y="4506840"/>
            <a:ext cx="6206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235400" y="4338360"/>
            <a:ext cx="180504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516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75280" y="415908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42120" y="506268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37400" y="506268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837400" y="4505400"/>
            <a:ext cx="57600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97640" y="4506840"/>
            <a:ext cx="62064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48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5120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i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540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60680" y="5345280"/>
            <a:ext cx="558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0920" y="5345280"/>
            <a:ext cx="6210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1916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5881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5881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416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29200" y="50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FD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rift present, CVFDT uses fewer nodes than 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d good results with relatively few alternate-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# attribs * # values * # classes * path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f training set and window s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window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stic changes in the dat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stic changes in the induc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pparent changes (learn more det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caling 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oesn’t fit in 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ic attributes require repeated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y datasets lead to very large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sets fundamentally different from smaller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store the entire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ying phenomenon chang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tic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based on parallel hyper-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ed axis better split attribute, rotate the hyper-planes to change structure of ‘true’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4419720"/>
            <a:ext cx="1905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143000" y="457200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184400" y="5181120"/>
            <a:ext cx="186372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371600" y="57913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4495680"/>
            <a:ext cx="19047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919920" y="4522680"/>
            <a:ext cx="325440" cy="17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324480" y="4522320"/>
            <a:ext cx="325440" cy="17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694480" y="4508640"/>
            <a:ext cx="325440" cy="17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876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tic Experiment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VFDT with 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illion train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ft inserted by periodically rotating hyper-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8% of test points change label each 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0 examples in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sampled every 10k examples throughout the run and aver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Rate vs. #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562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Size vs. #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410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ed View of Single 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ying Levels of Dr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76520" y="1881360"/>
            <a:ext cx="57909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f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With VFDT-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62720" y="21337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FDT most of the accuracy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: 1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FDT: 46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-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. 548 day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867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FDT-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6033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VF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F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28600" y="2171880"/>
          <a:ext cx="5124600" cy="37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71880"/>
                    <a:ext cx="51246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: Web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of all web requests from UW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.8 million requests over one-week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to predict which pages to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FDT does better for first 70% of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FDT’s performance improved near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ems to contain drift, but more study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tinuous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tch version of VFD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ery Fast Post Pru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tending general method to other algorith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e-Of-The-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base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 &amp; C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eam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 &amp; C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ecision trees important, need some more work to scale to today's probl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isk based metho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out one scan per level of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mpling can produce equivalent trees much fas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T/SLI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er, Agrawal, Meh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IBM Intelligent Miner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s the same tree as traditional method but works with data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can over the data per level of the induced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T/SLIQ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the dataset into one file per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alue, record 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sort each numeric attribute’s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one scan over each file, find best split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hash-tables to split the files maintaining sort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T/SLIQ Split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470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    |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7748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74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     |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798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   |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847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       |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6892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657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   |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994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     |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01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     |  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462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   |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851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81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    |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1561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|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4606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     |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656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     |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0705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4038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     |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     |  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397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2394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   |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2698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666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    |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003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971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|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572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540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|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4876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4844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     |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181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5149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     |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981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4680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     |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984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952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   |  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5289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525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    |  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5944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    |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899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     |  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62038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6172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   |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4387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tabl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873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Attr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hrke, Ganti, Ramakrishnan, L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s the same tree as traditional methods but can be as much as 3x faster than SPRINT/SLI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ngs work out learns more than one level of tree in one scan over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sample of data into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 trees via traditional methods on bootstrap samples from this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ny subset of the N trees that is exact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the subtree with a scan over al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fails revert to SPRINT/SLI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8:51:54Z</dcterms:created>
  <dc:creator>Unknown User</dc:creator>
  <dc:description/>
  <dc:language>en-US</dc:language>
  <cp:lastModifiedBy>ghulten</cp:lastModifiedBy>
  <cp:lastPrinted>2001-10-18T05:08:08Z</cp:lastPrinted>
  <dcterms:modified xsi:type="dcterms:W3CDTF">2001-10-18T08:39:41Z</dcterms:modified>
  <cp:revision>29</cp:revision>
  <dc:subject/>
  <dc:title>Scaling Decision Tree Induction</dc:title>
</cp:coreProperties>
</file>