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98800" cy="466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92400" y="0"/>
            <a:ext cx="2998800" cy="466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58480" y="699840"/>
            <a:ext cx="4675320" cy="350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22320" y="4440240"/>
            <a:ext cx="5146560" cy="4129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8803800"/>
            <a:ext cx="2998800" cy="466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92400" y="8803800"/>
            <a:ext cx="2998800" cy="466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A2042B55-18F2-4E78-BD4F-2C6CF182BA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031"/>
          <p:cNvSpPr/>
          <p:nvPr/>
        </p:nvSpPr>
        <p:spPr>
          <a:xfrm>
            <a:off x="3992400" y="8804160"/>
            <a:ext cx="2998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C93BC278-F08A-4150-87F0-E10D6D2217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58840" y="700200"/>
            <a:ext cx="4675320" cy="3506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22320" y="4440240"/>
            <a:ext cx="5146560" cy="4129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background:  the three academic theses I have written have been in the areas of denotational semantics, compiler optimizations, and dynamic analysis, respective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e excited!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Have a twinkle in my eye!  This is good research; it is exciting; share the fun I had and enthusiasm I feel.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Smile when I make a joke -- don’t be too dry, don’t sound mean.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Don’t go too fast through first part of talk.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Make eye contact.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031"/>
          <p:cNvSpPr/>
          <p:nvPr/>
        </p:nvSpPr>
        <p:spPr>
          <a:xfrm>
            <a:off x="3992400" y="8804160"/>
            <a:ext cx="2998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8CA79BFB-4569-4AB6-946C-5BA829E911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58840" y="700200"/>
            <a:ext cx="4675320" cy="35067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22320" y="4440240"/>
            <a:ext cx="5146560" cy="4129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“test suite” isn’t necessarily used for testing, but for any dynamic ana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031"/>
          <p:cNvSpPr/>
          <p:nvPr/>
        </p:nvSpPr>
        <p:spPr>
          <a:xfrm>
            <a:off x="3992400" y="8804160"/>
            <a:ext cx="2998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B4310425-A7FD-4FD9-8822-3D03073CF6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58840" y="700200"/>
            <a:ext cx="4675320" cy="3506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22320" y="4440240"/>
            <a:ext cx="5146560" cy="4129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uldn’t static analysis be as fast as dynamic analysis?  It manipulates more complex artifacts, but it gets done in fewer it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dynamic analysis may have to run over a large test suite, making it quite s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031"/>
          <p:cNvSpPr/>
          <p:nvPr/>
        </p:nvSpPr>
        <p:spPr>
          <a:xfrm>
            <a:off x="3992400" y="8804160"/>
            <a:ext cx="2998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42339D75-0C7F-4689-8E43-CA2DEFFD72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58840" y="700200"/>
            <a:ext cx="4675320" cy="35067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22320" y="4440240"/>
            <a:ext cx="5146560" cy="4129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:  both examine a subset of exec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1031"/>
          <p:cNvSpPr/>
          <p:nvPr/>
        </p:nvSpPr>
        <p:spPr>
          <a:xfrm>
            <a:off x="3992400" y="8804160"/>
            <a:ext cx="2998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F10491CC-23E1-421C-BFAF-7AE4C6B407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58840" y="700200"/>
            <a:ext cx="4675320" cy="3506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22320" y="4440240"/>
            <a:ext cx="5146560" cy="4129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-underst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031"/>
          <p:cNvSpPr/>
          <p:nvPr/>
        </p:nvSpPr>
        <p:spPr>
          <a:xfrm>
            <a:off x="3992400" y="8804160"/>
            <a:ext cx="2998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948741F2-ED6C-455C-A0B3-60D897A81D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58840" y="700200"/>
            <a:ext cx="4675320" cy="3506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22320" y="4440240"/>
            <a:ext cx="51465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031"/>
          <p:cNvSpPr/>
          <p:nvPr/>
        </p:nvSpPr>
        <p:spPr>
          <a:xfrm>
            <a:off x="3992400" y="8804160"/>
            <a:ext cx="2998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6C21EC79-C34A-4333-AD29-43B7C659EC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58840" y="700200"/>
            <a:ext cx="4675320" cy="3506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22320" y="4440240"/>
            <a:ext cx="5146560" cy="4129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was also inspired by previous work by Cook and others, and there has been followon work by Renieris and oth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031"/>
          <p:cNvSpPr/>
          <p:nvPr/>
        </p:nvSpPr>
        <p:spPr>
          <a:xfrm>
            <a:off x="3992400" y="8804160"/>
            <a:ext cx="2998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66099C2F-CA67-4DB6-A966-99C19B03C7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58840" y="700200"/>
            <a:ext cx="4675320" cy="3506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22320" y="4440240"/>
            <a:ext cx="5146560" cy="4129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ts of program analyses look something like hybrids.  (The better an abstract interpretation is, the more it looks like execution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l checking: lossy vs. lossless, infinite vs. finite s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031"/>
          <p:cNvSpPr/>
          <p:nvPr/>
        </p:nvSpPr>
        <p:spPr>
          <a:xfrm>
            <a:off x="3992400" y="8804160"/>
            <a:ext cx="2998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1005DAE1-1E93-497F-AB87-15B512144B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58840" y="700200"/>
            <a:ext cx="4675320" cy="3506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22320" y="4440240"/>
            <a:ext cx="5146560" cy="4129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:  both examine a subset of exec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031"/>
          <p:cNvSpPr/>
          <p:nvPr/>
        </p:nvSpPr>
        <p:spPr>
          <a:xfrm>
            <a:off x="3992400" y="8804160"/>
            <a:ext cx="2998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96EDC815-214B-4476-963E-C13CE784EC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58840" y="700200"/>
            <a:ext cx="4675320" cy="3506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22320" y="4440240"/>
            <a:ext cx="5146560" cy="4129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 as previous slide, but I have highlighted the facts that are raised by opponents, not proponents, of each tech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031"/>
          <p:cNvSpPr/>
          <p:nvPr/>
        </p:nvSpPr>
        <p:spPr>
          <a:xfrm>
            <a:off x="3992400" y="8804160"/>
            <a:ext cx="2998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1260C64E-5D6E-4901-ABE6-FC5079CA0B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58840" y="700200"/>
            <a:ext cx="4675320" cy="35067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22320" y="4440240"/>
            <a:ext cx="51465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031"/>
          <p:cNvSpPr/>
          <p:nvPr/>
        </p:nvSpPr>
        <p:spPr>
          <a:xfrm>
            <a:off x="3992400" y="8804160"/>
            <a:ext cx="2998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C2AFA868-2250-4F47-AE58-DAAB3B2865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58840" y="700200"/>
            <a:ext cx="4675320" cy="3506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22320" y="4440240"/>
            <a:ext cx="5146560" cy="4129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:  both examine a subset of exec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031"/>
          <p:cNvSpPr/>
          <p:nvPr/>
        </p:nvSpPr>
        <p:spPr>
          <a:xfrm>
            <a:off x="3992400" y="8804160"/>
            <a:ext cx="2998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4A82DE53-E80D-4A03-B3A6-48176CD087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58840" y="700200"/>
            <a:ext cx="4675320" cy="3506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22320" y="4440240"/>
            <a:ext cx="5146560" cy="4129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sentially, having a small data structure description becomes a new requirement on the test suite (if you are a testing person, this is your point of view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031"/>
          <p:cNvSpPr/>
          <p:nvPr/>
        </p:nvSpPr>
        <p:spPr>
          <a:xfrm>
            <a:off x="3992400" y="8804160"/>
            <a:ext cx="2998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B2EF4F1C-4FD4-40D2-8755-1502087DEA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58840" y="700200"/>
            <a:ext cx="4675320" cy="35067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22320" y="4440240"/>
            <a:ext cx="5146560" cy="4129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:  both examine a subset of exec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031"/>
          <p:cNvSpPr/>
          <p:nvPr/>
        </p:nvSpPr>
        <p:spPr>
          <a:xfrm>
            <a:off x="3992400" y="8804160"/>
            <a:ext cx="2998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84DCCD40-0B6D-4A41-8D57-E956FC3DD1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58840" y="700200"/>
            <a:ext cx="4675320" cy="3506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22320" y="4440240"/>
            <a:ext cx="5146560" cy="4129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’m essentially saying that dynamic analysis should invade the realm of static ana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t worked in the realm of program semantics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031"/>
          <p:cNvSpPr/>
          <p:nvPr/>
        </p:nvSpPr>
        <p:spPr>
          <a:xfrm>
            <a:off x="3992400" y="8804160"/>
            <a:ext cx="2998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04C408D7-6B47-493E-B446-6B4216C2BE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58840" y="700200"/>
            <a:ext cx="4675320" cy="35067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22320" y="4440240"/>
            <a:ext cx="5146560" cy="4129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:  choose good abstractions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fer functions.  (I am lumping in the transfer function with the abstraction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ing summaries is important, to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031"/>
          <p:cNvSpPr/>
          <p:nvPr/>
        </p:nvSpPr>
        <p:spPr>
          <a:xfrm>
            <a:off x="3992400" y="8804160"/>
            <a:ext cx="2998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8C5377FE-1DB3-4A70-8B47-F4D6BF08AE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58840" y="700200"/>
            <a:ext cx="4675320" cy="3506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22320" y="4440240"/>
            <a:ext cx="5146560" cy="4129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of speed:  pointer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BAE7-3821-46D2-85B6-536D6F8F3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9705-D615-42FF-80AC-5FA0DE72E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2AEE-1374-44F7-A6D6-AF361684A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0CA5-A32C-4931-B756-70078A9AA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63BC-3A43-455D-8544-3BED3CB7B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25DE-39AB-4FF9-8D68-101A738B2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5D14-BC85-4FBA-A956-61E8F1167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86E4-D183-42CA-8F77-D31041A28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8134-569C-437A-9105-E84ABC285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302F-091E-430D-B51B-57B87D25C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A12E-FBC6-4334-A37D-EE27C2F7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7571-1061-4E38-9A71-D25CBA85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9B51F-6C74-4531-BAEE-BD7CDFB5EC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6705720" y="6553080"/>
            <a:ext cx="2209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ichael Ernst, page </a:t>
            </a:r>
            <a:fld id="{7FD5A02B-4223-4C06-8140-84C33AC7131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Static and dynamic analysis: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synergy and duality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2971440"/>
            <a:ext cx="78487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chael Ern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SE 503, Winter 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ct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Research challenge:</a:t>
            </a:r>
            <a:br>
              <a:rPr sz="4000"/>
            </a:b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What to measure?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verage or frequ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ments, branches, paths, procedure calls, types, method disp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s compu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, array ind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 time, memory u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 oracle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ities among runs </a:t>
            </a: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[Podgurski 99, Reps 97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ke abstraction, determines what is re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Research challenge:</a:t>
            </a:r>
            <a:br>
              <a:rPr sz="4000"/>
            </a:b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Choose good tests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est suite determines the expense (in time and sp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est suite determines the accuracy (what executions are never se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s accurate results are poor for applications that require correct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domains do not require correctnes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What information is being collected also mat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Dynamic analysis recap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as fast as execution (over a test suite, and allowing for data collec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 alia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cise:  no abstraction or approx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sound:  results may not generalize to future exec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s execution environment or test su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Static analysis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stract doma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ow if prec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erv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e to abstr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e to conservat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rete execu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ow if exhaus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rec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approx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s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not gener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4572000" y="533520"/>
            <a:ext cx="3886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Dynamic analysi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Outline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of static and dynamic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ynergy:  combining static and dynamic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ggre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na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Hybr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ality:  subsets of behavi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258480" y="2589840"/>
            <a:ext cx="5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Combining static and dynamic analysis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gregation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- or post-process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piring analogous analyses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problem, different dom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ybrid analyses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end both approa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1.  Aggregation:  </a:t>
            </a:r>
            <a:br>
              <a:rPr sz="4000"/>
            </a:b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Pre- or post-processing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output of one analysis as input to an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namic then sta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le-directed compilation:  unroll loops, inline, reorder dispatch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ify properties observed at run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c then dynam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e instrumentation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icient branch/path profi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harge obligations statically (type/array check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 checking (e.g., Java, including generic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cate suspicious code to test more thorough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2.  Analogous analyses:</a:t>
            </a:r>
            <a:br>
              <a:rPr sz="4000"/>
            </a:b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Same problem, different domain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analysis problem can be solved in either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 safety:  no memory corruption or operations on wrong types of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c type-che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type-che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icing:  what computations could affect a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c:  reachability over dependence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: 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Memory checking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 find array bound violations, uses of uninit.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ify </a:t>
            </a:r>
            <a:r>
              <a:rPr b="0" lang="en-US" sz="2000" spc="-1" strike="noStrike">
                <a:solidFill>
                  <a:srgbClr val="993300"/>
                </a:solidFill>
                <a:latin typeface="Times New Roman"/>
              </a:rPr>
              <a:t>[Hastings 92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run-time instru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gged memory:  2 bits (allocated, initialized) per by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instruction checks/updates the ta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ocate:  set “A” bit, clear “I” b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rite:  require “A” bit, set “I” b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ad:  require “I” b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locate:  clear “A” b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CLint </a:t>
            </a:r>
            <a:r>
              <a:rPr b="0" lang="en-US" sz="2000" spc="-1" strike="noStrike">
                <a:solidFill>
                  <a:srgbClr val="993300"/>
                </a:solidFill>
                <a:latin typeface="Times New Roman"/>
              </a:rPr>
              <a:t>[Evans 96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compile-time dataflow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stract state contains allocated and initialized 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transfer function checks/updates the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cal analyse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ther example:  atomicity checking </a:t>
            </a:r>
            <a:r>
              <a:rPr b="0" lang="en-US" sz="2000" spc="-1" strike="noStrike">
                <a:solidFill>
                  <a:srgbClr val="993300"/>
                </a:solidFill>
                <a:latin typeface="Times New Roman"/>
              </a:rPr>
              <a:t>[Flanagan 2003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Specifications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fication chec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cally:  theorem-pro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namically: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sse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at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cation gen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cally:  by hand or abstract interpretation </a:t>
            </a: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[Cousot 77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namically:  by invariant detection </a:t>
            </a: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[Ernst 99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eporting unfalsified 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Goals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m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c and dynamic analyses are more similar than many people belie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erson’s view of their relation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urage blending of the techniques and commun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productive discu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Your analogous analyses here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ok for gaps with no analogous analys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y using the same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be open to completely different approac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is still low-hanging fruit to be harve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3.  Hybrid analyses:</a:t>
            </a:r>
            <a:br>
              <a:rPr sz="4000"/>
            </a:b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Blending static and dynamic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e static and dynamic analy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mere aggregation, but a new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iplined trade-off between precision and soundness:  find the sweet spot between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Possible starting points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ses that trade off run-time and prec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abstractions (at different program poin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 between static and dynamic at analysis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gnore some available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ine only some paths </a:t>
            </a:r>
            <a:r>
              <a:rPr b="0" lang="en-US" sz="2000" spc="-1" strike="noStrike">
                <a:solidFill>
                  <a:srgbClr val="993300"/>
                </a:solidFill>
                <a:latin typeface="Times New Roman"/>
              </a:rPr>
              <a:t>[Evans 94, Detlefs 98, Bush 00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rge based on observation that both examine only a subset of executions (next section of tal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 optimistic vs. pessimistic trea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examples:  (bounded) model checking, security analyses, delta debugging </a:t>
            </a: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[Zeller 99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Outline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of static and dynamic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ergy:  combining static and dynamic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gre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br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uality:  subsets of behavi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258480" y="4723200"/>
            <a:ext cx="5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Static analysis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stract doma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ow if prec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onserv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e to abstr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e to conservat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rete execu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ow if exhaus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c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approx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Uns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not gener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4572000" y="533520"/>
            <a:ext cx="3886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Dynamic analysi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Sound dynamic analysis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serve every possible executi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  infinite number of exec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:  test case selection and gen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cy tweaks to an algorithm that works perfectly in theory but exhausts resources in prac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Precise static analysis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son over full program stat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  infinite number of exec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:  data or execution abstr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cy tweaks to an algorithm that works perfectly in theory </a:t>
            </a: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[Cousot 77]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exhausts resources in prac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Dynamic analysis focuses on</a:t>
            </a:r>
            <a:br>
              <a:rPr sz="4000"/>
            </a:b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a subset of executions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xecutions in the test su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sy to enume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cterizes program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ically optimistic for other exec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Static analysis focuses on</a:t>
            </a:r>
            <a:br>
              <a:rPr sz="4000"/>
            </a:b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a subset of data structures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precise for data or control described by the abstr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ise logica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ly conservative elsewhere (safety n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imiting </a:t>
            </a: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[Jones 81]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resents each object reachable by ≤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in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ups together (approximates) more distant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Dual views of subsets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ion and data subsets are views on the same sp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 execution subset corresponds to a data sub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ions induce data structures and 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 data subset corresponds to an execution sub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t of objects represents the executions that generate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set description may be concise in one domain but complex in the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f the test suite was generated from a specific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analysis may be conservative over other behavi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Outline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of static and dynamic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ergy:  combining static and dynamic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gre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br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ality:  subsets of behavi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Differences between the approaches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c and dynamic analysis communities work with different subs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subset and characterization is better for certain u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subsets have a concise description in both domai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gment a test suite to fill out the data structures that it creates, making the data structure description a smaller logical formu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A hybrid view of subsets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ing together static and dynamic analysis by unifying their subset descri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subsets with small descriptions with respect to both data structures and exec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 new, smaller 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antages of this 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ly compare previous disparate analy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ly apply analyses to other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 between the approa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tain insight in order to devise and optimize analy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Outline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of static and dynamic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ergy:  combining static and dynamic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gre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br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ality:  subsets of behavi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258480" y="5333040"/>
            <a:ext cx="5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Potential pitfalls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ogies between analy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pplications tolerate unsoundness/impreci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more low-hanging fru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static and dynamic approaches di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brid analy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o measure and trade off precision and sound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 “partial soundness”?  What is in betwee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static analyses are abstract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stic vs. pessimistic treatment of unseen exec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set character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he unified characterization of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Conclusion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c and dynamic analysis share many similar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ies should be clo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analogous analy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successes so f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brid approach holds great prom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ses increasingly look like points in this continu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fied theory of subsets of executions/data is 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Our) future work:  explore this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Discussion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Static analysis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  compiler optimizations, program verifie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ine program text (no execu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ild a model of program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bstraction of the run-time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son over possible behavi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, “run” the program over the abstract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Abstract interpretation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ically implemented via dataflow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program statement’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ransfer fun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dicates how it transforms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 What is the transfer function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y = x++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Selecting an abstract domain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4343400" y="1676520"/>
            <a:ext cx="4572000" cy="135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= { 3, 5, 7 }; y = { 9, 11, 13 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 = x++;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= { 4, 6, 8 }; y = { 3, 5, 7 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380880" y="4191120"/>
            <a:ext cx="3505320" cy="135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prime; y is pri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 = x++;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nything; y is pri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380880" y="2209680"/>
            <a:ext cx="2895840" cy="135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odd; y is od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 = x++;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even; y is od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3962520" y="5105520"/>
            <a:ext cx="5029200" cy="1432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f(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…,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;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f(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…,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 = x++;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;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4191120" y="3429000"/>
            <a:ext cx="4724280" cy="135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3, y=1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5, y=9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7, y=1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 = x++;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4, y=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6, y=5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8, y=7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Research challenge:</a:t>
            </a:r>
            <a:br>
              <a:rPr sz="4000"/>
            </a:b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Choose good abstractions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bstraction determines the expense (in time and spa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bstraction determines the accuracy (what information is lo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ss accurate results are poor for applications that require prec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not conclude all true properties in the gramm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Static analysis recap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ow to analyze large models of state, so use abstr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ervative:  account for abstracted-away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nd:  (weak) properties are guaranteed to be 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Some static analyses are not s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Dynamic analysis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  profiling, t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ecute program (over some inpu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mpiler provides the 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serve exec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s instrumentation infra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choose what to measure, and what test ru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25T22:38:30Z</dcterms:created>
  <dc:creator>reed</dc:creator>
  <dc:description/>
  <dc:language>en-US</dc:language>
  <cp:lastModifiedBy>cse</cp:lastModifiedBy>
  <cp:lastPrinted>2000-03-22T16:58:39Z</cp:lastPrinted>
  <dcterms:modified xsi:type="dcterms:W3CDTF">2010-01-04T17:06:21Z</dcterms:modified>
  <cp:revision>124</cp:revision>
  <dc:subject/>
  <dc:title>Predicate Dispatching: A Unified Theory of Dispatch</dc:title>
</cp:coreProperties>
</file>