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9880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92400" y="0"/>
            <a:ext cx="299880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8480" y="699840"/>
            <a:ext cx="4675320" cy="35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03800"/>
            <a:ext cx="2998800" cy="466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92400" y="8803800"/>
            <a:ext cx="2998800" cy="466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22ABE05-00C8-4C82-9872-480A90987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3D97A31-5C8F-4CD9-AAF5-215E08A66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ackground:  the three academic theses I have written have been in the areas of denotational semantics, compiler optimizations, and dynamic analysis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 excited!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Have a twinkle in my eye!  This is good research; it is exciting; share the fun I had and enthusiasm I feel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Smile when I make a joke -- don’t be too dry, don’t sound mean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o too fast through first part of talk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ake eye contact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FB14E79-8914-4E66-844A-9B8A1CBCF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test suite” isn’t necessarily used for testing, but for any dynamic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E5588C0-9577-400F-9B8E-0B40C806F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n’t static analysis be as fast as dynamic analysis?  It manipulates more complex artifacts, but it gets done in fewer it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ynamic analysis may have to run over a large test suite, making it quite s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0317F23-8975-45B9-AB7C-2AE610503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 both examine a subset of exec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D0DF81B-BED7-4D03-BA22-2AFA78AB7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-underst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BBCD4C5-F6C6-4246-B1D4-3941638F2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F982857-8B0B-469F-94F0-762D9BAAC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s also inspired by previous work by Cook and others, and there has been followon work by Renieris and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77F93DB-9924-49DF-9C0A-E1AFA6A8E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program analyses look something like hybrids.  (The better an abstract interpretation is, the more it looks like execution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 checking: lossy vs. lossless, infinite vs. finite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9FFB1D8-C632-4038-8944-ED3F3072C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 both examine a subset of exec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0268C1F-4941-40F1-8A85-195B87680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as previous slide, but I have highlighted the facts that are raised by opponents, not proponents, of each tech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F78854A-CF29-43B6-B9E3-00C81173E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160DD42-595D-49EC-BF02-8E5C1A2C8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 both examine a subset of exec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881D2F5-2CA9-4C90-8006-B205F8BBB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ly, having a small data structure description becomes a new requirement on the test suite (if you are a testing person, this is your point of view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B9A4F7E-311F-4ADE-8B24-67C57A020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 both examine a subset of exec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5A426B4-2FB0-4FA6-8299-A77AB2527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essentially saying that dynamic analysis should invade the realm of static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t worked in the realm of program semantic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EADEEA4-CD13-45BF-82B6-F7FA63311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:  choose good abstraction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functions.  (I am lumping in the transfer function with the abstractio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ng summaries is important,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7CFB154-AEB2-4965-A96C-D34CAEAE4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speed:  pointer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790-E921-41BE-9114-7D1936E9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94D-5534-4998-831A-50BB0356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C65-3CD5-495F-B8B0-4BFE08C9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0D1-160F-466C-88DE-2E7305BF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31F-33EA-4E00-88F7-D096C1FC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1F6-467A-4428-B338-20B89C58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1BE-9A3B-426B-AE3D-24FF02C9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175-D3B0-4DD7-8D40-7237D12F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785-D335-4036-B4A2-C763C444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3772-C491-4AB4-BED0-FCDD586D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138-DD20-464F-A699-123C6C9B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31B-8F2A-4474-BDF8-0D67CADF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8C8D-B171-42FD-9308-E83C5932F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705720" y="6553080"/>
            <a:ext cx="2209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hael Ernst, page </a:t>
            </a:r>
            <a:fld id="{504EF634-A92E-4D9B-A196-CB90092FC2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tatic and dynamic analysis: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ynergy and duality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hael Er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E 503, Winter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Research challenge: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What to measure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age or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ments, branches, paths, procedure calls, types, method dis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 comp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, array in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time, memory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racl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ities among runs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[Podgurski 99, Reps 9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bstraction, determines what is re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Research challenge: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hoose good test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st suite determines the expense (in time and sp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st suite determines the accuracy (what executions are never se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accurate results are poor for applications that require correc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domains do not require correctn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What information is being collected also ma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ynamic analysis recap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as fast as execution (over a test suite, and allowing for data colle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ali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e:  no abstraction or approx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ound:  results may not generalize to future exec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s execution environment or test su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tatic analysi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doma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if pre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abs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conservat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execu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if exhaus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approx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gener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572000" y="53352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ynamic analysi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static and dynamic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ynergy:  combining static and dynamic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a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ybr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ality:  subsets of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58480" y="2589840"/>
            <a:ext cx="5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ombining static and dynamic analysi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 or post-process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iring analogous analys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problem, different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brid analys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end both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1.  Aggregation: 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Pre- or post-process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utput of one analysis as input to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then 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e-directed compilation:  unroll loops, inline, reorder dispatch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y properties observed at ru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then dyna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instrumentation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t branch/path profi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harge obligations statically (type/array chec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checking (e.g., Java, including gener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suspicious code to test more thoroug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2.  Analogous analyses: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Same problem, different domai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analysis problem can be solved in either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safety:  no memory corruption or operations on wrong types of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type-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type-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cing:  what computations could affect a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:  reachability over dependenc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: 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Memory checking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 find array bound violations, uses of uninit.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ify 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[Hastings 92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run-time instr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ged memory:  2 bits (allocated, initialized) per 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instruction checks/updates the t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cate:  set “A” bit, clear “I”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:  require “A” bit, set “I”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:  require “I”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locate:  clear “A”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Lint 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[Evans 96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compile-time dataflow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tract state contains allocated and initialized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ransfer function checks/updates th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analys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example:  atomicity checking 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[Flanagan 200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pecification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ation che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ally:  theorem-pr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ally: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s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tion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ally:  by hand or abstract interpretation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[Cousot 7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ally:  by invariant detection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[Ernst 99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porting unfalsified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Goal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and dynamic analyses are more similar than many people beli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erson’s view of their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blending of the techniques and comm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productive discu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Your analogous analyses her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for gaps with no analogous analy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using the sam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be open to completely different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still low-hanging fruit to be harv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3.  Hybrid analyses: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Blending static and dynamic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static and dynamic analy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ere aggregation, but a new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iplined trade-off between precision and soundness:  find the sweet spot betwee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ossible starting point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es that trade off run-time and pr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bstractions (at different program poi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static and dynamic at analysi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ore some availabl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only some paths 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[Evans 94, Detlefs 98, Bush 0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based on observation that both examine only a subset of executions (next section of tal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 optimistic vs. pessimistic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examples:  (bounded) model checking, security analyses, delta debugging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[Zeller 99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static and dynamic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ergy:  combining static and dynamic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uality:  subsets of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8480" y="4723200"/>
            <a:ext cx="5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tatic analysi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doma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if pre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serv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abs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conservat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execu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if exhaus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approx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gener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572000" y="53352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ynamic analysi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ound dynamic analysi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rve every possible execu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 infinite number of exec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 test case selection and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cy tweaks to an algorithm that works perfectly in theory but exhausts resources in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recise static analysi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over full program st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 infinite number of exec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 data or execution abs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cy tweaks to an algorithm that works perfectly in theory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[Cousot 77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exhausts resources in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Dynamic analysis focuses on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a subset of execution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ecutions in the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enum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zes program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optimistic for other exec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Static analysis focuses on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a subset of data structur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precise for data or control described by the abs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ise logica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conservative elsewhere (safety 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imiting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[Jones 81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s each object reachable by 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 together (approximates) more distant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ual views of subset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and data subsets are views on the same sp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execution subset corresponds to a data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s induce data structures and 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data subset corresponds to an execution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of objects represents the executions that generat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t description may be concise in one domain but complex in the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the test suite was generated from a spec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analysis may be conservative over other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static and dynamic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ergy:  combining static and dynamic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ality:  subsets of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Differences between the approach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and dynamic analysis communities work with different sub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ubset and characterization is better for certain 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ubsets have a concise description in both doma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ment a test suite to fill out the data structures that it creates, making the data structure description a smaller logical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A hybrid view of subset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ng together static and dynamic analysis by unifying their subset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subsets with small descriptions with respect to both data structures and exec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new, smaller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 of this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ly compare previous disparate analy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ly apply analyses to other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the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 insight in order to devise and optimize analy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static and dynamic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ergy:  combining static and dynamic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ality:  subsets of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58480" y="5333040"/>
            <a:ext cx="5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otential pitfall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ies between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pplications tolerate unsoundness/impreci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more low-hanging fru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static and dynamic approaches di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measure and trade off precision and soun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“partial soundness”?  What is in betwe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static analyses are abstract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stic vs. pessimistic treatment of unseen exec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t 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unified characterization of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onclus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and dynamic analysis share many simila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ies should be clo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alogous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uccesses so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approach holds great 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es increasingly look like points in this continu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ied theory of subsets of executions/data is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ur) future work:  explore this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iscuss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tatic analysi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 compiler optimizations, program verifi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program text (no execu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a model of program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bstraction of the run-time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over possible 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“run” the program over the abstrac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Abstract interpret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implemented via dataflow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rogram statement’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fer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icates how it transforms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What is the transfer function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y = x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Selecting an abstract domai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343400" y="1676520"/>
            <a:ext cx="4572000" cy="135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{ 3, 5, 7 }; y = { 9, 11, 13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x++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{ 4, 6, 8 }; y = { 3, 5, 7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80880" y="4191120"/>
            <a:ext cx="3505320" cy="135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prime; y is pr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x++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nything; y is pr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0880" y="2209680"/>
            <a:ext cx="2895840" cy="135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odd; y is od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x++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even; y is od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962520" y="5105520"/>
            <a:ext cx="5029200" cy="14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x++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4191120" y="3429000"/>
            <a:ext cx="4724280" cy="135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3, y=1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5, y=9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7, y=1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x++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4, y=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6, y=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8, y=7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Research challenge: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hoose good abstraction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bstraction determines the expense (in time and sp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bstraction determines the accuracy (what information is l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accurate results are poor for applications that require pr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onclude all true properties in the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tatic analysis recap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to analyze large models of state, so use abs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ve:  account for abstracted-away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nd:  (weak) properties are guaranteed to be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Some static analyses are not 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ynamic analysi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 profiling,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program (over some inpu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iler provides th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rve exec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instrumentation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choose what to measure, and what test r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5T22:38:30Z</dcterms:created>
  <dc:creator>reed</dc:creator>
  <dc:description/>
  <dc:language>en-US</dc:language>
  <cp:lastModifiedBy>cse</cp:lastModifiedBy>
  <cp:lastPrinted>2000-03-22T16:58:39Z</cp:lastPrinted>
  <dcterms:modified xsi:type="dcterms:W3CDTF">2010-01-04T17:06:21Z</dcterms:modified>
  <cp:revision>124</cp:revision>
  <dc:subject/>
  <dc:title>Predicate Dispatching: A Unified Theory of Dispatch</dc:title>
</cp:coreProperties>
</file>