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95CD7-6587-4816-9E5B-091F46CA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ffilia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73A80-9C26-4BC1-B8B5-47E92B4D93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179-3582-4935-826B-BC574F37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72D-B9F6-4155-93E7-960ED9FF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CC1-A288-4337-AAD5-A0686D6B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B5C-9809-44B5-A53A-F9E467E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484-6CB0-4744-B9C1-EB15780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D3C2-4595-417C-8C0A-D431DB52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914-970F-4610-B62A-481291C0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7D1-11A4-4633-9CBC-68DB9318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AC7-0179-4301-8EE0-9272695B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A84C-37C7-4BBD-8679-7749C9F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45DE-9CE0-40D6-A30E-2006DAF5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AD0-A27F-4B33-8378-6410A7B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445E-C2E5-49DC-BCC4-3981F36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EB87-ED7F-4B02-957E-5812073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40C8-4C96-471C-B1CD-5082BB0D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5199-F07E-4426-AB7A-89D8F3C8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EA83-C502-4245-8F68-A1350E7A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B50-E9ED-4DE7-AC00-5388808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950-02B0-488C-8EBC-171B6AE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D5C-999E-4A40-B1D8-9614DE1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4F6-EF54-402B-9151-FFC1F13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8D0-27B7-406A-BD05-477288A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4EA8-8B6A-4751-8983-7D0D153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05B-387F-4AB0-9833-8204186F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ECAC84-AEAC-4CF2-B5BC-5B005C0676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2166A-6E29-4E73-AFFC-AD9C7AA8EB9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SE 503:  Software 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:  Michael Er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of lectures:  classic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of lectures:  current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in-clas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project to put the ideas into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you a better researcher, in any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ho ca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ectually exciting and d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s both “hard” and “soft” areas of comp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s to PL, security, systems, architecture, databases, … (many mor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s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503 Software Engineering </a:t>
            </a: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:  how to write goo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et a good job at Amazon/Google/Microso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methods and ideas in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is may make you a more thoughtful develo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lternating yea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depth examination of one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 software evolution, program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tandard type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view type system as a set of constraints to compute legal refacto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bstract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k.a. dataflow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” your program st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n abstract domain; e.g., { +, 0, -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semantics to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t beginning of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possible values of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daily on aeronautics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implest terms, exhaustiv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make this sc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bstractions that lose just the right amount of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enco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nalysis back-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Decision Diagrams (BD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to 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79:  “Problem X reduces to SAT, so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9:  “Problem X reduces to SAT, so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ynam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i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example-guided refi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olic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enance and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roader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sion vs.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vs.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ning analysis to the real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  <Words>315</Words>
  <Paragraphs>70</Paragraphs>
  <Company>uw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27:35Z</dcterms:created>
  <dc:creator>cse</dc:creator>
  <dc:description/>
  <dc:language>en-US</dc:language>
  <cp:lastModifiedBy>cse</cp:lastModifiedBy>
  <dcterms:modified xsi:type="dcterms:W3CDTF">2010-01-04T17:07:37Z</dcterms:modified>
  <cp:revision>8</cp:revision>
  <dc:subject/>
  <dc:title>CSE 503: 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