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6F809F-7A08-4AB5-A3AB-7B134CC55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ffiliated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C6BCEF-C92D-4DFB-9717-82FC902626E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D92-3A23-41EB-A624-012F7D9D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2A54-FA94-43E2-A15E-166B01C5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DEF-CFAF-4AE5-ADC0-745DF1CD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0C7-895D-4172-BD8E-2D81C552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3430-2CB3-4DF9-BE34-9E80D05C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B5AB-18E5-4CD6-94C0-B3EA5C8F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9B32-0D32-4E1C-9D2C-706AC96D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CED5-9DEE-4533-942C-69E25649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C614-EF95-419F-BF11-401C00BB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510F-5A8A-4541-A926-76D7F3A2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B0F3-C682-437B-A84C-02F2F571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679D-6598-488D-B36F-6F02C660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5C8C-5EBC-4839-BC06-C1A42A2F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7ECA-D6BB-426D-ABE3-17BB7EDE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6368-D932-4BE1-A087-B0AE3CEC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CB76-311E-4BD7-8782-CA368A6F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B337-DF7A-414A-BCE5-8EAB1333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A25-EF77-4F95-A5B0-10C2348A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09E-EB20-4658-BC8B-AAC9EF66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7CB-5BF3-4DDB-84CA-6EEB2B7A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76B-3FCF-485A-9601-9CFD6C7D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C8D-D83D-4410-886E-36E4D423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A79-C914-4A6C-A4BB-D6886421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851-80C8-487C-99E2-80160C43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93F345-8FCD-4062-A6CE-501821F2631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4433BB-5BAF-4442-8FFC-7973040B62E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CSE 503:  Software Engine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t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r:  Michael Er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% of lectures:  classic 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% of lectures:  current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in-class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 project to put the ideas into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s you a better researcher, in any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Who car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llectually exciting and de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ns both “hard” and “soft” areas of compu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ons to PL, security, systems, architecture, databases, … (many more!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s cre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503 Software Engineering </a:t>
            </a:r>
            <a:r>
              <a:rPr b="1" i="1" lang="en-US" sz="4400" spc="-1" strike="noStrike">
                <a:solidFill>
                  <a:srgbClr val="0000ff"/>
                </a:solidFill>
                <a:latin typeface="Calibri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:  how to write good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get a good job at Amazon/Google/Microso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methods and ideas in 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his may make you a more thoughtful develop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lternating yea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ad ov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-depth examination of one top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:  software evolution, program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ype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standard type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 view type system as a set of constraints to compute legal refactor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Abstract interpre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k.a. dataflow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” your program st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an abstract domain; e.g., { +, 0, -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 semantics to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at beginning of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e possible values of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daily on aeronautics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implest terms, exhaustive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make this sca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abstractions that lose just the right amount of pr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t enco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Analysis back-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nary Decision Diagrams (BD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tion to S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79:  “Problem X reduces to SAT, so it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a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9:  “Problem X reduces to SAT, so it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as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l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ynamic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i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 cre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erexample-guided refin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olic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pid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tenance and 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Broader the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ision vs.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 vs. transpar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ning analysis to the real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  <Words>315</Words>
  <Paragraphs>70</Paragraphs>
  <Company>uw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6:27:35Z</dcterms:created>
  <dc:creator>cse</dc:creator>
  <dc:description/>
  <dc:language>en-US</dc:language>
  <cp:lastModifiedBy>cse</cp:lastModifiedBy>
  <dcterms:modified xsi:type="dcterms:W3CDTF">2010-01-04T17:07:37Z</dcterms:modified>
  <cp:revision>8</cp:revision>
  <dc:subject/>
  <dc:title>CSE 503:  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1</vt:r8>
  </property>
</Properties>
</file>