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154-8ECC-45B2-868F-C041896B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AC7-A29C-4CA9-9016-1F25714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99F-D6B9-4710-8D85-285DB7B4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D57-2421-4006-BE99-CB9DD98D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8CC-76CF-445A-BABC-D9DE706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585-F05C-4ED7-AC1F-771FA8E9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E08-0C4C-423C-A9A8-FAB88C66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A43-7FC3-4D26-B5D7-7C8CD67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E49-A81B-4648-BA86-2EB3235C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342-FFE8-4A50-B673-4D08DFC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8E4-13B4-4400-A80A-73581968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A81-53B9-4FE0-871C-10CA427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816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316-2BA7-4538-AFE7-798C42F2A0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-</a:t>
            </a:r>
            <a:fld id="{8D686E24-18C1-419B-B50A-0713B27A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ighlights of Object-Database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s a few words about Deductive Databases (Chapter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CE9-10D1-4B54-A594-0AADCA2A0D4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32FC-1E81-419F-AC6F-D6B96F3CB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 Identifiers (OIDs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 (database-wide) identifier for each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in concept to a pointer, but is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of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bject can reference another via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omplex embedding without data du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at similar to use of a foreig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referential integr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880-32D9-4F3B-A7DD-4681F64BE9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9C34A-C731-4E64-A8FF-19418BD0E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ybrids and Compromises 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ming from a traditional RD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retain relational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upport for 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be support for specialized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OIDs and referenc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existing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3/SQL4 will have OO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FE2-97F6-4B0B-8295-CA1A2F3E92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B9A4A-4DAB-4555-B6AA-26E85C0C83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ybrids and Compromises I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ming from C++/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"persistence”: class objects automatically saved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P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D70-0B53-4C41-877B-F347D6AC2E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2E9FA-E1A5-4A0B-9BA2-C4F6F4F75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sisten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a: it's easy for a program to work with a complex data structure in memory, but hard to flatten it into a fi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be convenient if some variables w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could exist on disk between executions of the program, i.e., be part of the D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trictly on OO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hallenge: mapping OIDs between in-memory pointers and disk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ointer swizzling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393-B2F8-4865-9C61-1EA5036ACB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E0C49-D8F3-4AA9-8314-B7820539CA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llenges for Query Languag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L: coordinating PL with 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io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is vi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all operations be predef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"query"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play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: user must “register” methods with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89B-4A3C-4611-88FD-BE4E79C152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16CF6-AEFE-40C9-B046-23C5320D50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O Wrapu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DBMSs are evolving into ORDBM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AD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old reliable stuff (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ming: Web as a DB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95B-6D83-4060-B98E-057C366B9B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F1068-F9BA-4651-975A-C8F89718B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ductive Databases 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chapte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(non-OO) approach to relieving relational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s recursive queries such as transitive closures: “Give me all of John’s ancestor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at expressing complex constraints, making deductions and discoverie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viewed as a set of facts and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w can be viewed as a fact which satisfies a pr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F07-1418-4ED1-82BE-03A03D425C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055F9-CFDA-45D7-B11F-796B5DDEC9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ductive Databases I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log: DB extension of Pro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ly different from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curiously, both are non-proced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point”: v is a fixpoint of a function f if f(v)=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ing and computing fixpoints efficiently is the heart of recursive query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rny problem: n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part of “not” don’t you underst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D27-F018-4C8B-A227-7FA12E3CF8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3A7E3-D95A-4BDB-AC3A-1A94355AA3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mitations of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constraints expr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types of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leads to atomization, in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built-in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complex objects, 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Bs (binary large objects) are one work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575-BA94-4526-B08F-6A9A368920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50442-570E-470B-837D-D6CB76A0C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ssures on Traditional RDBM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nd-users: desire to store and retrieve non-tradition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SW development community: desire to integrate today’s languages with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 lucky coincidence, both parties converge on OO as a solution to man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735-02A0-46F6-A031-DDAEAF531C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3DE60-B60E-424F-B7DA-A74470C464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volving End-User Nee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objects: pictures, video, X-Rays, CAD drawings, sound files, time ser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tructured data from heterogeneous sources: document scans, commercial data services, the Web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"mine" for unsuspect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(for chang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3EF-EFD5-487B-AA87-35A4AC6C3E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6233D-2E1B-459E-A158-74430FAF91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W Development Commun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 Development community has come to expect C++/Java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libraries,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, event-bas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develop DB in the sam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OL and DB grew up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 pioneered the "record" con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-bas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fit to today's languages like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C36-BE7A-436B-95D4-1A6096B015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D6B11-8C1D-4B2F-8526-2B99BC47D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Look Ba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look ahea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and Network (CODASYL) models were popular before rel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had extremely rich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lationships directly expressed (no jo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"navigationa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programs locate data via knowledge of schema, following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ized query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1D3-6102-4A78-B8E0-10B783DF32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E95F0-3CE9-4CD2-A554-5DA557AB8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-Oriented Tre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s in OO Programming seem promising for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, user-defined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new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 1NF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(important type of relationsh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of data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emphasis on components and reusability; cross-platform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hter integration with C++,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C2C-CE7B-4F85-8B60-325EE27FB7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AE83D-3CE4-4C78-A138-FD2B4F77BE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RDBMS vs OODB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relational DBMS 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relational system with some object features add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taken by major DB vendors (in different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taken by SQL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DBMS 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O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adical rethinking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ht fit to C++ or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36F-46B7-4F5C-8AFA-C9CD347D65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9F00A-182B-4FE1-AD8B-AF13BB191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ict OO Viewpoi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possible: model the behavior and relationships of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ommunicate only by passing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a message is a function name plus a set of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can be determined at run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talk is the model: untyped; interpreted; inter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B4A-90E0-48E8-A6E5-74D1014364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AE500-FB60-43C1-BB95-8741A647C8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4T04:30:42Z</dcterms:created>
  <dc:creator>Martin Dickey</dc:creator>
  <dc:description/>
  <dc:language>en-US</dc:language>
  <cp:lastModifiedBy>dickey</cp:lastModifiedBy>
  <cp:lastPrinted>1999-06-02T18:14:34Z</cp:lastPrinted>
  <dcterms:modified xsi:type="dcterms:W3CDTF">1999-06-02T19:53:15Z</dcterms:modified>
  <cp:revision>17</cp:revision>
  <dc:subject/>
  <dc:title>Object-Oriente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