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212-7D8D-455C-94FB-C80D5A1E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C22-F36E-49DF-AE92-53AD0233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5DE-08FA-4924-8848-F13BD3DE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1E7-3640-4C7C-9BE6-DE62D3B1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27C1-A98B-4EEE-ADF8-424C26AA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7A4D-E9D6-4196-9E49-57F9365B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7F30-BF9B-4172-9C39-A73FE784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0624-A28D-4C88-89B0-431F5D9E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05EE-3447-4B8E-8769-7DF666CE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05E9-B702-4A38-B783-F2C7355A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BED5-F2F0-46E9-8433-A3CA0447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92C-1FBC-4870-8EC0-DB9F1FB2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E504-1D77-44A2-AE30-54D7A8A6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11E8-5290-4B6E-BA7F-E54311B7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C4A8-A0FD-46FE-8326-133288CF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9E98-C1C6-4FCF-A97A-BE466087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F726-B8E5-4587-94A2-45DBB84D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B83-933E-4135-9DB6-ABA25A15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AD6-A2CD-45DC-A506-554831B8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871-B430-418D-A6C8-CC2C3860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E410-42DF-46D5-AD14-9395A7D2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743-EE60-4D3A-A591-C7B8ADF2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65D-35B7-41BE-919C-CC5A5E2F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C69-A60D-45B8-B7F8-651BD4F4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EB21-A1B3-464A-8F71-0B2FCAFE630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-</a:t>
            </a:r>
            <a:fld id="{0078EB77-5C3A-4583-88CA-46CA53984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2481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5092-191F-4A88-9DBF-12F9C7808B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-</a:t>
            </a:r>
            <a:fld id="{24AFC27A-FB10-4849-90FE-4438D2FC4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9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ighlight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ery Processing And Optim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s 12 and 13 (pretty much finaliz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B7F8-7A33-4ACE-BD87-525E8EFF2DE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AC0882D-334A-4241-ABFA-1137979838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ection Headach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rating &gt;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 conjunctiv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.rating = 5) ^ (S.age &gt;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 disjunctiv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.rating = 5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.age &gt;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these occur frequently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junctive conditions are probably the hardest to optimize in the general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59D-5E1F-47CC-BFAF-38B8E45F2B3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27741-B8F8-4A72-960D-ED09ACB061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jection Implement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ategy: remove unwanted attributes, then remove duplicate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ing duplicate tuples is the hard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CAD-FA33-47A7-BAC2-8A37EC5AB62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14DB2-4F08-497D-9855-C5DE7A09CC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moving Duplicate Tup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orting: use all (projected) attributes as the sort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pot duplicates in a final scan over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hashing: hash on all (projected)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hink of the file as being “partition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s will always collide into the same partition (buck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rehash each bucket with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unique tuples from the 2nd level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E02-8513-48C4-9287-4245D9774B9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68A0E-A187-4C49-BBA5-97475E6472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Join Implement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ally, join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llow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implemented that w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ccur often enough to deserve special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hen be implemented as jo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algorithms have been tr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945-CBF1-4742-A715-71EB90EC3A0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694F1-6B85-4A6E-939E-689BE296DF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eral Join Strategies (R x S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-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-loop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-merge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ed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241-064F-4435-A7F1-CBF29F1A5F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5F1C3-9C3F-4755-8FB9-6E40724EB3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ested-Loop Joi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r each r in R, examine each s in S, output tuples which match the join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is the “outer” relation, S is “inn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proportional to size of R * size of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, potentially h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ither R or S fit entirely in mem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maller as the inner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simple and not too bad: cost proportional to R +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FDF-CB8B-4E1A-AA03-AC85C26F5CA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C5CB5-C127-490F-90ED-AFF3553C1A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ort-Merge Joi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(for equi-join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both R and S on the join attributes (this effectively “partitions” R and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merge-like phase, scan R and S: for each partition of R, locate the corresponding partition of S and output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s are somewhat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may not be needed if file is already sorted, has a B+ tree index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A25-F029-4411-87EB-432ADCF385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98EBD-D65E-45DF-8FB1-F28CC7CE46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otnote on Disk Sort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. 7 in textbook (skipp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the file (o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out sorted "run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the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, only a few passes over the file is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runs can be increased by using more memory buffers, overlapping in-mem. sorting with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5B9-C0E4-467B-BF8D-818BA28985A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2A52D-9004-45EC-8C14-16C6EDA703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ashed Join Algorith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(for equi-join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each of R and S on the join attributes, using the same hash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ucket of collisions is a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pair of corresponding partitions of R and 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again using a different hash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and s which hash the second time to the same bucket can be checked; output if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CA4-6EC3-461D-A4BC-03365CF05F5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93DDF-9712-4114-B13E-E3AA322729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ashed Join Discuss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quite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ally if the partition of R or S fits completely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extend to non =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take advantage of existing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a hash index exactly on the desir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work well if hash functions doesn’t distribute tuple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1DE-75C7-4D1A-9215-531589CCEDD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95D18-2C8A-4C0D-8C27-5EBE0BC0E3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xtbook Reading For Ch.12-13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general, read lightly; concentrate on topics that you recognize from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12, “Evaluation of Relation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m all cost calculation discu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p 12.2.2; 12.3 (all); pp.297-300; 1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13, “Relational Query Optimiz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pp.310-3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m 316 (starting at 13.2) to 325; skip rest of ch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9E9-90BC-4F1F-9F6D-CC79E99A2A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8119C-0D73-4028-ABDB-4E74688284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t Operations: Un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: trick is to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sorting: sort R and S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ll attributes as the sort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s can be eliminated during the final merge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hashing: Partition R and S using the same hash function, using all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hash corresponding partitions using a different function to detect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45A-9BA7-45EC-950B-CC5C2CF140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156F8-C935-41C2-A748-1A03CBCEE6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ther Set Oper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: variations of Union algorithms will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ection: can treat as huge equi-join (all attributes joined for equal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esian Product: can treat as join, with no selection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rely needed in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945-CB4F-4B1C-B1BF-66388756E5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3E858-289B-4FDC-A926-8D3E9874B5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tended Relational Operator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s similar to those already discussed can be dev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ly the EROs are applied after the bas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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partitions by sorting or h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perating on part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to the part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F6C-F140-4459-837A-BAE794199AF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D14F4-DADB-4969-91DF-713F363DA1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orting vs. Hash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implementation problems have both a sorting and a hashing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BMS needs sorting anyway, so general-purpose sorting utility i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s in more situations (range selection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is sorted, which might be u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d of a blunt instrument some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eleg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effective use of large mem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B66-3720-44CD-B113-72F973EADF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57C7D-EB6D-4F8E-91B2-ED1706756D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ïve Query Process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L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MPLOYEE,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NO=DNUMBER AND SALARY&gt;45000 AND DNAME="Software Support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aively, this is 1 Cartesian product, followed by 3 selects, followed by one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tree is drawn from bottom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B80-BDCC-4F36-BDA3-BDA868280C4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E2C65-FC44-4AB1-9C9A-01B355660A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la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ery Processor might actually execute this as 2 selects, a join, a select and a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marter optimizer might do additional pro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m intuitive?  It's really intuitive only for the smallest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ecution plan or strate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lan for getting the result of a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not only the order, but what implementation (sorting, hashing, etc.)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F58-1A28-4892-9702-FAA349E125A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AE7E0-99F0-4BB5-A05A-928C559F50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ptimization Strateg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finding the best execution strate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means "picking the best plan" rather than fiddling with some give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a number of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each using statistics in the DB cata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k the best one (or at least a good 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683-5F06-4A43-97BA-86CDF703AFF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CD9B1-A22D-41BA-9F3F-7BA81D56F7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pelining vs Material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ake the step from one stage of the query processing to the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terial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reate a temporary relation as the output of a stage, pass to next stage as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ipel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pply next operator to the output of one stage, as the output is gen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ally unary ops (projections and sel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CBD-AE13-448F-A366-E522EDBE411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E5398-5049-4D0F-AA01-CA4CB45971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elpful Ideas and Heuristic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able size before joi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(or copy)  selects and projects as far down the tree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joins and C.P.s as late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operations in decreasing order of selectivity (if kn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might keep useful statistics in a cata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single-table operations when possible (work “on the fly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ndexes to adva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567-3530-4A8B-B5DB-F1BDB0782E3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A6098-4DE5-4EB3-8F32-F07E03A3BE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B Catalo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minimum, DBMS knows th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and attribute names, types, field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kn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dices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organization: # tuples per page, sorted/unsorted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also keep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tuples in each relation, # pages in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keys currently in each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performance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04D-8C22-4F1D-AE75-2D477907B51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FA1FE-313F-4187-939F-A88D42BAB8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ig Pictur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1828800"/>
            <a:ext cx="1600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971800"/>
            <a:ext cx="2819520" cy="119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optimizer: Generate query plans, select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4724280"/>
            <a:ext cx="1752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2"/>
            <a:endCxn id="89" idx="0"/>
          </p:cNvCxnSpPr>
          <p:nvPr/>
        </p:nvCxnSpPr>
        <p:spPr>
          <a:xfrm>
            <a:off x="3847680" y="259092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2"/>
            <a:endCxn id="90" idx="0"/>
          </p:cNvCxnSpPr>
          <p:nvPr/>
        </p:nvCxnSpPr>
        <p:spPr>
          <a:xfrm>
            <a:off x="3847680" y="4168440"/>
            <a:ext cx="1080" cy="55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1751760" y="59436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0" idx="2"/>
            <a:endCxn id="93" idx="0"/>
          </p:cNvCxnSpPr>
          <p:nvPr/>
        </p:nvCxnSpPr>
        <p:spPr>
          <a:xfrm flipH="1">
            <a:off x="2669760" y="5638320"/>
            <a:ext cx="1178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1600200" y="990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88" idx="0"/>
          </p:cNvCxnSpPr>
          <p:nvPr/>
        </p:nvCxnSpPr>
        <p:spPr>
          <a:xfrm>
            <a:off x="2476440" y="1447920"/>
            <a:ext cx="1372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6019920" y="4800600"/>
            <a:ext cx="99036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0" idx="3"/>
            <a:endCxn id="97" idx="2"/>
          </p:cNvCxnSpPr>
          <p:nvPr/>
        </p:nvCxnSpPr>
        <p:spPr>
          <a:xfrm flipV="1">
            <a:off x="4723920" y="5142960"/>
            <a:ext cx="12963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5791320" y="1828800"/>
            <a:ext cx="1676160" cy="838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3"/>
            <a:endCxn id="99" idx="2"/>
          </p:cNvCxnSpPr>
          <p:nvPr/>
        </p:nvCxnSpPr>
        <p:spPr>
          <a:xfrm>
            <a:off x="4647960" y="2209680"/>
            <a:ext cx="11437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9" idx="3"/>
            <a:endCxn id="102" idx="2"/>
          </p:cNvCxnSpPr>
          <p:nvPr/>
        </p:nvCxnSpPr>
        <p:spPr>
          <a:xfrm>
            <a:off x="5257800" y="3569760"/>
            <a:ext cx="915120" cy="16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6172200" y="3352680"/>
            <a:ext cx="1600200" cy="7621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cat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641-34FA-4133-A89B-98459504655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6A29E-7A74-42AE-87B2-8925E1BF10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peedbum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let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log sta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lete model of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, calculations are simpl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ossible plans is exponenti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ather than truly "optimal", a plan which is "good enough" is cho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975-F695-4774-988F-B80672F34B6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35F07-7B2B-41A9-9663-1D85159112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y be some more slides here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867-50D6-4199-B20E-BCEE0C1BAB8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49B67-253B-4ACF-B878-830F045813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 a version of the SQL query in Extended Relational Algebra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execution can then be viewed as a matter of executing the relation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RA” refers to RA plus aggregate operators, Having, and 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7CC-C3BF-4619-B320-A1605976DB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A7E6C-3BEC-4FE6-AE50-D961BB60BC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lan of Stud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 how each of the basic RA operators could be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, projection, join are most fundamental and will illustrate the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discuss plan generation and evaluation (very light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AFC-93C1-4942-94DD-C1FE395CC1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8A259-D144-45FF-B629-F51E089139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tras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ing a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p distinction between “compile time” and “run tim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ion of parsed program is fairly mecha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s just icing on the c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ing a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ll done at ru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ing the query involves many non-trivial, dynamic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s hugel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2A4-8FE8-49AB-81AE-0AC24D2964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908E0-DA25-4B3A-8A18-0B8C0CDC14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eview: Some Dynamic Factor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ECT X,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OM A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RE A.Z = B.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his is best processed may depend on: relative and absolute sizes of A and B; sizes of X, Y, and Z; logical and physical organization of A and B; what kind of indices exist for A and B; how much memory is available, etc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3A4-68DD-467A-8AD9-9A6AB56E903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8AB20-2270-41CB-8F70-5578985D1D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ccess Path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path:” a way of retrieving tuples from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some selection criterion such as WHERE S.id &lt;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an of the whol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which has an appropriate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might be indexes that don’t provide an access path because they don’t relate to the selection crite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4CF-B91C-4A15-B239-DFCE16E99E4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C749F-E039-4973-8DA9-67BFDE307B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ection Implement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levant index, unsorted dat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ieve all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ndex, sorted data (on relevant attribute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 to find 1st occurrence, then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+ tree index (on relevant att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tree to find occur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depends on whether index is clustered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for range as well as = se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index: works only for = selections which match the hash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A18-3915-440A-85FA-0E8AAA73EF8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348BD-5F89-4ED1-8200-FB52F04EA1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8T18:49:27Z</dcterms:created>
  <dc:creator>CSE</dc:creator>
  <dc:description/>
  <dc:language>en-US</dc:language>
  <cp:lastModifiedBy>dickey</cp:lastModifiedBy>
  <cp:lastPrinted>1999-05-28T18:20:52Z</cp:lastPrinted>
  <dcterms:modified xsi:type="dcterms:W3CDTF">1999-05-28T20:19:21Z</dcterms:modified>
  <cp:revision>25</cp:revision>
  <dc:subject/>
  <dc:title>Query Optimization Highligh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