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6E07-0039-4D4C-8366-08D4BCC8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6900-33FB-4378-AEB7-8580AE0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08DE-2667-4C89-8BF7-5FC65B02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18FA-092A-46DC-9B5C-FD22F1C3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7382-B6AB-4FBD-935F-A2310D3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3A23-7595-4828-8DA1-DC01AE07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7C85-79B1-4070-BD82-7276A8C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5E47-0D1A-4F09-86FC-3A63736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0F98-08D1-47F8-8945-D2444F9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7F6D-D1F9-405C-86C7-1787A79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3EFE-581A-4D64-BE8B-49337F6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7AF2-0A56-4A11-8360-DFF9DC8B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spcBef>
                <a:spcPts val="700"/>
              </a:spcBef>
              <a:buClr>
                <a:srgbClr val="ffcc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77840">
              <a:spcBef>
                <a:spcPts val="700"/>
              </a:spcBef>
              <a:buClr>
                <a:srgbClr val="ffcc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92240" indent="-114480">
              <a:spcBef>
                <a:spcPts val="700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92240" indent="-114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92240" indent="-114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BDA8-C441-44D2-90D1-E3A8B594C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716256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798-6685-4C84-B966-D1A737D860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1DC2-7947-4FD3-A56B-7ED4A481417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C372DB-6DAC-46C1-9C2F-341C925E96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ing an ISAM 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must be kept sequ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it can be processed without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to rewrite entire file to add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overflow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ined together or in fixed locations (overflow area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is usually NOT updated as records are ad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 a while the whole thing is “reorganiz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ges recopied to eliminate over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re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F0E5-7B17-4089-AF66-5C1DCC56A6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259E2-7428-485C-A7DF-ED3343F7D2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SAM Pros, C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or true sequentia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ery 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if lots of overflow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be one ISAM index per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FAA4-7729-431C-A7F6-C56A817C23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E3A82A-7112-49A7-82C2-5001C75AC9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-T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Tree is a type of multilevel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nother standpoint: it's a type of balanced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in 1972 by Boeing engineers R. Bayer and E. McC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79: "the standard organization for indexes in a database system" (Co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2BF9-4CB2-4A28-9EFF-C4E71C05A7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D68676-AFC7-48B7-BD09-EA7D40804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-Tree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for now that keys are fixed-length and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B-tree can be thought of as a generalized binary sear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branches rather than just L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always perfectly balan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asted space in the nodes is tol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9B7B-B144-408A-8297-6E8790FE0B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2E5F96-0EB1-455E-8B24-BFB1D04AA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-Tree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nt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(index node) pointer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values (with record or page 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key K and the two node pointers L and R aroun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key values pointed to by L are &lt;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key values pointed to by R are &gt;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” means (up to) p tree pointers, (up to) p-1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differs between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54A6-50C1-4389-9785-63A00F596C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91309A-D944-4EF4-8F04-0D58645ED1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+ Tree vs. B-t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168840" indent="-168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cusses B+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69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do we from now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ig differ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69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B-trees had record pointers in all of the index nodes; B+ trees only in leaf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iven a key K and the two node pointers L and R around i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820440" indent="-168840">
              <a:spcBef>
                <a:spcPts val="451"/>
              </a:spcBef>
              <a:buClr>
                <a:srgbClr val="ffcc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key values pointed to by L are &lt;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0440" indent="-168840">
              <a:spcBef>
                <a:spcPts val="451"/>
              </a:spcBef>
              <a:buClr>
                <a:srgbClr val="ffcc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key values pointed to by R ar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&gt;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69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+ tree data pages are linked together to form a sequentia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ives the advantages of ISA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54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our book, it’s a doubly-linked li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16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31ED-2CA7-4D7B-90E4-CF1618E6A1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51D6EF-2556-4563-9CED-46B64D96BC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Views of the Leaf N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f. Chapter 4.3.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 nodes might be actual data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 nodes might contain pointers to the actual data records or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+ trees, this implies the leaf node format is different from the non-leaf nod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old different number of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f nodes can be chained together, regardless of whether the actual data pages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CE29-D186-4080-9965-6E94ECA8AA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5EFE1A-8A5A-47CF-AED5-FAA58E40EF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+Tree Growth and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174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big idea: When a node is full, it spl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value is propagated up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0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we’re lucky, there’s room for it in the level abo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new nodes are at same level as original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tree increa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he root sp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ry nic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at keeps the tree perfectly 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: split only “on the way d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letion: two adjacent nodes recombine if both are &lt; half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8554-6CC6-4F65-98EA-43674B59B4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A69AC8-204B-41FC-AA2B-66C26C7237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edistribute records between adjacent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. on deletion (B* t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order: accommodate varying key lengths Could store the whole record in the index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records are few and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B+ tree, this would make sequential access especiall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5DA3-646F-46D8-9531-B052DE5E45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A9797-59D8-4CE7-8D81-C93A6A9FE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+ Trees with Other Ind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ve a B+ tree for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 nodes of the index are the actual pages of the file, doubly linked together for sequentia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ve some secondary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a B+ tree node splits or merge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0278-60BC-48A7-93EF-500452D5C0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36C887-0413-4BFE-97FF-CB68485B4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dex Conce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174240" indent="-174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separate data structure used to locate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, many, many, many flavors of index organization have been proposed and t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structures which combine hashing and 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buffering schemes are somewhat 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focu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l concepts [chapter 4.3-4.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AM (indexed sequential) [ch. 5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616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-trees and B+ trees [ch.5.2-5.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742F-1477-4A61-9BF9-97DE533DF2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9CD51C-FD19-414D-99B8-0F00D0E282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Forms of Index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tmap 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ndex per value (property)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bit per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if record has a particular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ed h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ash function takes you to an entry in an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physical record locations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ver indexing schemes are useful in optimizing complex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19C8-BEFD-4742-BDA4-A2D02BAB17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CFC4A2-CC69-42A7-B39E-E3E8DFC090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dex Termi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enerally, index is a list of value/addres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ir is an index “ent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s the index “ke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will point to a data record, or to a dat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re might be many records on a pa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 is that the value/address pair will be much smaller in size than the ful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dex is small, a copy can be maintained in mem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 disk copy is still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F6A6-1DB5-4CCB-94BA-93A3783D7F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FC4398-8F2D-4FFF-AA42-6BA2727913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necessarily the same as the primary DB key of the t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 called a “key” anywa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imar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imary (DB)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index pe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ar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imary DB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many indices per file (or n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88BC-364E-454D-BB53-E16E91D2E4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2976E6-1404-4768-818B-C2D8F2F3CE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dexing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165240" indent="-165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533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ndex entry for each record (or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n-d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a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533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one index entry for each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verted 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533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which has a dense secondar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533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s locality: close index entries refer to close data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Multilevel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5336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vel is an index to the next leve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13CB-94A2-4832-8602-3FC5B88620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E9AF29-4B8A-47E6-8ED7-3F0E4AA9CC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dexing Pitfa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itself is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ies dis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orry about maintenance, consistency, recover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dices won't fi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quire multiple seeks to locate record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9E1A-2E07-41C2-815E-47C2E5E3A8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CA9FA9-75B0-4F00-81FF-C638828E2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derata for Multilevel Inde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support efficient random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lso support efficient sequential access,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have low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efficiently upd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storage-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level(s) should fit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64D1-7E03-4858-BEAE-5248455C10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460652-F41F-4313-BE3C-E21310DFD9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S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Indexed Sequential Acces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d Sequential” more general term (non-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M as described in textbook (5.1) is very close to B+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r versions exi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intain sequential file but give it an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ity for efficient “batch”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for random recor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7FE2-1618-40FB-95C2-7F9E7C7091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E075B2-ADF1-4C06-99B2-093882137F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SAM Techn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dense index of the pages (1st leve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 from a record view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build an index of the 1st level index (2nd leve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recursively until top level index fits on 1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mplementations may stop after a fixed # of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FFD0-C1BC-4014-A9E5-DA1116A5A7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FC66CC-B245-45E7-B241-FBFF8BDFD9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9:50:02Z</dcterms:created>
  <dc:creator>dickey</dc:creator>
  <dc:description/>
  <dc:language>en-US</dc:language>
  <cp:lastModifiedBy>dickey</cp:lastModifiedBy>
  <cp:lastPrinted>1999-05-21T18:23:37Z</cp:lastPrinted>
  <dcterms:modified xsi:type="dcterms:W3CDTF">1999-05-21T18:30:50Z</dcterms:modified>
  <cp:revision>11</cp:revision>
  <dc:subject/>
  <dc:title>Indexing and B-Tre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