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5E7-EFE6-4C81-A55E-80630A04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652-95B6-4BF4-B41A-610AA77F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AEB-FA8B-4AED-97D1-6685275A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F3E-29FF-4159-A9FD-96D3042E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3BC0-BC07-4679-8796-7602D1A5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7351-5D05-4299-B04B-50FEFAAA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EB14-07DD-42DF-B3A7-917D0C9E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2FF8-AB2B-442E-8E47-4B0C0DF8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8572-E811-49EB-B191-37C4D596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3E32-E0D7-43ED-B495-8FC89503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E5E7-247C-46B7-BA59-60EE5026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B31-AA2D-4C01-9437-19FEE385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4011-75A8-411C-BCC3-D77664B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D753-2CE6-4641-A6AD-2FC8CB70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90A6-5C6E-49B8-A83C-DE297859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DE68-0721-4821-BF38-0EF86C69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9454-15BC-4733-8509-6F8096CC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181-C977-4F8E-86C9-2DDAABDD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540-8C20-4C36-9735-8AB9FAFA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E44-FDB1-4A9C-AC23-636944B0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C0D-4CF3-4044-AAA3-CFEC2672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0EE-6010-4800-A63A-2DFD25E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1D5-27A4-4106-BE94-ED48090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53F-FA1F-4782-A6BC-5573A61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-</a:t>
            </a:r>
            <a:fld id="{89AC775C-C03B-4919-8D31-AA8D45B9B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-</a:t>
            </a:r>
            <a:fld id="{5A5B0E53-C02F-4293-840B-0B6BF2364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9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le Storage and Index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3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4C0-17B1-49E7-B65B-249E684D83C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pplication Dependenc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treaming"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, audio, file trans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advantage of high rotational speeds, high bus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DB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record at a time, randomly selected, small amount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egree of normalization makes it wor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99F-3B3E-4144-B19A-0050A04686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 of Lif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Seek time outweighs all other time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: Martin's three rules for efficient file ac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void s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void s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Avoid s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llar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 technique that takes more than one seek to locate a record is unsatis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881-45B3-43D7-ADED-903F4BA1891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mory vs Disk Data Structur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Binary Search of a sorted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O(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accesses if 1,000,000 integers in mem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swer (20) is accep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 many seeks if 1,000,000 records on disk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swer (20) in unaccep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 problem:And how did they get sorted (NlogN at best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5F6-A812-453C-8E64-739E51F23E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orse and Wors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000,000 sorted records on dis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e problem:And how did th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r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is NlogN at best... do the 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add or delete records, how do you keep the array sor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66E-7F6B-40B6-91CD-8FA01FF766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voiding See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ping disk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b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ty principle: recently used pages are likely to be needed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ed by OS or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tial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needed only for firs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file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131-CC9B-4174-BA35-CE7F4200FB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Smart File Organization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hich needs very few seeks to locate any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s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o directly to the desired record, based on a simple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o directly to the desired record, based on a simple look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tree: a widely used index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various schemes which combine indexing and h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78D-BB74-4B04-BBC3-3A1E27B53D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iew: Hash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ddress of record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cul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some value in th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based o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llions of possible hash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to find a good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CC0-C993-4674-91D1-2C849EFD7D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tfalls of Hashing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 more than one record hashing to the same add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s to overcome conflicts: overflow areas; chained record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volve more disk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ted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fficient access for other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fficient way for sequential (especially sorted)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B89-4ECC-4664-8B47-F1C9749CF21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Bs Reside on Dis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reasons: (main) memory is too small and too volat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disk operation and performance is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ructures and  algorithms for disk are very different from those appropriate for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gle most important fact about disks, relative to memory, is… (we shall s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9E5-FBEE-4DC7-8D1C-787467E567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iew: Disk Organ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nning magnetic surfaces, sta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/W head per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: circular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linder: vertical stack of tr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ors: fixed length physical blocks along tr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d by 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head info (ID, error-corre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ctor has a hardwar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40E-F88B-443A-9840-4080D5B0FB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ks and O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manages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are allocated in blocks (groups of sect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 may be scattered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mple map between logical records (program/file view) and physical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makes file look contig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FA4-3579-41C4-A6C5-B92EE88CBA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yond Character Strea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/C++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file: stream of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libraries automatically convert characters into internal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"12  15.9  a"  on the file can be automatically converted and stored into int, double, char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er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as a sequence of bin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correspond to a 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utomatic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supported by C/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B15-2EC0-4675-9A3E-C75BF923DD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gram Viewpoi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are collections of  logical "record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are commonly (but not always) fixed in size an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in records are commonly (but not always) fixed in size an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quent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ccess: program gets data one record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: program can ask for a record by its relative block #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k addres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208-F413-4B21-80B3-F76B9CC20B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mon Modes of Record Process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record (rand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SSN=3456678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records (no special o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ECT * FROM DEP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records (in o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DER BY SS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 efficient storage scheme should support all of these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659-9BB5-44FC-9E3A-30D3040080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ïve Relational Implemen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able is a separat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ows in a table are of fixed size an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correspond to a C 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 are stored in order by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vise this view as we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types won't match program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of records is not efficiently accessed or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ED0-F332-49D6-A22C-886A1623A0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's the Big Deal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ual numbers will vary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U speed: 100-500M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cess speed: (&lt;100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many CPU cycles is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speed has thre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ek t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to position the W/R head (10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how many memory cycles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otational speed (3600+r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fer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ovement of data to/from memory (5Mb+/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C4F-6A5C-47E0-A27E-A8D56AB00B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6T04:37:20Z</dcterms:created>
  <dc:creator>CSE</dc:creator>
  <dc:description/>
  <dc:language>en-US</dc:language>
  <cp:lastModifiedBy>dickey</cp:lastModifiedBy>
  <cp:lastPrinted>1999-05-17T18:27:50Z</cp:lastPrinted>
  <dcterms:modified xsi:type="dcterms:W3CDTF">1999-05-17T19:56:46Z</dcterms:modified>
  <cp:revision>28</cp:revision>
  <dc:subject/>
  <dc:title>File Storage and Index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