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939-E0D8-4614-A585-C357B08A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20C-7E5D-4B3D-B8F1-215DD03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C14-089D-4A26-9012-399EF8C8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5F0-C085-4C65-9F44-7C1C3B98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DDD-FAE9-4327-AA46-A3A1AAF8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84A-AEEC-4D9C-ABC0-6EC64FC7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2DF3-8F4F-4F58-BC6C-FB788B1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D3A-0A67-4411-814B-7385F83F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925-AEA5-4D88-A752-F5FE72D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FE9F-F440-4B33-8564-84376BAA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B65D-A5B0-470E-80FE-0623BD9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D34-17FA-4932-9B00-847C827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67D5-4C17-4123-B61F-9C43B5C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E42F-3A47-4D24-8605-70F604E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6E13-3518-42A3-BEA9-80022CA8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EB7-C8CE-458D-84DD-E9DA70F6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0FF-9FC5-4B0F-9040-8A1CE3BF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AE0-F917-4EC1-B029-9D27F96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304-0BC4-4B39-95CC-2F5929DF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BFA-440B-4CF6-B7CE-0706522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D1C-1837-41BF-B492-D4ACAC7B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5E2-8C0A-4F22-9447-0CE5D54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72A-617A-4703-81DF-5F779DE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BA7-05D4-4973-9131-B70A6A1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39D-DB4B-4B1D-9453-ECA8FDFE39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-</a:t>
            </a:r>
            <a:fld id="{E40A1B22-F3B1-4EEB-B7D6-B6226B4F4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5C25-1A99-41C5-9DC0-6403E59CAE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-</a:t>
            </a:r>
            <a:fld id="{5F05768E-F9F9-46C4-B576-5CA22C6C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y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8 (light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8EF-33DB-4A2D-9570-0A398C5F68C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1CD36E-986D-4F3C-A565-6110E95DD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ccasions for Recove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atastrophic: need Lo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rmal" 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strophic: need Log +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loss of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vasive application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software error (corrupted filesystem, buffer management error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, sabotag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84D-95C3-4F6D-9151-4BF2E6B4FE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0FC1A-F388-4EFE-99D5-659F78A61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recovery algorithm emphasized in th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ly it uses many standar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es and concepts more important that ARIES per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2D3-DA74-4DF3-928D-FA2689E7B7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F4D6D-8163-4F72-8557-341B0DAD8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Review) The Log Fi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to be on "stable storag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starts/s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writes: "before" and "after"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can be used to rollback an aborted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can be used to redo a transaction without reexecut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The log itself is as critical as the D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liable backups are critical,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1E8-02E7-4423-AFE1-555CDE00B7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FD257-827D-4E1D-BC94-144CCBD6B8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ategies Which Anticipate Normal Recove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erred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re not actually applied to DB until after T com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UNDO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buffers, shadow page tabl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ediat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re actually applied as T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ed transactions: UNDO (roll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9E5-87B7-4EF4-8781-5162D8E68F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13041-3959-43BD-8759-ACDEA1C5B9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stem Crash (without loss of DB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ALL uncommitted T's have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e as for transaction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no new transactions until recovery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666-C525-49D1-84D7-2612EFFEBF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4F10-BB6C-4C33-9376-CD71BA88A9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tastroph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: restore from a full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: Roll forward from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ll logged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actually REDO changes in reverse chrono order: i.e., only apply lates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's interrupted by the catastrophe must be restarted or user no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944-5C6C-42E2-AFEC-2FBC66ACFB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2AC2F-605F-4D75-908A-52657EA0F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eckpoin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: "snapshot" of a system at a particula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include: info about which T's are running; which pages are "dirty"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: May be able to recover from the last checkpoint (rather than reprocessing entire lo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BA7-F03B-42F7-996E-42D03F87A3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31F16-47B1-43CF-90B0-64D6B0F7E1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aster Recovery via Redundanc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iable duplicate copy could be used for "instant"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could be "hot" (in use by applications) or only on stand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DBMS or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part of a distribut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W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D: Redundant Array of Inexpensive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A8F-07D6-4C0B-A142-3EAE14E4C3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F10FA-F228-487D-AEB8-AF639121F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1T16:47:12Z</dcterms:created>
  <dc:creator>CSE</dc:creator>
  <dc:description/>
  <dc:language>en-US</dc:language>
  <cp:lastModifiedBy>dickey</cp:lastModifiedBy>
  <cp:lastPrinted>1999-05-14T18:16:30Z</cp:lastPrinted>
  <dcterms:modified xsi:type="dcterms:W3CDTF">1999-05-14T18:17:16Z</dcterms:modified>
  <cp:revision>15</cp:revision>
  <dc:subject/>
  <dc:title>Recovery Concep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