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238-88CC-4464-917E-E0A15CD2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76D-B07D-4D50-9D79-8E52143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5D6-126D-4324-9FE2-98C9FEC7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249-FFE6-46F7-912D-786103DD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9AFD-86B6-452D-B697-A175CF50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A1C-ECDC-4D38-9CE7-CC61675D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D5B4-AA9A-4239-AFB1-E6BC577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9D60-3EEB-482A-AA5C-F5FF4B9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E560-7EF5-44F3-A47E-AC452B2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B0A-FB13-4E9F-98D5-99869AB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3465-B54D-4A35-A262-1272CA32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1C3-4117-4D45-B140-3BB16047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A33-8A40-41DB-B857-E4A5E94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8514-B184-412B-9395-EA50AD7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772-558D-4000-B614-FDA08B60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F11B-6ED5-4776-A006-36875CC2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982E-6EE7-4AC3-AC72-90031AC9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69D-853E-463C-B50B-CB54B305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A0D-EB21-44C3-97B2-29C7AE1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E37-551A-4386-995E-BC88029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185-7839-4474-BC0A-F8C0EE6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7D7-A874-4B88-AB98-F21813C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EC0-546E-42B1-8DA9-7B6146EF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097-CE72-48A9-BA87-49ECD56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C002-BB27-44DA-8DCD-76F1D9126C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</a:t>
            </a:r>
            <a:fld id="{E7D097B0-E2CB-49DF-8AC9-DC4A0AD3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476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97A-F781-478C-B516-305A46F13D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</a:t>
            </a:r>
            <a:fld id="{5BCB42F9-9F2A-44BF-B42C-E3B61863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urrency Control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3053-FD96-4338-ACCD-E14A9F891B6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4C9785-C117-403D-AC37-5473753B5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wo transactions are each waiting for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each waiting for a lock that the other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be deadlocks in larger circles of T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is not deadlock-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on’t let it happ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ice when it's happened and take recovery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438-43F2-49EC-868B-D333AAE178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5EAE1-6756-4E29-B3E7-7F0242122E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Prevention Using Timestam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 timestam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nique numerical identifiers, same order as the starting order of the T'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ecessarily a system clock val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simply integer++ for each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ing factoid: global timestamp techniques can be used in distributed systems, even when each system has its own 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99C-B23B-4D69-A63C-6E87E3AA45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AF93-348C-4D1B-AEFA-907DC9698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wo TS Sche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locked X, and now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nts to lock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it-d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lowed to 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es and is restarted with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ound-wa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start with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 is allowed to wa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6D2-A2A8-468E-BECF-6D41547FFC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A4741-934A-405E-B023-95DB666ED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S Sche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oth schemes, the older T has a certain preferential trea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orted and restarted T always keeps it original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it gets older with respect to the other Ts, so eventually it gets the p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543-AA33-465C-B1EB-36CE73163B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DD975-04C7-4127-A4AF-7215BCD5D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Prevention Without Timestam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 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T needs X and X is already locked, immediately abort T, restart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ause lots of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utious 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ppo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s X, and X is already locked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aiting for anything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T waits longer than some fixed time, abort and restart 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79C-F8A7-4612-A018-6C46EDCE87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BA329-5F3B-43E5-B67E-8A6A09B7A0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Dete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 to prevent dead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heck periodically to see if there are deadlock; if so, chose victim(s) to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: no elaborate protocol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: deadlock might go undetected for a 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dlocks tend to be rare on lightly loaded systems, frequent on heavily load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0B6-4D3A-4758-A0E1-FD7CBC52BB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6ACD0-10BB-4E08-8094-78513744C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tection Algorith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Wait-for" 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ode per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edg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nts to lock X which is already lock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orem: There is a deadlock iff the wait-for graph ha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run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elect the vict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6A5-8ED0-41B4-BC72-8439254380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167B4-86C2-4E4A-B0A1-7ED79F4D5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rvation and Livelo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snake in the Garden of 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 might be aborted and restarted indefinitely: </a:t>
            </a:r>
            <a:r>
              <a:rPr b="0" i="1" lang="en-US" sz="3200" spc="-1" strike="noStrike">
                <a:solidFill>
                  <a:srgbClr val="ff5050"/>
                </a:solidFill>
                <a:latin typeface="Times New Roman"/>
              </a:rPr>
              <a:t>Sta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 might wait indefinitely, not for the same other T (deadlock), but for different reasons at different times: </a:t>
            </a:r>
            <a:r>
              <a:rPr b="0" i="1" lang="en-US" sz="3200" spc="-1" strike="noStrike">
                <a:solidFill>
                  <a:srgbClr val="ff5050"/>
                </a:solidFill>
                <a:latin typeface="Times New Roman"/>
              </a:rPr>
              <a:t>Live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otnote: Some people use "starvation" for either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E15-E2AF-4CCA-B511-6987C673D7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CBD7C-9650-427E-87C1-4018D1634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urrency Control Using Timestamp Order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[Textbook 17.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 idea: insure that conflicting operations occur in timestamp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X must have a read TS and a write 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S's of the T which last read or wrote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 wants to use X, then X's TSs are checked.  For a conflicting operation, TS(T) must be later.  If not, T is aborted and restarted with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ater) 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AB6-D905-49B9-82FC-D2C73372DD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A7DD-AF8C-47A9-8D7B-FB0E2F16B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Proper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s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guarantees conflict serializ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dlock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tarvation free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eventually T becomes "late enough" to slide through, but that might never hap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8A9-AB01-4EAE-A827-CA78AA8DE3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9852-FCB3-4D10-85CD-17FD87B7E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essimistic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4-1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17.6, 17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ock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optimistic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3D2-E7DA-44FD-AF29-4C2A128BE9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86F5-3110-4099-AEF9-0D4577ED8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ck is associated with each (lockable) item in the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status of that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in idea: transaction must lock an item before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ed overhead; decreased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P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d properly, locks guarantee that schedules are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623-888B-4E35-8E9B-4BFC28CFC5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5BD68-5AB3-48C5-AFE5-D46223C4BD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nary 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ock: statuses are "locked" and "unlocked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for use (just common sense, or common courtes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must lock item before reading or writ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must unlock item when finished wit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ill not try to lock an item it's already lo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ill not try to unlock an item it doesn't already have lo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: Queue of waiting T'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DD8-D34B-43C6-A0FF-44E0DFA231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E0F2B-37D1-4E97-8760-675C767694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ode 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lightly more com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a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-locked ("shared-locked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-locked ("exclusive-loc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's can hold the item read-locked, only one can write-loc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of common courtesy similar to binary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DA6-B494-4DF0-B51C-BF6EBF92C8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4A664-3BAC-4C59-963E-B65795316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Locks Enough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ly… 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lone do not guarantee serializ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ily… there is a simple protocol (2PL) which uses locks to guarantee serializ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1A6-B887-4A2E-9CA1-0948A2FA82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EFD7-EAB0-4023-B0C5-E1E5116DB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-Phase Locking Protocol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T is said to follow the 2PL if all lock operations precede the first un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must also follow the courtesy rules, of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ink of such a T having two ph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ing: locks but no un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inking: unlocks but no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5D4-288B-4878-9601-2AE03BE0DB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EB04C-4E05-480B-8277-BB9F2C217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PL is Good Stuf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is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dapted to variety of situations, such as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2PL (as describ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2PL: T locks all items before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ct 2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 doesn't unlock any items until T is finished (i.e., after COMMIT or ABOR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627-638B-40E7-B5D9-05060C3F3B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86019-1D4F-47E8-A0C9-D23809BF1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is it the last word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ere a snake in the Garden of E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reduces concurrency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and strict variants reduce it even more, because they hold locks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and strict 2PL are both subject to deadlock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C90-8235-4DA0-A23C-86193609C8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658BC-E1ED-4C5F-B97D-BEC4813637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03:16:22Z</dcterms:created>
  <dc:creator>CSE</dc:creator>
  <dc:description/>
  <dc:language>en-US</dc:language>
  <cp:lastModifiedBy>dickey</cp:lastModifiedBy>
  <cp:lastPrinted>1999-05-10T18:01:43Z</cp:lastPrinted>
  <dcterms:modified xsi:type="dcterms:W3CDTF">1999-05-10T18:02:25Z</dcterms:modified>
  <cp:revision>23</cp:revision>
  <dc:subject/>
  <dc:title>Concurrency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