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FBE-7225-496F-98D2-3AD9DEA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652-8CEA-462A-A744-FE9A87D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6A1-DEF6-4E6B-B4E2-84589A6E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12D-4AA9-407C-A6FD-CBCAEB4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502-EE10-4873-8F33-909DBF4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1D6-A523-4D15-A8CC-112D936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5FB-C0B4-4A29-A9D8-C51D0172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1C3-AD49-4731-A2D3-8A0000C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82E-7373-4F37-AB25-B11DA75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A86-9428-4932-AA22-354438E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8ED-832D-45AD-A97B-5FD5BAA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4BA-93F1-4BBC-A731-ED20C27C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F5E-9F2E-4BFA-93D8-526B14FFB4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-</a:t>
            </a:r>
            <a:fld id="{010E4B2B-73E6-4C67-8F15-377EFE9E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 and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7.3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FF5-788D-41A8-8652-2E8A53A8FC8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57362-B04C-4A0A-BB3D-773CDB0B97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gnizing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difficult or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the semantics of th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serializability can be de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chedules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order of any two conflicting operations is the same in both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75C-15FB-4BCE-BF65-295164FB14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E2B0-1168-496D-96C8-CC3AB0A67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some serial schedule with which it is conflict equi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s out there's a simple algorithm to test for conflict serializabili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digraph ("precedence graph") of the T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edges mark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Theorem: schedule is conflict serializable iff graph has no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DA2-0E15-44B6-A2CB-93ADC5C4D0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9B795-EA6A-47AE-AB73-1D8E3734F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nularity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the size of the data being read or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DB; table; row; one attribute valu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granularity means more concurrency, but more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s differ in granularity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emantics may determine needed gran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279-0EA4-4DC1-9ED9-7CD1AD6E26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E2B0B-71C6-4BDF-8C13-70E51F157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t the Final Wor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chedules which are not conflict serializable, but still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View serializability" is another definition; harder to check but allows mor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even schedules which are not serializable but nevertheless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is a tool for analysis, not a pr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77A-15CB-4D36-8BBC-27D508E7B2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6374A-A86E-424B-A835-F92816A83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"schedule" is the abstraction of the activity of simultaneous trans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s stripped away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identifiers (as subscri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READs and WRITEs and the data they operat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der of thes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22F-4A8D-4D65-B48F-3D888CFBD1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CDB1B-C08A-4F25-AAB8-9C8447F05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 No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of one or mor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Ti performs a READ of data item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Ti performs a WRITE of data item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i ab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i com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20B-AB0E-417C-A32E-5B8C127B67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6E817-9AB8-47BB-AF0B-4F2BAC509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l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overlap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CID behavior is assur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 fully, t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a "serial"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have different results, but either is accep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46F-DFC1-42F6-B657-CCB75FAF3C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7F4D-FEF3-48A9-A114-0667DB156A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l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izabl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schedules, though safe, are unacceptably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re I/O-bound (most elapsed time is spent waiting for I/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erial (overlapped) schedules allow shorter turn-around and better resource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dule is one which is equivalent to some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AFF-2C0B-40C2-A144-D99015B6E2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B4A05-5120-40A8-91FE-A439239111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 and Serializability Theo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s are a major tool in studying concurrent processing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recognize when a schedule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/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force schedules to be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recognize when a schedule is recoverable if an abor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27E-9D39-434D-A737-705D7E6CB0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E8E62-C19C-4049-8F01-DB9637461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fli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one transaction in a schedule WRITEs a data item which another transaction also uses (READs or WRI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no order requirement in this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operations are said to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Ts are also said to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how-st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8AA-5E8C-41E2-BD1B-92D6DD78BF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DAA34-B9B7-4D69-AF1D-DAEEBCF7B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P monitor must have the power to undo or "rollback" the effect of a trans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f a transaction aborts after doing som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transaction in a schedule aborts, it may be necessary to abort and rollback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d transactions should never be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A2C-5ABD-4EED-ADEA-92C782EB62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21E47-C4BF-4FFD-B6B2-87155E8641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able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ds 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ith respect to a schedule)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s some item which had previously been WRITten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transaction in it COMMITs until all transactions that it READs from have COM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er: in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ict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transaction cannot even read or write X until the last transaction which wrote X has COM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51C-39F9-4E1F-8204-2A70C7F1F9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3DF6B-BAA3-4EB5-9F12-BE61CB8869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6:11:46Z</dcterms:created>
  <dc:creator>Martin Dickey</dc:creator>
  <dc:description/>
  <dc:language>en-US</dc:language>
  <cp:lastModifiedBy>dickey</cp:lastModifiedBy>
  <cp:lastPrinted>1997-11-14T05:42:58Z</cp:lastPrinted>
  <dcterms:modified xsi:type="dcterms:W3CDTF">1999-05-03T17:59:16Z</dcterms:modified>
  <cp:revision>16</cp:revision>
  <dc:subject/>
  <dc:title>Schedules and Serializ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