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9FA-C48F-46E4-BA4E-80549AFF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C99-5C83-4DB1-B971-69D7AAE3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72E-8E93-4109-B1F1-DA3B4465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F30-75A5-4A05-B996-04E66EB0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512-DF0C-4AE5-8894-6D7895BB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7E09-DA89-4455-AF25-A367CD57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1BC7-A515-4C3B-BB61-BAB74BE8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CC7-95D1-45E0-880D-9774C09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185-6625-4857-9B69-4EFF5F08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55E9-5DBF-49AC-9DE1-89E64BC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82BF-0A3F-40A1-BFC3-C6CFB3D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1FF-A916-4B98-822F-125F14A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D81-1D12-4294-9942-28C22F5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8DC8-C543-41AF-B700-0696A390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7ED7-E25B-403B-8A2B-CE472200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2982-2E6C-4700-B336-80753FC8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E6EE-7565-4FD2-B9D6-C2DA1254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472-A71E-4AEF-8EF4-4426CA5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737-DDAE-4CDA-9DB1-B2DFD87A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D53-2749-4EE2-9CC2-667E457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660-FAAD-4E5A-9070-BCCF067E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F38-5C8C-4A86-8C92-B3CAE34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AA1-3A88-475A-A931-1A4F5F6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855-E3E3-48AF-9D84-4C1F94A1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2088-06E3-4C7A-B06F-6C48C44EDA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-</a:t>
            </a:r>
            <a:fld id="{8ECE4D9F-8083-4F6E-8A4E-AC2754BF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2D67-E578-43E2-9483-8F34EA51F6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-</a:t>
            </a:r>
            <a:fld id="{CB5E852F-1FDD-4982-B550-AB5A1159B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lational Algebr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 8.1-8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01B-3930-4EFC-981F-DFEE6A2DA4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189403B-ADB5-4814-9371-E222F641F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vision: R1 </a:t>
            </a:r>
            <a:r>
              <a:rPr b="0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f the reverse of Cartesian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integer division in that any "remainder" is disca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find all the tuples in R1 which are join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alues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2 attributes are discarded from th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 can be accomplished with combination of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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figure out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C4F-AED0-4D7A-BA9E-A3550560BA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EA2EE-2A48-442E-8531-996083BEE5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vision Details of 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R1</a:t>
            </a:r>
            <a:r>
              <a:rPr b="0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R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1 (divide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ttribute set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R1|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2 (diviso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ttribute set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R2|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R (quoti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set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the attributes of R1 not in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|R1|/|R2|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w is in the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answer (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that row (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X 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ccurs in R1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ation of the rows (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Y 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R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95D-441A-4DC0-AB31-B52558A5FA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9AD33-F83C-4ACE-A171-81D86896D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vision Exam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ho would have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lots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to talk about with Bessi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"Find (all) customers who have rented (all) the same movies as Bessie ha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hat airlines compete with Horizon Air?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the airlines which serve a city also served by Horizon" (not a division quer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hich airline is best positioned to put Horizon Air out of busines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"Find the airlines which fly to (all) the cities served by Horizon" (a division quer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115-40E2-4076-A365-4DC69671A2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216B4-A611-4C58-A5DE-F77367C73C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ggregate Functions (not in book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ly, not part of R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query languages will implement many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sually) unary operators, take a whole relation and compute a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, AVERAGE, MAX,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returned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one row and one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not as a scala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9D8-0296-4802-8FDD-D5E491D5E7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C75F2-78CD-4BE3-B027-8AF4A46E26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 and Aggregat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may be grouped based on attribut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it as a sort on thos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unctions can be applied to the grouped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s a value for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returned as a relation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ow for each group (unique valu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olumn for each aggregat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464-0ED6-4A93-AFCA-D92B9E9894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FBB44-545D-4496-9561-583BE148C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 Notation and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grouping attributes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gg. function list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List number of employees and average salary for each departmen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76320" y="3457440"/>
          <a:ext cx="5802480" cy="29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3457440"/>
                    <a:ext cx="580248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6D5-5261-49DE-82A2-FEF06DA7F4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F3922-46DA-4B31-AB37-E829C5132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Completen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ery language is "relationally complete" if any R.A. query can be expressed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 all R.A. operations ar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ept is analogous, b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, to Turing-complet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query languages are mostly mu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werful than the R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, group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'll look later at relational calculus and QBE, which are also relationally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219-5E24-431F-918B-6525C59545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979E5-9976-437D-B5CA-BDDABF03BB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tice Something Missing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: iteration/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ypical of relationa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airly natural queries are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the children of X” -- no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the grandchilden of X” -- still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the descendents of X” -- no w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example of a "transitive closur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embed the query in a procedural language (COBOL, C, et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268-D69B-4A40-B7D9-8C58C8A1D1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A0B45-9B53-47BE-9527-C1E492DB7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oking Ahead: Query Process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operations affects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1) 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2) probably much faster tha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1 *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set is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joins can be particularly ta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we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this affect how we write que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DBMSs do "query optimization"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reorder operations for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7A3-8D83-4A5A-8996-1591F5CE84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D71DA-C7C0-4372-969E-20F1A15AF1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n-procedura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on whol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 are sets, output is 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st arbitrarily complex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for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4F4-A1F3-48E5-B42E-64E7F5BE73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49881-6351-4CA2-96E8-C8456C53C8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A Operator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JECT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single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n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tersect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fference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ir of compatible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various flavors of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ny pair of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rt of the inverse of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unctions (unoffic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tuples of one relation, then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258-498E-49CB-B370-D1F6A9A35A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98458-23DC-4E28-9E40-74C83694A2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n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tersect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fference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ompatible relations: corresponding columns have s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re is no "set complement"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the complement of a table b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 tend to operate on a "closed world" assumption: "If it's not in the DB, it doesn't exist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olog: "If you can't prove it, it isn't tru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D20-01CA-4B5F-BE7B-6BFF02B1B7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40F0D-D8FA-4535-A03E-3F59E4E789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of tuples from a relation, based upon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D, OR, NOT for compound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a table with same attributes as original: a proper 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given a name (tempo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lationn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967-7DEF-4C66-B03B-2E25F51337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DC2CE-DA15-49BC-9C14-62E7E012A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of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a table with same number of rows as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ctually a subset of the original (unli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given a name (tempo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Symbol"/>
                <a:ea typeface="Symbol"/>
              </a:rPr>
              <a:t>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col-lis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lationn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935-6ADF-4046-A7B4-20B62B4964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4A6C6-981B-490E-8236-F5D352A552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operation on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 (these slide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Playbill"/>
              </a:rPr>
              <a:t>J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 whol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columns of R1 followed by all the columns of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description: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ed by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dition equates or otherwise relates common attributes between the tw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 superfluous common attribute is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305-759D-43DC-86B7-46A4379C89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44C1A-454A-4C82-BE83-394C75FB17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Equi" and "Natural" joi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-join: Common attributes are compared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to specify a joi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join on more than on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list attributes if names are not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fluous column of 2nd relation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atural join": Equi-joi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on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 (some texts): R1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ttr-l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 people say “join” natural join is usually what they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A62-EDFA-487D-8B57-A2DA939476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CDABA-8D9B-4EEB-A5CA-7B394C5E87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mi Joins (not in book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semi-join of R1 and R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of R1 is including in the output (with nulls in R2 columns if necessary), even if there are no matches in R2 for that 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semi-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of R2 is included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z: suppose R1 and R2 have no matches in their common columns.  What is the cardinality of: Cartesian product; natural join; left, right semi-jo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DFD-95EB-4A61-98BD-94694847E1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1DE41-18C7-415F-92B1-93A618A990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5T22:44:22Z</dcterms:created>
  <dc:creator>Martin Dickey</dc:creator>
  <dc:description/>
  <dc:language>en-US</dc:language>
  <cp:lastModifiedBy>dickey</cp:lastModifiedBy>
  <cp:lastPrinted>1999-04-12T18:03:51Z</cp:lastPrinted>
  <dcterms:modified xsi:type="dcterms:W3CDTF">1999-04-14T02:10:07Z</dcterms:modified>
  <cp:revision>17</cp:revision>
  <dc:subject/>
  <dc:title>The Relational Alg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