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A585-FDEB-46DF-8C93-4D0DFDF3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D452-63C8-4E3F-AEC1-5C0348C5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021C-7FC1-4F4D-9881-D1A6EAD8E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3547-5EB4-49B9-9C83-DD8486991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69AF-57B7-4832-9091-B0158EDCC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47EA-558D-474E-9D9A-E0F5DB3B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7784-CD33-4586-8549-8DCB13D4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86E1-8BD1-41C7-8D84-41BD8CA4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E74B-C23F-406A-B3A4-AA1FC007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FA02-D5C4-4DDA-BC11-1875A6BA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DFB7-FA2A-4DE4-9938-73D9FC2C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70AF-1575-4BAF-8E14-B665EF6E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6209-D1DE-4DE9-9E10-FB203145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D31D-D599-47AB-A0C7-1820B8B5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83922-615F-4555-A321-5F7C471F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1741-C251-4615-9D8E-1C24D8213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F1AD-8657-4631-995C-63DCDF8C8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20D1-A1E0-4435-9B34-E8DC2CD9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4392-8BF1-4EFE-A019-BAB7112B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F3AF-163E-492E-850C-CEEEBF9A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83E9-2482-47A7-AFC0-01B375BB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8238-0DF1-420D-B841-4E70C307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C853-43CE-4AC5-9510-3130923B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7173-4D49-41FE-B22A-D38352FE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DC60-2BC5-4305-AAB9-F60BD6CE5B8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-</a:t>
            </a:r>
            <a:fld id="{155951A7-2260-4509-B665-233385751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F842-5F1C-462B-84B9-9B14784F4F9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-</a:t>
            </a:r>
            <a:fld id="{AAE4BA01-E625-490B-8BD4-8715AEAE2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apping E/R to Relational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book Chapter 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594360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@1999 UW 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515C-269E-4638-949D-411DF8A24FA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A38A15D-AC89-47AB-8C1C-FFA68808FA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ig Pictur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/R is better for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desig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n rel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semantics, closer to user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is better for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DBMS's are widely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ping E/R to relational is pretty mechan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tit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p to entities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ationship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how up as foreign keys or new relations; al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nd up some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55F3-7787-4377-9F07-81D120C90E0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3D71E4-7547-4A0F-98BA-A74D7A425E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ntiti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ong entities (i.e., having a ke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k ent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o the entity the (foreign) key of its ow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we'll soon see, additional attributes may get added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7A13-3167-4DC6-835E-6CAA7B7D552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6E7297-066C-45CB-81C2-4149E4DB76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lationship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ties S and T are 1:1 in the relation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's key as foreign key to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any relationship attributes to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one of the entities is total, use it as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ties S and T are N:1 (S is the N s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's key as foreign key to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any relationship attributes to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462A-669E-43DE-BEF5-361E86CBD6F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50A03E-5590-496C-9CD3-DF9172E01B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:M relationship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new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s the keys of both S and T as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s a row for each pair of related S and T ent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s the relationship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nary and higher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ed as for binary N:M relationships: create a new relation with as many foreign keys as there are entities in the relationship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F778-A068-4DD4-AB4C-6EB635B22F8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63E303-5400-44F0-AF58-E16EEDA422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ttribut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attributes map unchan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noted, relationship attributes migrate to an entity (usually the "weaker" or "smaller" 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und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k into individual 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address" -&gt; "street", "city", "state", "zip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valued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 relation which joins primary key with each occurring value of the attrib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D1EA-C890-4F17-A43B-6422D50F075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159296-0CCE-41EA-A003-97A79DC73E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7T21:06:12Z</dcterms:created>
  <dc:creator>CSE</dc:creator>
  <dc:description/>
  <dc:language>en-US</dc:language>
  <cp:lastModifiedBy>dickey</cp:lastModifiedBy>
  <cp:lastPrinted>1999-04-07T02:15:47Z</cp:lastPrinted>
  <dcterms:modified xsi:type="dcterms:W3CDTF">1999-04-14T02:15:01Z</dcterms:modified>
  <cp:revision>7</cp:revision>
  <dc:subject/>
  <dc:title>Mapping E/R/ to Relat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cs.washington.edu/education/courses/444/99sp/</vt:lpwstr>
  </property>
  <property fmtid="{D5CDD505-2E9C-101B-9397-08002B2CF9AE}" pid="9" name="LinkColor">
    <vt:r8>16711782</vt:r8>
  </property>
  <property fmtid="{D5CDD505-2E9C-101B-9397-08002B2CF9AE}" pid="10" name="MailAddress">
    <vt:lpwstr>dickey@cs.washington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I:\cse\www\education\courses\444\99sp\slid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