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ED2-1B6D-4F0B-A1BD-960E3F14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E1A-8DFE-493E-83A0-669AC361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B45-F1DB-41E9-9574-2623CA74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09C-60C4-4095-AA35-8D70BBC6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123-2828-45FA-9656-113AF56F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207-5FC9-4D5C-ACED-2A36AC1E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0E7-ACD3-42D6-A992-95F59F80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137-CD98-46D7-B21C-56DD93B5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6EF-5D44-49F1-B416-04F254D1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127-5967-4ED2-8918-A4B93D04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161-2580-453D-8003-64A7619B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5B3-D235-4989-8715-4C8E11F7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4993-3A93-4157-B1C6-DB23909B04A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-</a:t>
            </a:r>
            <a:fld id="{4743160D-C1B4-4611-9A2E-8C55B8E4B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Relational Mode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book Chapt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751-63A5-47D5-8B07-FB0F8F8C31A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25A1A-84F9-4472-86C8-A7AD25450B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"Join"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Perhaps the most characteristic operation of the rel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consta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ing to implement e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dea: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rtesian 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wo relations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on attribute doma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lowed by a 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sed on those attrib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ally common: equality match ("natural join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9BB-632B-4FEF-9615-2F89C2A9746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53CC5-13C9-4C36-970C-5C35446717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ggregate Func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-theore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, AVERAGE, MAX, MIN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query languages have many of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s can be "grouped" by some attribute and the function applied to each group (rows with common values of the grouping attribu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9633-561A-4705-B460-C83A3D4A748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D29BE-27E2-44D4-BEE2-A79CCC3C9C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Update Oper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Insert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 new tuple to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Modify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an attribute value in an existing tuple of an existing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operations compared to retrieval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ny applications, relatively infrequ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426-6095-4D60-A0B3-213B69FB790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4D272-0F75-43CD-A717-F73158BD41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DL Oper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only the the D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ttribute domains and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e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relations together into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 relation o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/delete attribut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2A5-C5BA-4C11-B11A-E6923E46A6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4C48B-6394-41EE-9682-85A149BF37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ational Query Languag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re specified in a particular "query languag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: whole-table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Calculus: set co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relational 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perations and procedural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-like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BE: 2-dimensional set co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A10-A5EC-4BAE-95DD-B9B98CF6AA9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32E57-D1D1-4A77-967F-7AD1DFC38E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QL Preview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LECT LAST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ROM STU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RE GPA &gt; 3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is a relatio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NAME and GPA are columns of STU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is actually a project oper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is a select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B28-C8EB-42AC-A9AB-F84BE7FDEC6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F2DDA-40DC-4BF9-B00F-D7E6ED8685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ier models: Hierarchical,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to implement and program; efficient; widely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: Introduced by Codd &amp; Date (IBM), 19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ally poor; tractable to analyze; initially in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primarily research interest until 1980'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ow is overwhelmingly the leading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564-3E0B-490C-B8B0-6B9FE79540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4F862-627C-4DED-93F9-CAA5E13911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Big Ide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Tables" ("relations") represent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de up of "rows" ("tuples") of fixed-sized attribute values, one row for each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"column" of a table holds all the values of a particular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typically contains a number of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That's about 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899-18AB-4CE3-BF7D-974FA73907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07624-D355-4D63-9623-5FF409FD46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few more fac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 are sets (mathematical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uplicate rows (implies each table has a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rdering im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DBMS may allow ordering,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Null" attribute values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aution: "relation" is not the same as E/R "relationship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19F7-95E0-4E2C-AACD-C22BFF477CD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027E7-F00B-4E35-9BA5-6291CCBD25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implicity of the Mode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compared to E/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xplicit relationships between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mpound attributes, no multivalued attributes ("first normal form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weak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ardinality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to programmers to realize such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97F-8735-429C-BED2-0071E92D93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D92AC-33E3-4DEA-BE3B-9B92499DB1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straints in the Mode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constrain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values of a column come from a defined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constrain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there be a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primary key value not be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Referential integrity" (in the case where R1 contains a "foreign key" of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a foreign key value in R1 always refer to some row in R2 with that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sue: who enforces constraints and h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A3D-3914-48F0-BACB-CB878831708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90645-E4A1-470C-8804-C7043EA991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"Relating" Rel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noted: there is no direct analog of the E/R "relationship" (diamond sha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olution: foreign key in one of th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kward if not 1-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solution: A "relationship relation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are the keys of the two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s stand for pairs of related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in E/R, the two entity sets may be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69A-8B1C-4094-AAEF-4C64D37391D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C430C-20C4-4F5A-B75B-79CF7E3A13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ational DB Oper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See Chapter 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in mind: relations ar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long as two relations have the same colum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union, intersection, 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has same columns as 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tesian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how many colum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how many row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BC6-F758-4229-9B66-A360A073FCE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281C2-DF16-439B-97AD-B85BD25E27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lect and Projec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set-theore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elect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 subset of the rows based on some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Project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 subset of the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ll see notation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441-18FC-4BEE-9BCE-67ED48A871C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E1C81-2C0C-4178-9E28-0D0DB61567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5T18:56:44Z</dcterms:created>
  <dc:creator>Martin Dickey</dc:creator>
  <dc:description/>
  <dc:language>en-US</dc:language>
  <cp:lastModifiedBy>dickey</cp:lastModifiedBy>
  <cp:lastPrinted>1999-04-05T04:31:06Z</cp:lastPrinted>
  <dcterms:modified xsi:type="dcterms:W3CDTF">1999-04-05T04:31:30Z</dcterms:modified>
  <cp:revision>12</cp:revision>
  <dc:subject/>
  <dc:title>The Relational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