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224F-F284-43D6-A254-3E42BF12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3063-556F-4888-98AB-CE387437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8023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E999A-B0F9-4736-9500-AD9BE083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8023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8023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6EA28-3822-47F6-9922-60CD0199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F64D-95F5-4B49-BC2C-5DF16ECA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73F2-5468-46A2-A227-EA003673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E13B-850A-4836-ABB3-62288EA4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755D-C0D5-4A42-9452-949E8756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5380-B3B0-48C1-AA25-2A0F3874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9090-F08B-41F7-9896-66F03668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8023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A063-D336-453B-ADBB-8F7BCDA7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8591-66BF-4EA6-9787-142CC735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spcBef>
                <a:spcPts val="700"/>
              </a:spcBef>
              <a:buClr>
                <a:srgbClr val="ffcc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177840">
              <a:spcBef>
                <a:spcPts val="700"/>
              </a:spcBef>
              <a:buClr>
                <a:srgbClr val="ffcc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92240" indent="-114480">
              <a:spcBef>
                <a:spcPts val="700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92240" indent="-11448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92240" indent="-11448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6DDA-53B5-46CF-9A50-ED2EF4370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716256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513A-CC93-4F25-BBB2-6CD967C17A9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ata Modeling Conce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 Chapter: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6880" y="5867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9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F87C-0718-45FE-B96D-A49F47414AF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7E0C81-5CEC-401D-A0E4-21D23F9AA2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lationship Cardinal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to 1 (1: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sband to (current)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to its presi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o 1 (N:1) or 1 to many (1: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to her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to its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o many (N: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b member to cl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to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D5047-2BC3-40A2-84F7-D898137548A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C1ADDB-D36E-4CC4-AF42-7825153DED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lationship Attribu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attributes seem to attach to relationships rather than the entiti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st sold his soul for $1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”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 is a property of the relationship rather than of either Faust or his so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E846-A057-4CAE-AF60-61FDBD49803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A3F7CE-D9C3-46AC-8AE9-EE89FB10C5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/R No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entities, attributes, relations, keys, cardinalities, etc. have been identified, the E/R drawing is straightforw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s for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ds fo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als for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connecting lines and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0AA94-C3C6-4BDE-B664-D91CA537D9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64B581-BFB5-4A04-9DE0-ACCA8691FC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Real Probl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the diagram isn’t so h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a big sheet of paper and write in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What’s hard is understanding the problem well enough to know what entities, attributes, and relationships are needed to support the desired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y require an extended period of systems analysis and several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EEE4-F663-4DD6-9069-6738465758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FF7E28-89CA-414C-8E49-2FD28EDEEE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/R Mod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engths and weak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 well to relat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ally impoverish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s the relational mode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/R has been 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odels exist (e.g. UML for OO sys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D58C-621A-4993-9EBC-89E98BC5CC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6D2367-6B87-49EA-B45B-69F95E0478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ata Mode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: “set of concepts to describe the structure of a DB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level: close to the way users perceive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: how the data is stored in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and design typically start at the top of wor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ny intermediate level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2335-3B1C-4974-A5A0-319428661B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A4E140-557A-4317-A077-59582C1BEF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-level modeling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. DB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schema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(view) level: what users are allowed to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 level: abstract level, whole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r focus in this cours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level: stor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pendence between the levels i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82A76-0C7A-473E-9E03-1AA726A301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476E94-37FE-496A-B7F1-E64CC874C7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mplementing the sche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system an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ed by D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L vs D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ictionary/system cat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vs pa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1414-C2DD-4F05-8A87-AEE9356C17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632DE2-40F0-49D8-B820-30B7F170FF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ity-Relationship (ER)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ly turned into relat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view: identify and name the pieces of data needed in the application and identify key relationships an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E6D0-351B-438E-A366-0D5966B9B8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B25801-9133-4081-ACD5-6428087B26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tities and Attribu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176040" indent="-1760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present things in the re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udent, book, building, course,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escribed by nouns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corresponds to a struct in a programming l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present qualities of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rice, color, status, age, room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values are often adjectives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ttached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corresponds to a simple type in a programming lan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 compound and composite attributes exist too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37C4F-ED9C-448F-9EE0-47D2EB1C25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EB4093-D055-44C1-899B-B61B85A7E7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ypes and insta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y types vs entity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/ FDR, Chelsea, Shakesp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/ GWTW, Fire Your Boss, DB for Dum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s v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/ red, chartreuse, {red, white &amp; bl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/ $4,000,000  $13,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/ 1600 Pennsylvania Avenue, 415 4th St.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86C47-04AB-4658-9C2C-1F16D83C3B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D706F5-9F96-4FCA-A789-7A03C5654B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 between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between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owns a copy of GWT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and GWTW are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entities are related (“own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owns a first edition of GWT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edition’ is an attribute of GWT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was born in 1932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2 is an attribute of John (no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7F71-5476-4FD6-BE0A-40353A2CC7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54F639-2ECA-4100-B1E5-8E1EA74E6D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s with uniqu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: each has a unique SS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s: each has a uniqu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more than one possibl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ffcc66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re is no natural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plants encountered on a nature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first names of employee’s depen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“weak” entities if no proper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a relationship to a “strong”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B697-D53B-4B77-9416-F3B9032880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980E08-4B76-4F3B-B8B4-B753FCDC56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8T03:32:12Z</dcterms:created>
  <dc:creator>Martin Dickey</dc:creator>
  <dc:description/>
  <dc:language>en-US</dc:language>
  <cp:lastModifiedBy>dickey</cp:lastModifiedBy>
  <cp:lastPrinted>1999-03-31T05:04:12Z</cp:lastPrinted>
  <dcterms:modified xsi:type="dcterms:W3CDTF">1999-04-05T04:07:20Z</dcterms:modified>
  <cp:revision>13</cp:revision>
  <dc:subject/>
  <dc:title>What is a Databas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