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23E-F2FF-4D1B-901D-769BE68B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C94-0058-4EEA-B6E7-C8D32A53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A0A-770C-42DA-81A4-8D7F23CA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55A-1AA8-49D3-82E7-B5596698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1EA-6625-4BC1-875F-7FCA5A23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FBC-3DE9-40EF-A6C8-A96EDC97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645-05B7-4FE4-A3F9-7C200031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3AE-BD63-4521-AB07-514A3BC7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CBA-73BB-4A98-83D5-D027CBC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5F6-B9B4-406F-952E-537FCCF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615-292E-470A-AE1C-A42E71AF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E46-5907-41D2-87AE-048FEA0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C1C-8F0F-4863-A3D1-660C89750A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-</a:t>
            </a:r>
            <a:fld id="{B21955E4-F055-4495-9B53-7E55573C8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a Databas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: 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6880" y="5867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BB3-36A7-4F01-B2A8-ED4B4044413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5E1FA-F9D3-46F4-A13D-8DB1138C5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c topics (concluded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torage and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ata is organized on disk for efficient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particular we will learn about a data structure called a "B-tre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processing (time permit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mplex queries can be internally reorganized for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9B3-7879-42F1-87A6-C5442C9400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5FD5E-B34C-4E47-AE23-A8CFE9BC9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 Least One Modern Topi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data types (sound, images, time-seri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ersistent" 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with OO languages like C++,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 and practice are both in 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70D-FF39-451C-988B-0E22EF5790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BF230-558B-414E-822E-3149F9190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base Sou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GL RAD RAID R/3 Datamart ODMS CORBA COM JDC SAP MDM OLAP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's going on out there?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chedule permitting, we'll use a little class time to sort through some current commercial develop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papers could also stir through the s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projects might use some of that stuf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EBC-0C0C-49F5-8F80-9701356803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1CEEF-B5A7-457D-B43D-32466EE89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you’ve probably noticed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has links with many other areas of Computer Sci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Try to spot the connect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FA3-C6EE-41F3-B8D5-DFD8F90F21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B0705-19C3-4A0B-8ABF-1BBE7FA30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Lay 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"A database is any collection of informatio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be a simpl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not even be on a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 too broad, but it's hard to fight everyday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99F-C046-41B4-A755-B23A4F1741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A823B-BC0D-4957-8849-2EDD60CEB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extreme operational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"A database is a structured collection of information created, managed, and accessed using one of a number of software packages commonly accepted as Database Management System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limited, but on the right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tructured" and "using a DBMS" are fairly ess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731-7D70-4FAC-B975-AF3BC0FF46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2236E-D914-49B8-BA53-452317B774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se are not found in every DB, but most are found in most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ree-form text, not large binary bl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stances of a few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napshot of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54D-C451-4E46-9608-1FA82AFDCE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03AEA-C10F-4601-B751-D086568C50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re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d-users and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viewed directly by end-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administrativ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from end-users and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rocessing” rather than “computer scienc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Characteristic applications are large, long-lived, and critical to th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088-7106-4660-834C-E51330F72D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472E5-DEAE-46AC-9371-582CD9E32C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atabase Management System (DBM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 components for creating, administering, and managing access to th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Below" the DBMS: file system, operating system, networking,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Above" the DBMS: DB administrator, application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Above" the application programs: end-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0A6-6B68-48D8-96A8-906BE093CA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74B02-ED59-4B0B-AF09-9768D5451A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Cs vs Mainfra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s: The same person may act as administrator, programmer, end-us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frames (or big applications generally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ly a sharp division of hum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and the DBMS may be part of an even more complex software/hardware arra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mputers, multiple platforms, client/server, networks, tie-ins to other software system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A30-3F71-4CE4-961C-7FC47701AA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612E3-CE9C-4332-B5AA-0FF0CA627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Classic DB Top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real world and the application, identify pieces of data needed and thei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study "E/R modeling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the model into a structure supported by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focus on the "relational"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868-DE2D-4A85-9699-251B92CA9A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F9598-4EA4-4E7E-910E-5399E9EDF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c Topics (continued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 designed to support "queries" (requests for data) and other DB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study the formal "relational algebra" and the practical language SQ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user-activated programs, to guarantee service and preserve DB integ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learn the key issues and terminology of concurrent access and crash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D5D-1C56-4CCC-8B53-A71C65EE29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D62EA-08CC-451F-A2FC-43B99EBE6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3:32:12Z</dcterms:created>
  <dc:creator>Martin Dickey</dc:creator>
  <dc:description/>
  <dc:language>en-US</dc:language>
  <cp:lastModifiedBy>dickey</cp:lastModifiedBy>
  <cp:lastPrinted>1999-03-29T03:55:25Z</cp:lastPrinted>
  <dcterms:modified xsi:type="dcterms:W3CDTF">1999-04-05T04:01:32Z</dcterms:modified>
  <cp:revision>9</cp:revision>
  <dc:subject/>
  <dc:title>What is a Databas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