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7028-16DF-4626-848C-3182D848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6C9D-349E-4862-AF18-FC0382B2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2C06-8797-4C14-9ADC-7BF0B114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BF85-2136-4CCA-BC7C-BD24ECFE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3E23-4D44-4466-B02A-4CEBF917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3562-F86A-453B-BAF1-CBA11E06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99E3-070A-4BD1-A171-C0CCDED6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AC01-2AF6-4EA8-8799-77008F17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534C-D953-400D-937A-C35EFC7B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E438-5FB7-4EF7-A429-EDB52752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BC16-FAC0-4A8C-B4BA-633835A1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ABF2-D71E-4FE9-BAC6-71C4480C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2190-8234-43A1-9595-3640589E385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-</a:t>
            </a:r>
            <a:fld id="{A21677E7-2F3C-4D14-9D3B-B3B9B5D76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atabase Management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ring 19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ity of Washingt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and Welc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5867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1999 UW C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E9EC-25BF-413C-B7F8-937431630A5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6C766-4757-44FD-AA2C-D555CDA68A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s-on Stu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: Sieg 232 (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 a visit today!  Verify you can log-on and start up MS Access and SQ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www.cs.washington.edu/education/courses/444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E-mail list: CSE4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e can do a lot by e-mail and web, but I still would like to see you in pers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2C63-9EDB-4B32-B93C-4C9894DEBE8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81D38-B7AA-437D-B040-A4CC7F57B1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king forward to the project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group with a different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to know each other so you can form good group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Service" ori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fulfill a real need for someone outside the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hasis on 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also specification, user interfac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9C5B-1145-477A-A045-FD78509A4B0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1E577-FBDB-48D5-92D3-4DFEFFA1C5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A Note of Ca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jects will OVERLAP other activities: tests, homework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ay expect conflicts and deadline clashes within the cour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lease use all your best time-management skills to avoid overload and stres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1911-9545-425B-9AB2-3539D434C29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9A248-98D1-4FD8-80F2-6D8BC8C285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y's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contents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structure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database?  and who car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B993-6759-4BF8-BF4D-52A673C399B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87025-3923-49C7-96D4-76522F8C81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 for decades has been the workhorse of corporate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glamorous but ess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ts of good-paying (but dull?) jo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 is once again a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hot h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, very large DB, new media, distributed heterogeneous computing, the Web, etc.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the corporate applications are getting snaz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4DF0-0000-4E1F-BD7B-321D593ECB0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721D6-E685-4BDA-94C7-8566D93431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Goals for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classic topics really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/R modeling, relational design, classic query languages, storage and indexing, transaction processing 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s-on practice with small DBs on 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 building something for a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awareness of some current tr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6600"/>
                </a:solidFill>
                <a:latin typeface="Times New Roman"/>
              </a:rPr>
              <a:t>Enough background to go forth and learn anything you need to in the real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68B1-01DA-4CFB-A68A-BB7E8F18615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ED0AE-BF83-491A-BB9B-FC873C0A01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is course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"Mastering SQL Server" (or Microsoft Access 97 Oracle or Sybase or whatev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becoming an SQL gu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building way-cool GUIs in Visual Basic or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course on CORBA or ODBM or SQL Server or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AED7-E37C-450C-BCBB-AA6C5C12912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20E55-1F47-4302-B588-52DD53D494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ou in the right cour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E 326 is the prerequi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very help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Engin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E 444 will likely be taught again in Autum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36A4-BD31-4330-8F46-6F194FCF8B1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E30F6-C3BC-4A88-8F93-CBBB80CF7C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ctor's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0's: database consultant for Honey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0's: as a grad student, DB was one of my "quals"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0's: taught a semester-length version of this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t to feeling somewhat distanced from current practice... but excited about the possibilities to lear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r projects will help correct tha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DC64-882E-4AC5-BC89-8FDE5729EB2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88E9A-0A43-4679-B536-37B71C49C2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s: midterm and f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 but not hu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(non-programming) ho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s-on homework (using SQL Server) including some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DB service project (due end of quar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57D3-3580-4D34-866C-0BB867AECE7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97E56F-F6D5-4E5C-89F9-010235AC4F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: Jake Cockrell and Ryan Satog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peri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des will only outline the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follow text, sometimes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'll wa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participate, t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: Ramakrishn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abase Management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reading today!  Chapters 1 and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you might want to buy books on MS Access and/or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46DB-1244-42E0-972D-3C2F601B3CD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EDAD0-D476-4E22-A59A-61CCDD35C2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8T02:27:28Z</dcterms:created>
  <dc:creator>Martin Dickey</dc:creator>
  <dc:description/>
  <dc:language>en-US</dc:language>
  <cp:lastModifiedBy>dickey</cp:lastModifiedBy>
  <cp:lastPrinted>1999-03-29T03:50:27Z</cp:lastPrinted>
  <dcterms:modified xsi:type="dcterms:W3CDTF">1999-04-05T03:39:46Z</dcterms:modified>
  <cp:revision>15</cp:revision>
  <dc:subject/>
  <dc:title>CSE444 Introduction and Welco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cs.washington.edu/education/courses/444/99sp/</vt:lpwstr>
  </property>
  <property fmtid="{D5CDD505-2E9C-101B-9397-08002B2CF9AE}" pid="9" name="LinkColor">
    <vt:r8>16711782</vt:r8>
  </property>
  <property fmtid="{D5CDD505-2E9C-101B-9397-08002B2CF9AE}" pid="10" name="MailAddress">
    <vt:lpwstr>dickey@cs.washington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I:\cse\www\education\courses\444\99sp\slid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