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95E-FC9B-4FE8-85E1-B5476D63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D1F-E259-4E73-AD80-D23A641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412-FD55-47ED-BF14-AB4E2E77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C37-C1EC-482C-9FD2-4A8B3DBF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4D8-8B23-470A-A973-6E43398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7BA-A213-4372-B538-54EEB534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D6F-AD1F-45C1-98C5-5AC9D65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EEE-7559-4729-BD96-482F3EB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200-99DA-4DA4-914D-F4C4AF8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672-777D-410C-B6C3-6D56785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332-9957-42F7-9C7C-661297A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ED4-52DF-437C-97B9-4BDA743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01A-1DFD-4BAD-95B3-880BA7FE37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-</a:t>
            </a:r>
            <a:fld id="{DCACE78D-D26A-45C5-8F3D-359776C2C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action Processing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3F4-2B2D-4147-80FE-5B95041CB10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BC47-3173-4D73-9F1D-A1BE8C30E9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DB Must Not Cras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be allowed to become in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B that's 1% inaccurate is 100% unus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los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become un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A matter of life or deat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2E4-CBA4-4DC9-BF38-1CE472B26C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4F246-ED5B-491E-93AE-1C0F599BCE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action Manager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or TP Monitor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part of OS, a layer of middleware, or part of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du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and start the righ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imely, fair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s thei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start/stop, writes, commits,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s or avoids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recovery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C27-FA9C-48F8-9D04-C8CBE44307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43AEB-D91C-4137-9C3D-9617D68E0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’s on the Log Fil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tarts/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writes: "before" and/or "after" images of DB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s can be used to rollback an aborted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s can be used to redo a transaction (recovery from catastrop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The log itself is as critical as the D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753-DC10-4F7A-900C-A4597CDD4B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FF902-D0AC-43B0-A038-8E524D04A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g TP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ure simultaneous transactions don't interfere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ction to restore the DB to a 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3A3-3BD5-4615-9284-82E17BA2B6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7CADE-94E3-43B2-9729-2F5E425259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CID Te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stency 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58E-CEA5-48B2-BF04-E67604C7B9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6EFF-10E2-4765-B445-6222E9693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ers and DB Progra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users don't see the DB di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only vaguely aware of it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cutely aware of  part of it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is not a suitable end-user inte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SQL query is not a sufficient unit of DB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on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check constraints not enforced by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do calculations, realize “business rules”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F17-AD13-4B02-90FB-F8EAD41C75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990E6-5A3D-47B7-A4BC-859E8C41D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ers and DB Progra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go, a program is needed to carry out each unit of DB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users interact with DB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SQL, etc.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many users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many simultaneous executions of thes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expects service and correc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r should not have to wait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user should not be affected by errors in othe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B7C-A715-4CBB-9F68-1F807CD1AA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9A52F-7C5E-4E6A-A952-86618A282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s of User/DB Intera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"Centralized" model, all of DB and all of program is on the 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has "dumb termina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"Client/Server" model, user interface (UI) is local (PC) and DB is remote (mainfr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"distributed" model, UI is local, some of the DB is local, and some is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intermediate models are also ev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A8C-6233-4787-97BE-B0354CD0D5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92274-FFE1-4291-A208-BC342C09E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finition of "Transaction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Definition: A transaction is the execution of a DB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pplications are designed as a set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data from user or from another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DB reads/w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s with display of data or form, or with request to start another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C87-11A8-4877-8554-E69089BF2E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43F9A-99C8-45BF-8421-BF8D19DE2C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must be "atomic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ffect is all or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must be consistent before and after the transaction executes (not necessarily during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action executes fully and "commits" to all the changes it makes to the D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t must be as though that transaction never executed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631-31BC-4621-A61A-F576BBA396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1EDE2-06CB-4534-BAD6-4AAB786E5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Typical Transa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ser view: “Transfer money from savings to check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: Read savings; verify balance is adequat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pdate savings balance and rewrit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*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read checking; update checking balance and rewrit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still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in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consisten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E91-F887-4145-A841-3A62D489EB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A0A7-D62B-406A-A976-F604F3166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Commit" and "Abort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s which only READs expects DB to be consistent, and cannot cause it to become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which does any WRITE finishes, it must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"I'm done and the DB is consistent again"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B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"I'm done but I goofed: my changes must be undon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2CE-D58B-4F78-A003-D43EAD2405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4D18-080F-4E33-AF69-F4C29192E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B may have many simultaneous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why mainframes are still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users implies simultaneous transactions implies simultaneous DB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rogramming/multi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can go wro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can conflict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may crash, OS may crash, disk may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ses customer, gets sued, goes bankrup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F0E-FA6F-4F59-9F0D-5151454681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78A16-9638-4005-959E-1F01CD9A4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05:13:32Z</dcterms:created>
  <dc:creator>Martin Dickey</dc:creator>
  <dc:description/>
  <dc:language>en-US</dc:language>
  <cp:lastModifiedBy>dickey</cp:lastModifiedBy>
  <cp:lastPrinted>1999-05-03T17:51:40Z</cp:lastPrinted>
  <dcterms:modified xsi:type="dcterms:W3CDTF">1999-05-03T17:57:40Z</dcterms:modified>
  <cp:revision>11</cp:revision>
  <dc:subject/>
  <dc:title>Transaction Processing Concep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