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42C-FBBE-45DF-BD17-26DF7F21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2D9-3BAF-4076-8DC0-504061F9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EDE-3707-4A71-BBA8-C836CB46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299-44B0-4AD8-A36F-9BE6FADB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F465-5685-4D35-ABF0-0034A7BC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7256-C20E-4F47-82C4-566906B2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3056-4DFE-48DF-8E34-0A7B9505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C64C-E47F-4300-ACC6-C62C422D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0290-78AF-4FED-8D30-941170C4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3382-5A16-4189-AFA3-6465C62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1B71-0C1B-43F6-A709-E509E5B4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F94-3C3E-4A94-A579-B85DA4C5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962C-C72D-4EDC-8E69-9D39B1AC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D120-60A8-43A8-8A2C-1139AB0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1F83-D7BC-4C9B-9817-67DE7C33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5852-4BC9-46BA-BEA9-FDC5C203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E5A3-3F9E-48B4-A15F-43C798C7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B4E-5FBB-436D-B833-F9BCD541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315-BD18-4737-A1A3-5F09A497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692-01C3-4731-A41D-7DA01F2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973-E93C-478A-B063-E411EE9A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21D-DE18-4C1B-B422-5981D595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3B7-D2C0-4AEF-8E6F-40C9253C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DDE-591B-4EB2-BE98-8BD18623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299E-BC45-4609-9482-94D6567F3C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-</a:t>
            </a:r>
            <a:fld id="{F4337AEA-354D-4B35-8524-0B4EABB91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0979-B878-4552-9F7A-11CFE9E8B3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-</a:t>
            </a:r>
            <a:fld id="{55FC7008-4630-4ACB-A600-4AE4945EE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composition and Higher Forms of Normal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k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6A2A-45E8-4B0D-B93E-2AB7E649030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0D9B9F8-2D7D-42C8-89C8-1D908D5609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VD Theo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hole theory exists, analogous to FD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strong’s axioms plus 5 additional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EA1-142D-4BF7-94F5-C22C480239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C5B28-AFFB-4717-8CBB-30B4B3B5F8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urth Normal For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R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4N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for every nontrivial 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, X is a superkey of 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 into 4NF: If there is a non-trivial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,  form one relation with only X and Y, and another with R-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words, allow only one MVD per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lossless, but not necessarily FD-preser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ing 4NF is a trade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92B-2AD5-4B21-A148-B52FE36C746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77B71-1435-4447-9A10-98C9A4872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fth Normal For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 relation cannot be losslessly decomposed into two relations, but can be into three or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NF captures the idea that a relation scheme must have some particular lossless decomposition ("join dependency"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actual 5NF cases is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406-8F68-4410-BB2E-9492C85885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9FD22-752A-41B9-97FB-EAC5A4AB11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ization Summa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NF: usually part of the wood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so, know how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F: usually ski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lots of defs. that make great exam Q'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NF: a big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aim for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NF and 4NF: tradeoffs start 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: d-preserving and lossless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NF: You can say you've heard of i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384-70A1-4A23-8388-435F13A95C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97C86-3A58-4ACA-9EC9-1929A01D4E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ave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ation is not the be-all and end-all of DB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suppose attributes A and B are always used together, but normalization theory says they should be in different 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might produce unacceptable performance loss (extra disk rea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us -- there are constraints other than FDs and MV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0DC-015B-4780-8A05-21B51F66D16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895D1-B9FA-4DED-9492-79DF93EF68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oking Ahead: One Query Is Usually Not Enoug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ingful unit of DB work might involve doing one or more queries, checking constraints, performing calculations, interacting with use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 unit is termed a "transactio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ransaction Processing" will be our next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7CD-D979-430C-951B-7F56C74099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CDA6E-A771-4C90-A5C7-226C6298D6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urrent Tren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Bs and Object-Relational DB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permit complex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normal form un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Wareho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e historical databases, seldom or never updated after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expensive or im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es against norm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-day Relational D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 for BCNF, settle for 3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FBB-61E6-4A97-B544-91594D32A2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83AF4-76DD-49B5-B7F4-4E0C346AB5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Lossless" Joi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in idea: if you decompose a relation schema, then join the parts of an instance via a natural join, you might get more rows than you started with, i.e., spurious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ba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a "lossy join"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decompositions which produce only "lossless"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non-additive" join is more descrip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2C0-DE45-4AD5-8A15-FBD72A7566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362A5-A0CB-49B7-8D39-BAF2D3A3AF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eserving F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, when a relation is decomposed, the X of an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ends up only in one of the new relations and the Y ends up only in an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 decomposition is not “dependency-preserving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Always have FD-preserving decom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F65-6EF8-47B9-890F-2C6E1B1EC1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FA815-7F92-4235-A984-79CCA1F483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composing R Into BCNF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an X-&gt; A which violates BCNF, where A is a singl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so that R1={X,A} is in one relation, R2=R-A is in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if necessary on R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anteed lossless... but may lose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D with SB-&gt;D, D-&gt;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F85-F287-4137-AAED-D7D08347DB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2C6E2-F7F0-4526-89AB-A6A031233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composing R into 3NF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is much more compl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t a “minimal cover” of F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Find a lossless-join decomposition of R (which might miss dependenc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dd additional relations to the decomposition to cover any missing FDs of th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will be lossless, will be dependency-preserving 3NF; might not be BC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196-1E4F-4160-9A86-801D064583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8D02A-A0F6-4CD4-9175-116DE21A3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 of life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inding a decomposition which is both lossless and dependency-preserving is not alway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6E3-D075-42D3-B1FE-856B31AF5F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2829F-927D-4BDE-98CA-36D7418606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racts schema CSJDPQV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s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pplierid, projectid, deptid, partid, qty, val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d is a key; JP -&gt; C; SD -&gt;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candidate ke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NF, 3NF decomposi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J-&gt;S is ad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ED4-8E5F-4A3A-B149-3EADEC20D6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258AC-3DD5-4CB6-97E3-913FED0454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ltivalued Dependencies (MVDs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given X, there is a uniqu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possible Y values (which do not depend on other attributes of the re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NAME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FD is also a MV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VD problems arise if there are two independent 1:N relationships in a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07E-C7CB-47B1-A8EF-780BA4ACB2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74BD8-78ED-4629-9867-34E65CC34D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xtbook Example (3-way pun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, teacher,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eacher teaches a set of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urse has a recommended set of books (independent of teac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286-661B-4801-A4ED-E8A1475CF5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792FB-44BC-47F5-B741-6B1F2A6019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7T02:44:08Z</dcterms:created>
  <dc:creator>CSE</dc:creator>
  <dc:description/>
  <dc:language>en-US</dc:language>
  <cp:lastModifiedBy>dickey</cp:lastModifiedBy>
  <cp:lastPrinted>1999-04-30T18:20:22Z</cp:lastPrinted>
  <dcterms:modified xsi:type="dcterms:W3CDTF">1999-04-30T18:24:21Z</dcterms:modified>
  <cp:revision>12</cp:revision>
  <dc:subject/>
  <dc:title>Higher Forms of Norma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