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AFE-AC2A-4ED5-8417-4B667217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D23-9279-4EA2-9E96-98A47977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E0A-021E-4B62-B73B-2F896720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814-7D5E-4F74-9B7F-11AC8450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6F2-90F4-4AD5-8586-9F725A63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0E3-3B70-470C-A4E5-E836D664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5CC-D249-45D3-A12C-513A07C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626-F0F9-4CAD-8020-E9547C8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FED-4F8E-4EA2-AAD9-C4F36EEF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6C8-132D-4CDB-909B-4907924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541-4E0C-4D04-AD16-5B66D8FD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1E8-74EF-487E-9ACA-2910527D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8CE4-F4EA-445C-A64B-00E8FE0275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-</a:t>
            </a:r>
            <a:fld id="{36F1F74E-8197-4A9E-8745-CB84FA934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ma Refinement and Normal For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B7B-A95E-475E-B611-63AEA164A74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9A94B-4A3F-4365-ABB9-85BC5EEB38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s about F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s are purely semantic in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s are facts about the abstract relation, not just about a particular relation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must hol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ossible legal insta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ttributes of a relation are functionally dependent upon its ke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we can formally define keys in terms of F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162-B5BE-4FEE-BC7D-146252095F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DA2E7-C032-48DF-BB58-221C2199D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erence Rules for F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FDs, it may be possible to deduce others by purely syntactic 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Given that {A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B,C}, it follows that {A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B} also (and  that {A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C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2E4-1765-490C-B70D-94B96166AB9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853C2-1315-4343-A24F-A10860DF4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mstrong's inference r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strong's rules (provable directly from the defini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1. Reflexive ru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, then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2. Augmentation ru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then XZ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3. Transitive ru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and Y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 then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understand the idea of FD, these should make sense, even if you can't prove them form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EEE-71B8-46C1-B0EF-7DE3A62398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2123E-CC18-46F1-99E7-1FA1EA8BFC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me other rul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 from IR1-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4. Decomposition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Z then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5. Union (additive) ru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and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 then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6. Pseudotransitivity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and WY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 then W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hould also make sense.  Try them out with actual attribu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7BE-0E9F-4DD6-9F09-8D611EB538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21BB2-8FB9-4C8E-BF4C-5DB38C1F26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osur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+ is the "closure" of X: the set of all attributes functionally determined by X (given a set of F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9CD-DB1D-419A-A585-7618A98307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D231A-93D7-42AE-BCC0-328658E2D2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ization Procedur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relation schem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it against a normalization criter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passes, fi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test again with a higher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fails, decompose into smaller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m will pass th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an then be tested with a higher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73A-5A3B-40B3-A016-E7854FF258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84190-1565-4436-A89E-3C778DAB88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st Normal For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already se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's the concept that all attribute values have to be ato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w taken for granted in the 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s being questioned again in the objec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attribut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n'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to be ato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F4D-FB6F-44CB-A602-0165476157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CD6F0-0C23-43A6-8FA0-FF61E0BC06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key: attribute set with uniqu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minimal superkey (no attribute can be remo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more than one such "candidate ke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is designated the "primary ke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ime" attribute: occurs in som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Non-prime": occurs in no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3FA-1A14-49CE-8353-FD04CA8BA9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83AEF-8C47-4D45-8935-82A1AF9467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ull and partial dependenc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Y is a "full functional dependency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attribute can be removed from X and there still be the depend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Y is a "partial dependency"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me attribute can be removed from X and the dependency is still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825-2C2E-4E29-A6DB-48947001A2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6748C-0044-4CF8-BAD5-01138B5F5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NF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of historical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schema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NF) if every non-prime attribute in it is fully functionally dependent on the primary key of the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generally: …FFD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4724280"/>
          <a:ext cx="712800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24280"/>
                    <a:ext cx="7128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2CA-2583-4A7A-84F0-48A045B985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B0D55-5B9C-4788-9EF9-6A3BF9273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ngs can go wrong!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relational designs we've seen so far have been pretty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small, intuitiv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model not far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elessly designed schema can lead to bi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evaluate a sche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sign a good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633-59F8-4F10-90A4-0121AEC5A4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45145-9E0D-41C9-BA75-33B379BE6A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NF (1st Definition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itive depend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et of attributes Z that is not a subset of any key of R, and both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 and 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schema R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Normal Form (3N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in 2NF and no nonprime attribute of R is transitively dependent on the primary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8D7-3CD5-46E0-AE63-237C29D46E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599D3-3F13-47D5-A5BC-2E506BBC51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NF (General Definition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Normal Form (3N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, whenever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lds, either X is a superkey, or A is a prim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Informally: everything depends on the key or is in the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ite the thorny technical definitions that lead up to it, 3NF is intuitive and not hard to achieve.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im for it in all designs unless you have strong reasons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AA0-177A-435D-98E0-A246D66FB7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11408-EFE9-4420-B74E-BC9323168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yce-Codd Normal Form (BCNF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F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whenever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lds, then X is a super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ghtly stronger than 3N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R(A,B,C) with {A,B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 but not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uideline: Aim for BCNF and settle for 3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6BA-036B-45C1-B6AA-3AF34900DD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CC9EA-B81F-4403-A000-D247D9F98F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n of Attac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some inform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an important type of semantic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nd illust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define "normal forms" 2NF, 3NF, and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ghtly: Multivalued dependencies and 4NF; Join dependencies and 5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EED-2B19-42E4-87FE-0A1BE0BB4F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D2265-4032-4D8B-8AA0-3589543667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istorical Not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ation until recently was ultra important in DB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there is a more relaxed at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important to understand the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FD6-5472-4713-BAAD-7D55161846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A3846-4718-4600-93BF-04E97377C8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Guidelines by Elmasri and Navath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sign a relation so that it is easy to explain its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sign so that no insertion, deletion, or modification anomalies can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void attributes whose values can be n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sign so that reasonable joins do not produce spurious tu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4F9-52CA-4C6A-BFB9-198F79A587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A6BB8-B45F-4C9D-8718-FF85E7F482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"Universal Relation" Approac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identified all the individual pieces of data (attributes) of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The database design problem: group the attributes into rel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formal guidelines are one way of evaluating the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y of functional dependencies and normal forms gives a more precis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076-266F-4478-A639-2D66DE6708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1263F-0292-4EBC-BB33-3651FD5BB0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unctional dependency define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X and Y b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Y means that Y is a function of X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.e., if you know the value of X, there's only one possible value of Y.  We say that "Y is functionally dependent on X" or "X determines 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Y does not imply Y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X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5DD-C419-417C-913B-E72CA4679C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92198-7830-4B78-8D0F-DEF55D52C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know the SSN, there's only one possible name (is the reverse tru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know the department number, you know the departmen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A7C-C668-4397-9FC1-202B39C25E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9FAAB-3C65-4DA0-926A-BB98AED0B2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pendencies between sets of attribut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oday's date and the date of birth, the age and the years until 65 ar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TD, DB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AGE, YTO6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know the file pathname, you can determine its size, owner, and date of last mod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SZ, O, MDT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when writing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, we assume that X and Y are sets of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800-F1EC-41A3-A868-CF83D2A5DB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5AC36-3AF8-4AF5-A0DF-F86CC874A3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6T22:55:34Z</dcterms:created>
  <dc:creator>Martin Dickey</dc:creator>
  <dc:description/>
  <dc:language>en-US</dc:language>
  <cp:lastModifiedBy>dickey</cp:lastModifiedBy>
  <cp:lastPrinted>1999-04-26T18:13:25Z</cp:lastPrinted>
  <dcterms:modified xsi:type="dcterms:W3CDTF">1999-04-26T18:20:22Z</dcterms:modified>
  <cp:revision>15</cp:revision>
  <dc:subject/>
  <dc:title>Principles of Relational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