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7832-8198-4064-85F6-E2A3F144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FD48-8F22-4CCE-B232-94DA1BC9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962A-87F2-4C9A-8341-6C394E8D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6312-FC29-4CF1-8C90-7ACAC2DE5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F981-99EA-4BBA-BA73-0F449175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2BD0-B8D2-4B37-9B26-A65ABA46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672D-0107-4B98-9ACE-249C8EF7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B217-880C-46C4-9E27-7C1A8329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AB62-E2F1-4AD1-A762-1816D442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DC5A-3972-41F9-BC08-DA1A4010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59A1-E240-4967-909A-44970C8E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4AA1-A716-4073-85DD-1C4517EB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B3E2-0972-4E28-B38E-9FB0F1B4C5B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-</a:t>
            </a:r>
            <a:fld id="{1930F2FD-97B3-465E-886B-EEDB0119E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lational Calculus and QB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7251-89A3-4207-BAF1-B95D96AF697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9C714B-1AFF-475D-BF87-52620780A6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Relational Calculu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 the Relational Algebra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bstract DB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aggregate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.A. and R.C. can accomplish the sam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relationally complete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Queries" describe sets </a:t>
            </a: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{ | 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desired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clarative than RA: no operati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flavors: "tuple" and "domain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C70E-8E6E-4B86-B953-4588A0F06BB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3205BA-3F61-4598-AB3E-E279B124B3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uple Relational Calculu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elements are tuples from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'Find employees named John'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{t | EMPLOYEE (t) and t.FNAME = "John"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as: "The set of all t such that t is an element (member) of the relation EMPLOYEE, and the NAME attribute of t has the value John.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L (Ingres) and to some extent SQL are base on tuple R.C.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A9AD-ABCF-4D96-A4E8-27FA7FA976B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3354B6-A81D-41D7-A483-02ED540E62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Join Exampl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’s no explicit JOIN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there are no operati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Find names of employees who work for the Research department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{e.FNAME, e.LNAME | EMPLOYEE (e)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((</a:t>
            </a:r>
            <a:r>
              <a:rPr b="1" lang="en-US" sz="3200" spc="-1" strike="noStrike">
                <a:solidFill>
                  <a:srgbClr val="33cc33"/>
                </a:solidFill>
                <a:latin typeface="Symbol"/>
                <a:ea typeface="Symbol"/>
              </a:rPr>
              <a:t>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d) (DEPARTMENT(d)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e.DNO =  d.DNUMBER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d.DNAME = "Research") 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ED7B-65CF-4F57-92C9-DCD1D2E70FC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7F2225-430E-41AD-B072-B53B675658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lational Calculus vs. Predicate Calculu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flavors of R.C. are extensions of the predicate calcu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give formal definitions of terms, formulas, scoping and binding of variabl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uild a model theory with TRUE, 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C. quantifiers like </a:t>
            </a:r>
            <a:r>
              <a:rPr b="1" lang="en-US" sz="3200" spc="-1" strike="noStrike">
                <a:solidFill>
                  <a:srgbClr val="33cc33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33cc33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operators like </a:t>
            </a:r>
            <a:r>
              <a:rPr b="1" lang="en-US" sz="3200" spc="-1" strike="noStrike">
                <a:solidFill>
                  <a:srgbClr val="33cc33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not) can b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e must be taken with </a:t>
            </a:r>
            <a:r>
              <a:rPr b="1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1A92-8F86-46E6-97FE-17855DCA0D4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15EDB1-F9F3-4100-B5A5-E6D2F6A385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omain Relational Calculu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ariables represent individual doma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ather than whol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up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Find employees whose pay is over $25,000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{f,n | (</a:t>
            </a:r>
            <a:r>
              <a:rPr b="1" lang="en-US" sz="3200" spc="-1" strike="noStrike">
                <a:solidFill>
                  <a:srgbClr val="33cc33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p) EMPLOYEE (f,m,n,s,b,a,x,p,u,d) and p &gt; 25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lready a shorthand: should say f exists and belongs to the domain "string", etc. etc. for each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A9C8-075B-4698-AF20-CCB0601CFA3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71CEEC-67B6-443B-AE3B-1D7E5B8164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omain R.C. Join Exampl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Find employees of the Research dept. whose pay is over $25,000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{fn,ln |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33cc33"/>
                </a:solidFill>
                <a:latin typeface="Symbol"/>
                <a:ea typeface="Symbol"/>
              </a:rPr>
              <a:t>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p) (</a:t>
            </a:r>
            <a:r>
              <a:rPr b="1" lang="en-US" sz="3200" spc="-1" strike="noStrike">
                <a:solidFill>
                  <a:srgbClr val="33cc33"/>
                </a:solidFill>
                <a:latin typeface="Symbol"/>
                <a:ea typeface="Symbol"/>
              </a:rPr>
              <a:t>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d1) (EMPLOYEE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(fn,m,ln,s,b,a,x,p,u,d1)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and p &gt; 25000)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33cc33"/>
                </a:solidFill>
                <a:latin typeface="Symbol"/>
                <a:ea typeface="Symbol"/>
              </a:rPr>
              <a:t>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d2) (</a:t>
            </a:r>
            <a:r>
              <a:rPr b="1" lang="en-US" sz="3200" spc="-1" strike="noStrike">
                <a:solidFill>
                  <a:srgbClr val="33cc33"/>
                </a:solidFill>
                <a:latin typeface="Symbol"/>
                <a:ea typeface="Symbol"/>
              </a:rPr>
              <a:t>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dn) DEPARTMENT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(dn,d2,mg,ms)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and d1= d2 and dn="Research"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of the variables are just placeholder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olog you could use "anonymous variables" (_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8146-D3BB-4D17-8BE5-AB150AAC99E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86FFA5-3F65-4D2E-9C8E-36B8883BAA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ot so abstract, really..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Query by Example" uses this fra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see 2-dimensional layout of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select which tables are involved, which columns (variables) appear in output (i.e., what vars are to the left of  |), what conditions apply between columns, etc.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the predominant paradigm in direct end-user query systems (e.g. Microsoft Acces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DCF8-D338-496D-8CF2-0FF5901FD08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0D3B94-DF73-43FD-A50F-AAAC8A9507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6T21:57:20Z</dcterms:created>
  <dc:creator>Martin Dickey</dc:creator>
  <dc:description/>
  <dc:language>en-US</dc:language>
  <cp:lastModifiedBy>dickey</cp:lastModifiedBy>
  <cp:lastPrinted>1999-04-21T00:40:29Z</cp:lastPrinted>
  <dcterms:modified xsi:type="dcterms:W3CDTF">1999-04-21T19:46:05Z</dcterms:modified>
  <cp:revision>8</cp:revision>
  <dc:subject/>
  <dc:title>Relational Calculus and QB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cs.washington.edu/education/courses/444/99sp/</vt:lpwstr>
  </property>
  <property fmtid="{D5CDD505-2E9C-101B-9397-08002B2CF9AE}" pid="9" name="LinkColor">
    <vt:r8>16711782</vt:r8>
  </property>
  <property fmtid="{D5CDD505-2E9C-101B-9397-08002B2CF9AE}" pid="10" name="MailAddress">
    <vt:lpwstr>dickey@cs.washington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I:\cse\www\education\courses\444\99sp\slid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