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00A-06EB-4D02-B981-87E5B01D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122-7F68-4FDC-BBE3-47DC4DE8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369-9295-4B0F-A17D-35F75DA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470-6502-4E71-A61F-6176FD95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6576-E18D-4D15-982E-1CCFBB25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9014-4B2F-4144-A0F5-2E0F537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1B58-4A6E-4357-BD37-0D1F29C5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B54-D056-4585-8789-CC26109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D75E-D8F3-43CD-B31F-ACA3F69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931A-D0B0-40D3-B13D-2451C328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5A34-6703-49BD-A587-8A281C4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737-ACC0-4738-BAA4-7D73C7FD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8702-3BE9-45F4-A5A2-7D1F009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D835-37A3-4294-AEC8-62DD568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0772-9502-43EC-A785-5DA8760E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E726-3670-4072-AF20-516C04E2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44D2-3F62-4612-B0C5-BA3D7FD1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1B8-1BA6-4E73-A9E0-BAA230F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99E-B502-4CC9-9BB5-155FFD9C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F29-9C2E-41B2-BD59-B737940C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5A2-2052-4BBB-A4BE-7F205B1E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925-2C4D-4542-A644-AF53C31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E1F-84D7-4561-A002-4195461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11F-1870-4945-8872-4DFF139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9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DF1-C02A-4460-BF18-1DCB6BA612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-</a:t>
            </a:r>
            <a:fld id="{2CF1A1E3-AF36-4D5F-9B1F-335A6C2C0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9006-2C54-4F06-A1E8-98A1B37EDE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-</a:t>
            </a:r>
            <a:fld id="{845A9BA4-4D7F-4B54-970C-61F2F167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cl. example queries at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28B-D74E-4EDE-9803-601D70D808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70E53C-B40F-418D-8FE6-64C591DFA2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BY &lt;attribut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rows with common values to be group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ticular ordering amo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be used just to improve output presentation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ly used in connection with aggregat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A4A-52C6-4875-9072-8496F9922A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4B26C-676D-4B5A-A455-F26BAF9A5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 and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 presence of grouping, aggregate functions apply to each group individ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has one row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process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ondition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GROUP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LECT (including agg. functi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… what if you want a condition appli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group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260-4004-4C1F-850A-1B001F8424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060F6-1AB7-4675-9084-48B00964BF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a condition after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is applied to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use aggregat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 SUM(QUANTITY) &gt;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CD7-EA56-4270-9947-7D8B1B4DAD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8ACF7-E07C-479E-BA2D-8A53AD6B32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85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s of sailors who have reserved boat #103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, Reserve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sid = R.sid AND R.bid = 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52B-892C-48B0-A598-AC0D09BEF8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08B8C-F3DD-46A0-AA03-0E564FA128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89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s of sailors who have reserved a re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 green boa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, Boats B, Reserves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sid = R.sid AND R.bid = B.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(B.color = 'red'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.color = 'gree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eful: can you change OR to 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42B-AB5B-46C2-BADA-F2CAD95FFB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B541C-16FB-403B-BE38-14D3C9B25D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89b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s of sailors who have reserve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o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 red and a green boat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, Boats B1, Reserves R1, Boats B2, Reserves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sid = R1.sid AND R1.bid = B1.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.sid = R2.sid AND R2.bid = B2.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(B1.color = 'red'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2.color = 'green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5E3-A9A6-494B-969F-C962296609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65688-398B-4E28-BD5D-E98975A443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9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s of sailors who have reserved boat #103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sid IN (SELECT R.s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Reserves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R.bid = 1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4CF-6135-4C72-9BEB-C6D726B0C0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1EF86-8CC4-44A2-A9C8-B816B29A9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93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s of sailors who have reserved a red boa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sid IN (SELECT R.s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Reserves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R.bi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ELECT B.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Boat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B.color = 'red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FAD-079D-478B-9A23-B34DFB5C68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4F75A-FA71-4CD5-A9FF-04AC3CC08C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93b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s of sailors who have reserved boat #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EXISTS (SELECT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Reserves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R.bid = 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sid = R.s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B84-DC04-45CA-ABBB-ED11FF332A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67597-C8D2-44E0-B9BF-5EC19C849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97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average age of sailors with a rating of 1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AVG (S.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rating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EA0-CE6A-4B07-A9BB-3CEF77A5C2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4A744-5931-4F59-B601-50CFB4DE2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uctured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ery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guag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as "Sequel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n ANSI (X3H2) / ISO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2 or SQL-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3 is in the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uses and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direct languag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our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n embedded languag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n a program in a convention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rotocol from client to DB serve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ncreasingl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4F2-3942-41E9-82C3-87F0C3D18B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A2256-4BE5-4257-898E-A89B138A6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197-8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the name and age of the oldest sailor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S.name, S.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S.age = (SELECT MAX (S2.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Sailors S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5CB-FA9F-46FE-9D29-F8C255C1D1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FA861-8321-491F-BAF0-D3D50D1483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200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ind age of the youngest sailor who is eligible to vote, for each rating level with at least two such sailor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  S.rating, MIN (S.age) AS mi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     Sailors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  S.age &gt;=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UP BY S.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UNT (*)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127-37F0-4EC5-AA45-77105C028D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E3469-AD33-41CD-BB96-158378DDC2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.20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"For each red boat, find the number of reservations for this boa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  B.bid, COUNT (*) AS sailor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     Boats B, Reserves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  R.bid = B.bid AND B.color = 'red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UP BY B.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7B3-143B-421B-854F-6A50905EF7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7E05D-A659-41AE-B9DA-94E41A37E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 DD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/SCHEMA/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DROP/A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files are often character-based, descended from 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, FLOA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(i,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(n), VARCHAR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6D3-A73C-4272-AA25-BE15D7C9B4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F2FB5-A155-41DD-B0CB-A29EBDA82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 DML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90% of what you need to know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LECT &lt;attribut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&lt;tabl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 &lt;conditio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s a projection into th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is effectively a Cartesian product of all the tabl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conditions, which could be very elaborate and even involve nested SEL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77F-6EA6-4502-A7DB-D0C509D0F0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FC4DD-B66C-437B-9E0A-1E38E5DD10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No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 can be qual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can be rena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 S.FNAME, S.L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OM EMPLOYEE E, EMPLOYE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 E.SUPERSSN = S.E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 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display all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display all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F1B-C439-4506-BE33-26B763A407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601A6-C452-419C-8109-069722FF3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re SQL Top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, AND, OR (in precedence or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vs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s are NOT eliminated on certain op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keyword eliminates dups in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EBE-5C58-45C8-8741-0A5D7F3C85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58673-8DF1-4BE8-B52F-BD628B5E24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s ("INTERSECT"), difference ("EXCEPT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connect whole sets (result of queries), not within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not supported by MS Access 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is not an SQ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SQL had a CONTAINS (set in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AF0-FF8B-45E5-9CA6-F1E3AB6A16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A1AA3-BBD1-4DA3-87BE-3ECE275C69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for membership in a set: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or returning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within conditions (W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ide a row (or value construed as a 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ide a table, frequently the result of a (nested)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 returning a 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a table for non-empty: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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86B-8CA1-4DF6-A7CF-E4CE5F9B7D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03DF9-F806-440A-AB4B-2594075E07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ggregate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tandard functions: COUNT, SUM, MIN, MAX, AV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 appears in SELECT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UM (SAL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pplied after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 column in th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ometimes think of as a sca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62D-FFE3-42F1-B791-38A83962B6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55222-64CD-4000-9C1F-50B49C27D9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7T02:27:24Z</dcterms:created>
  <dc:creator>CSE</dc:creator>
  <dc:description/>
  <dc:language>en-US</dc:language>
  <cp:lastModifiedBy>dickey</cp:lastModifiedBy>
  <cp:lastPrinted>1999-04-21T18:18:20Z</cp:lastPrinted>
  <dcterms:modified xsi:type="dcterms:W3CDTF">1999-04-21T19:54:23Z</dcterms:modified>
  <cp:revision>15</cp:revision>
  <dc:subject/>
  <dc:title>SQ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