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98CD-11DE-490A-9EEA-442830C80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CE22-6E66-4898-9EAF-14B46D9D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1B01-EE4B-4745-A216-5BD3F10A5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2C05-9295-4E25-AA61-95B18528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FDB6-809B-4567-B478-D6ACF770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7CA4-F6AF-4472-8FAF-E6490E7F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EAAF-5868-43B0-888D-26CE2A30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D806-AA21-4A0C-A858-F27BDCB6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F438-5B19-41D8-87FF-499E8968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8F1C-BAF1-4853-9D41-8949C920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15D8-B6F8-4C9C-8482-0E38068C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6ADC-DA92-48F2-8351-6D663806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0AE8-0097-4CA6-A070-282C6051670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5CAE-F5E6-4F93-97C7-A22ED67C2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M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avista: 800,000 pages retur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azon.com: 242 boo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 comparis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d:  12,000 books, 7 Million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ble: 32,000 books, 4.6 Million p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ore comparis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on Levy + XML:  132 pages (770 without Al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-QL: 509 p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y + God: 12,000, (Alon Levy + God: 1, but not m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y + Bible: 10,000 (Alon Levy + bible: 3; 1 m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69C5-9EE1-46FC-9F78-1D599BFDACC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Data Model (Grap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28600" y="1676520"/>
          <a:ext cx="8686800" cy="35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686800" cy="35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209160" y="5248440"/>
            <a:ext cx="741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ssu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inguish between attributes and sub-eleme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we conserve ord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7160" y="1676520"/>
            <a:ext cx="33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nk of the labels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mes of binary rel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1600200"/>
            <a:ext cx="3429000" cy="914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4560-3B28-47A6-9633-B70F6D7CBA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ing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a graph, not a re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ult should be a graph (representing an XML document), not a re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ch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may not know much about the data, so we need to navigate the XM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309E-07B0-4AC3-BFB3-A15FF13F68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there was XQL (from Microsoft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quickly realized that it was very limit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a bunch of database researchers looked at XML and invented XML-Q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-QL comes from the nicer StruQL langu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people got excited. Formed a committe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28A1-61B3-45BC-8696-584E71E3F2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cting Data by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ching data using elements patter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book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ublisher&gt;&lt;name&gt;Addison-Wesley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&gt;&lt;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title&gt; $t &lt;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author&gt; $a &lt;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book&gt; IN “www.a.b.c/bib.xm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STR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$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8548-CA84-475B-84BF-70D6F7994F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ook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ublisher&gt;&lt;name&gt;Addison-Wesley&lt;/&gt;&lt;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title&gt; $t &lt;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author&gt; $a &lt;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&gt; IN “www.a.b.c/bib.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STR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resul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author&gt; $a &lt;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title&gt; $t&lt;/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609E-5E30-4797-9713-BA654B6460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with Nes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book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title&gt; $t &lt;/&gt;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ublisher&gt;&lt;name&gt;Addison-Wesley&lt;/&gt;&lt;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&gt; CONTENT_AS $p IN “www.a.b.c/bib.xml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STR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resul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titre&gt; $t &lt;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author&gt; $a &lt;/&gt; IN $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CONSTR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auteur&gt; $a&lt;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C197-A08A-4B09-A2AF-DE7EB968F0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ing Elements by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&lt;article&gt; &lt;auth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irstname&gt; $f &lt;/&gt; &lt;lastname&gt; $l &lt;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&gt; &lt;/&gt; ELEMENT_AS $e IN “www.a.b.c/bib.xm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ook year=$y&gt; &lt;auth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irstname&gt; $f &lt;/&gt; &lt;lastname&gt; $l &lt;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&gt; &lt;/&gt; IN “www.a.b.c/bib.xml” , y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 $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5640" y="5222880"/>
            <a:ext cx="675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ind all articles whose writers also published a boo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fter 199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8C37-9F35-4378-96D0-CD9D069F03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g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&lt;article&gt; &lt;auth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irstname&gt; $f &lt;/&gt; &lt;lastname&gt; $l &lt;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&gt; &lt;/&gt; ELEMENT_AS $e IN “www.a.b.c/bib.xm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ear=$y&gt; &lt;auth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irstname&gt; $f &lt;/&gt; &lt;lastname&gt; $l &lt;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&gt; &lt;/&gt; IN “www.a.b.c/bib.xml” , y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 $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6720" y="5222880"/>
            <a:ext cx="65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ind all articles whose writers have done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fter 199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D2F1-3DE4-4683-A626-13AA2CC3CB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r Path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part*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name&gt;$r&lt;/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brand&gt;Ford&lt;/&gt; &lt;/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 "www.a.b.c/bib.xml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result&gt;$r&lt;/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4680" y="5486400"/>
            <a:ext cx="835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Find all parts whose brand is Ford, no matter what lev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they are in the hierarc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7498-7288-4816-9F82-821CFCFA7E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r Path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part+.(subpart|component.piece)&gt;$r&lt;/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"www.a.b.c/parts.xml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ONSTR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result&gt; $r &lt;/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2879-A146-47A3-BA65-E645CBA79D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XM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2590560"/>
            <a:ext cx="28195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merging format for data exchange on the web and between application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992320" y="2438280"/>
          <a:ext cx="6151680" cy="369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2320" y="2438280"/>
                    <a:ext cx="6151680" cy="36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-140760" y="1295280"/>
            <a:ext cx="5869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eXtensible Markup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BBFB-7DD6-48B2-9CD7-2B5817C32F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Data Integ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&lt;perso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ame&gt;&lt;/&gt; ELEMENT_AS $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sn&gt; $ssn &lt;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&gt; I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“www.a.b.c/data.xm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taxpay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sn&gt; $ssn &lt;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income&gt;&lt;/&gt; ELEMENT_AS $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&gt; I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“www.irs.gov/taxpayers.xm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 &lt;result&gt; $n $I &lt;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1240" y="1209600"/>
            <a:ext cx="71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Query can access more than one XML doc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C9BB-2F19-480E-B1E5-B8D4B56281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Processing For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pproach 1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ore XML in a relational database. Translate an XML-QL query into a set of SQL que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Leverage 20 years of research &amp; develop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pproach 2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ore XML in an object-oriented databas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OO model is closest to XML, but systems do not perform well and are not well accep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pproach 3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uild an entire DBMS tailored to XM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Still in the research ph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7427-8CB8-42F6-8489-A7A453BCA7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ributes and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447920" y="2743200"/>
          <a:ext cx="6151320" cy="369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743200"/>
                    <a:ext cx="6151320" cy="36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-420840" y="1295280"/>
            <a:ext cx="975420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XML distinguishes attributes from sub-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ID’s and IDREFs are used to reference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88EA-1928-4435-BB99-744C07156D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ument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p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crip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371600" y="3657600"/>
          <a:ext cx="6151680" cy="369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657600"/>
                    <a:ext cx="6151680" cy="36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-326160" y="1295280"/>
            <a:ext cx="938232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ort of like a schema but not really. Won’t st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for very long, ei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First in a long series of 3-letter acronym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C4BD-0AA7-4470-9DE6-E9EC8EFD1D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igin of XM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es from SGML (very nasty languag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rincipl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parate the data from the graphical 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447920" y="3159000"/>
          <a:ext cx="6151320" cy="369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159000"/>
                    <a:ext cx="6151320" cy="36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4CCE-E5A2-4005-AD3F-93231A6070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, After the ro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ormat for sharing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: electronic data exchan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 between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rs and suppliers sharing product data (auc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nets: building relationships between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tists sharing data about experi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ing data between different components of an appl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 for storing all data in Office 2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asis for data sharing and integ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54F6-B61D-4E2F-BC49-193C76661C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People Like it so mu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easy to lea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human readable. No need for proprietary formats anym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very flexib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is self-descri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dd attribute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can be ir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ote: without common DTD’s data sharing is not solv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84C9-85C5-4F13-A406-819E293300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we DB’ers interest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data, stupid. That’s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 by Altavista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+XML -- 40,000 p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atabase iss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re we going to model XML?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graph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re we going to query XML?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XML-Q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re we going to store XML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in a relational database? object-oriented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re we going to process XML efficiently?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uh… well..., um..., ah..., get some good grad students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2E1D-1D15-4227-9D24-7A0092C4EC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-Letter Acrony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, DTD, W3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 (Document Object Mod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-sch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QL (very early query langu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DF (resource description framewor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od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n New Jersey, a W3C committee is meeting to discuss standard query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94E7-E332-4CBB-8991-98473DFD7C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7:45:50Z</dcterms:created>
  <dc:creator>alon</dc:creator>
  <dc:description/>
  <dc:language>en-US</dc:language>
  <cp:lastModifiedBy>Rachel Amanda Pottinger</cp:lastModifiedBy>
  <cp:lastPrinted>1999-11-28T02:41:09Z</cp:lastPrinted>
  <dcterms:modified xsi:type="dcterms:W3CDTF">1999-12-08T07:32:56Z</dcterms:modified>
  <cp:revision>101</cp:revision>
  <dc:subject/>
  <dc:title>Query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WINDOWS\Desktop\xml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