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E50-2033-43E9-ADE3-A096B8D5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F68-EB05-4487-870C-A0143626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3E4-C8B0-4E04-BE37-65060656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9CA-2732-4A9C-92CA-74935766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64E-6E09-4A5C-96DF-35E4EB9E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5BF-714F-4A5D-AB96-351F4A05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111-DD18-47F7-8516-26A938C7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3C1-6110-4142-9694-32AA4B0A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23A-E4C4-49FA-A964-4809BB81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B89-E029-4424-9930-A42E20CA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E4B-B088-4585-80F7-68F32E67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602-C332-433E-9D07-EADF46AA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C98E-E21E-4A06-99A9-714310314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1960" y="209880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3 kinds of modifications: insertion,  deletion, upd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2840" y="2708280"/>
            <a:ext cx="9103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on: general form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360" y="5638680"/>
            <a:ext cx="91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don’t provide all the attributes of R, they will be filled with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05480" y="6060960"/>
            <a:ext cx="90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rop the attribute names if we’re providing all of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4600" y="2098800"/>
            <a:ext cx="8686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AL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SSN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ex on SSN enables us to fetch a tu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given SS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fficiently (not have to scan the whole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 of deciding which indexes to put on the relation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hard! (it’s called: physical database desig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4520" y="2438280"/>
            <a:ext cx="633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sn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SS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(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not create indexes on all the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 (</a:t>
            </a: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!!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2960" y="1295280"/>
            <a:ext cx="825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 complex querie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distinct conceptual interfaces for differen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us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Example view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purchases of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elephony-purchas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, buyer, seller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 = Product.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category = ‘telephon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ew is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material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its results are stored in the DB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1000" y="1143000"/>
            <a:ext cx="641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‘Seattle’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per-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2040" y="3505320"/>
            <a:ext cx="75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We can later use the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eattle-view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attle-view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‘sho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520" y="6213600"/>
            <a:ext cx="80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at’s really happening when we query a view??  </a:t>
            </a: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It’s unfol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8560" y="1143000"/>
            <a:ext cx="787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on-purchas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tore, seller, product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(note: buyer is not sel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 = ‘The Bon March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If we make the following inser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on-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the Bon Marche’, ‘Joe’, ‘Denby Mu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simply add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‘the Bon Marche’, ‘Joe’, NULL, ‘Denby Mu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lation Purc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2080" y="1295280"/>
            <a:ext cx="592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‘Seattle’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8640" y="3733920"/>
            <a:ext cx="876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‘Joe’,  ‘Shoe Model 12345’,  ‘Nine West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principle,  two tuples should be added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ullPhoneNumber, ‘Seattl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‘Joe’, ‘Nine West’, ‘Shoe Model 12345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ut it’s very hard to manage the foo’s later, so this update is not leg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sing a Materialized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Suppose I have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only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the result of SeattleVi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‘Seattle’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per-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nd I want to answer the qu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‘Seattle’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per-name = Purchase.buyer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.product=‘gizmo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Then, I can rewrite the query using the view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writing Us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Rewritten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= 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riginal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‘Seattle’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per-name = Purchase.buyer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.product=‘gizmo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I still have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only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the result of SeattleVi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‘Seattle’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per-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but I want to answer the qu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‘Seattle’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per-name = Purchase.buyer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Phone  LIKE ‘206 543 %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views V1,…,Vn, and a query Q, can we answer Q using only the answers to V1,…,V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y do we c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answer queries more efficient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query data sources on the WWW in a principled ma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Many, many pap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performing algorithm: The MiniCon Algorithm, (Pottinger &amp; Levy, 1999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Interesting 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5320" y="2327400"/>
            <a:ext cx="471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2400" y="5527800"/>
            <a:ext cx="54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order of querying and inser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the 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 virtual schema of the WWW, e.g.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urse(number, university, title, prof, quar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data source on the web contains the answer to a view over the virtual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W database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umber, title, p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univ=‘UW’ AND quarter=‘4/99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tanford database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umber, title, prof, qu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univ=‘Stanfor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User query: find all professors who teach “database system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000" y="2590920"/>
            <a:ext cx="7355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other language for expressing queri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r to a “logic” notation, pro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nvenient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xpress queries that are not expressibl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 or SQL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(recurs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s and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3600" y="1752480"/>
            <a:ext cx="7823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relations are represented by pred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tuples are represented by a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urchase( “joe”, “bob”, “Nike Town”, “Nike Air”, 2/2/98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arithmetic comparison ato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&lt; 100,    X+Y+5 &gt; Z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negated ato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 Product(“Brooklyn Bridge”, $100, “Microsoft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log Rules an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840" y="1371600"/>
            <a:ext cx="8742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log rule has the following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ad  :-   atom1, atom2, …., atom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nsiveProduct(X) :- Product(X,Y,P), P &gt;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ishProduct(X) :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(X,Y,P), Company(P, “UK”, 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X,Y)  :-  Between(X,Y,Z),   NOT Direct(X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 single rule can express exactly select-from-where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aning of Datalo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9560" y="1854360"/>
            <a:ext cx="76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nsiveProduct(X) :- Product(X,Y,P) &amp; P &gt;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0240" y="2581200"/>
            <a:ext cx="8396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variables in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constants in the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ach of the atoms in the body is made true by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tuple for the head into the relation of the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00" y="1676520"/>
            <a:ext cx="91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variable that appears anywhere in the query must 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in a relational, non-negated atom in the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(X,Y,Z) :-  R1(X,Y) &amp; X &lt; Z                 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ot 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(X,Y,Z) :-  R1(X,Y)  &amp;   NOT  R2(X,Y,Z)   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ot 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ng Datalo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5040" y="1870200"/>
            <a:ext cx="86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tensional predicat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epresent relations appearing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entional predicat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ed by rules. These can be thought of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vi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log rules may b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o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order to express more compl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ompos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becomes easier to express certain queries (define vie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efine queries inclu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efin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cur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Algebra to 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3240" y="1905120"/>
            <a:ext cx="882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translate any relational algebra operation to datalo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er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0" y="2479680"/>
            <a:ext cx="762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5200" y="2327400"/>
            <a:ext cx="596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960" y="1828800"/>
            <a:ext cx="479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, SQL operations o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fir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data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n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e index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600" y="1946160"/>
            <a:ext cx="644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strings (fixed of varying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strings (fixed or varying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 (SHORT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 and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s will be used in table decla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use dom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ress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  VAR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sh you had richer types, no? (hang on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840" y="2327400"/>
            <a:ext cx="644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    TABLE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 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5440" y="2784600"/>
            <a:ext cx="68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1120" y="1946160"/>
            <a:ext cx="415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2520" y="3200400"/>
            <a:ext cx="696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    TABLE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CHAR(1)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03:21:15Z</dcterms:created>
  <dc:creator>Alon Levy</dc:creator>
  <dc:description/>
  <dc:language>en-US</dc:language>
  <cp:lastModifiedBy>Rachel Pottinger</cp:lastModifiedBy>
  <cp:lastPrinted>1999-10-25T18:17:22Z</cp:lastPrinted>
  <dcterms:modified xsi:type="dcterms:W3CDTF">1999-10-25T18:19:32Z</dcterms:modified>
  <cp:revision>42</cp:revision>
  <dc:subject/>
  <dc:title>SQL 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