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FCD28C-E51F-4FEF-9659-7E99DBE2B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02887F-2CF4-40BA-AC06-B496671C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EE4C81-F813-406C-9D7D-E41CBF3E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C3490E-83DD-4373-BEBD-AACB74C7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60720" y="-144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144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1440" y="-1440"/>
            <a:ext cx="3028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7967FD-9184-4115-B745-095AEA79F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ECD6B1-42C9-4051-AF99-6DBD8E4E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DFFA24-B1F0-4761-A187-A9E0A43D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2AF768-C590-49FE-9F26-EC222E4E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26D5B2-FAAE-46E8-A1BD-F339C1D0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9F32D2-F970-48FF-8583-DDFAE5443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A1F0B7-2991-45B5-ADE9-12AEE4AC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964-EA1C-42FB-B70D-72D31078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90D-B21D-4159-BAAB-DE3D7AFC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4D5-F353-41E2-ABAA-4292A95D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0BE-8E80-4132-B24C-F5B094E4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80E-88A2-4F98-A29A-FF9F01D2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311-727C-4D4C-B221-FF855B2D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52B-FB83-45A8-AC3F-69017D60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E5D-1F66-477B-866C-540DF4EB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CD8-2C9C-4635-916A-E280E520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0CC-C780-4998-AD54-6D7227D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639-077E-4F49-8B6C-26C16501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82D-C837-4D9D-B2F9-6773654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FCB-1B3C-4AE6-81F3-855AE54B2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DBM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queries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ultiple users to access the database concurrently and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durability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will we do all thi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00" y="1066680"/>
            <a:ext cx="8701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282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8088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4092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 of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or block is OK when doing I/O, but higher levels of DBMS operate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rec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iles of rec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collection of pages, each containing a collection of records. Must sup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delete/modify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 particular record (specified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rd 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all records (possibly with some conditions on the records to be retrie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ood approximation, we ignore CPU c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data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records pe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verage) time to read or write disk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ing number of page I/O’s ignores gains of pre-fetching blocks of pages; thus, even I/O cost is only approximate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960" y="1828800"/>
            <a:ext cx="95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llustrates the difference in algorithm design when your data is not in main mem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Gb of data with 1M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ises in many places in database syste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Sort: Requires 3 Bu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buffer page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2088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2088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643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4184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9028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336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339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a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 and conque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subfiles and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914400" y="3352680"/>
                <a:ext cx="2590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914400" y="4495680"/>
                <a:ext cx="2766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7932960" y="140184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33680" y="191448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33680" y="251316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35120" y="354024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20800" y="5337000"/>
            <a:ext cx="119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9800" y="16606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49800" y="217332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9800" y="294336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1240" y="4227480"/>
            <a:ext cx="75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23720" y="62784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04720" y="14144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1280" y="14018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4756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2384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0012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6400" y="1413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22520" y="1401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95000" y="1928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0012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128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4756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33200" y="1927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66680" y="19144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1360" y="1914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23600" y="2451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33320" y="2697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85520" y="2397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7616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58960" y="2417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47800" y="266400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49320" y="26640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09240" y="3208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1104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04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11040" y="3989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17600" y="34765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17600" y="3722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96800" y="3957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63600" y="47480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63600" y="49957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3600" y="52513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63600" y="55198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63600" y="5765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63600" y="60213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rt a file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ges 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ffer p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ss 0: us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ffer pag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             sorted runs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ges each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ss 2, …,  etc.: merg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-1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019920" y="2209680"/>
                <a:ext cx="196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5680" y="6068880"/>
            <a:ext cx="305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 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21000" y="3994200"/>
            <a:ext cx="1189080" cy="538200"/>
          </a:xfrm>
          <a:custGeom>
            <a:avLst/>
            <a:gdLst/>
            <a:ahLst/>
            <a:rect l="l" t="t" r="r" b="b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/>
            <a:ahLst/>
            <a:rect l="l" t="t" r="r" b="b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92560" y="5570640"/>
            <a:ext cx="1189080" cy="539640"/>
          </a:xfrm>
          <a:custGeom>
            <a:avLst/>
            <a:gdLst/>
            <a:ahLst/>
            <a:rect l="l" t="t" r="r" b="b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87520" y="404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9400" y="5627520"/>
            <a:ext cx="119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B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27840" y="4870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18000" y="5929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55400" y="596268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68480" y="425448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35400" y="425448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987480" y="5550480"/>
            <a:ext cx="1530000" cy="367200"/>
            <a:chOff x="987480" y="5550480"/>
            <a:chExt cx="1530000" cy="367200"/>
          </a:xfrm>
        </p:grpSpPr>
        <p:sp>
          <p:nvSpPr>
            <p:cNvPr id="489" name=""/>
            <p:cNvSpPr/>
            <p:nvPr/>
          </p:nvSpPr>
          <p:spPr>
            <a:xfrm>
              <a:off x="1069920" y="555048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87480" y="555048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73760" y="5483520"/>
            <a:ext cx="1536120" cy="348480"/>
            <a:chOff x="6773760" y="5483520"/>
            <a:chExt cx="1536120" cy="348480"/>
          </a:xfrm>
        </p:grpSpPr>
        <p:sp>
          <p:nvSpPr>
            <p:cNvPr id="492" name=""/>
            <p:cNvSpPr/>
            <p:nvPr/>
          </p:nvSpPr>
          <p:spPr>
            <a:xfrm>
              <a:off x="6856560" y="548352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73760" y="548352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861240" y="425448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28160" y="425448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274840" y="4346280"/>
            <a:ext cx="1046160" cy="18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74840" y="490068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27720" y="4530600"/>
            <a:ext cx="642600" cy="462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527720" y="5178240"/>
            <a:ext cx="642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16480" y="5084640"/>
            <a:ext cx="64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21000" y="4640400"/>
            <a:ext cx="1189080" cy="539640"/>
          </a:xfrm>
          <a:custGeom>
            <a:avLst/>
            <a:gdLst/>
            <a:ahLst/>
            <a:rect l="l" t="t" r="r" b="b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87520" y="46958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51320" y="4764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55840" y="5546880"/>
            <a:ext cx="965160" cy="27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27720" y="4900680"/>
            <a:ext cx="642600" cy="18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86600" y="4670280"/>
            <a:ext cx="822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78000" y="467208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-482400" y="1143000"/>
            <a:ext cx="93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2b2b2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Book Antiqua"/>
              </a:rPr>
              <a:t>More than 3 buffer pages.  How can we utilize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st = 2N * (# of pa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with 5 buffer pages, to sort 108 page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:                   = 22 sorted runs of 5 pages each (last run is only 3 pag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:                 = 6 sorted runs of 20 pages each (last run is only 8 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:  2 sorted runs, 80 pages and 28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3:  Sorted file of 108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495680" y="1371600"/>
                <a:ext cx="44593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666880" y="3657600"/>
                <a:ext cx="2508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666880" y="4572000"/>
                <a:ext cx="228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733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: number of frames in the buffer pool; N: number of pages in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Passes of External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57120" y="1913040"/>
          <a:ext cx="860256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913040"/>
                    <a:ext cx="86025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11430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1440" y="1219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6640" y="24033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984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4720" y="22226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1840" y="22226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3320" y="22068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72080" y="421956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9840" y="42195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72080" y="42195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76640" y="47307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92840" y="47307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8480" y="350676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8480" y="25797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03840" y="321948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89520" y="3232080"/>
            <a:ext cx="76320" cy="14616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000" y="51703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04600" y="515448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1000" y="44290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0640" y="320040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85560" y="320040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7280" y="22906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32600" y="4114800"/>
            <a:ext cx="2529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Simple Nested Loop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313992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40" y="3429000"/>
            <a:ext cx="373428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7600" y="563868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 of R.A. ops, with choice of alg for each 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1160" y="6248520"/>
            <a:ext cx="79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find best plan.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actic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worst p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480" y="11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4840" y="28954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4280" y="1295280"/>
            <a:ext cx="67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d names of people who bought telephon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65520" y="23702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23702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4120" y="23544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47720" y="43718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5480" y="437184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47720" y="437184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2640" y="48830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68480" y="48830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27273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40" y="532296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0600" y="530712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6640" y="458136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0600" y="320040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8080" y="24382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920" y="42670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04080" y="21337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5280" y="44956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73392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3240" y="373392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392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3962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35268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480" y="403848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880" y="358128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4462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2360" y="24462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43840" y="2430360"/>
            <a:ext cx="174600" cy="180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744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15200" y="44481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67440" y="44481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2000" y="49593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88200" y="495936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2803680"/>
            <a:ext cx="180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14360" y="53989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9240" y="538308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9880" y="403848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0320" y="3276720"/>
            <a:ext cx="207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=“telephon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7440" y="25146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1280" y="43434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45720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62960" y="3809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809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553080" y="40381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777240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3200" y="4648320"/>
            <a:ext cx="125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=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0600" y="3657600"/>
            <a:ext cx="1277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hash joi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8840" y="29718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2240" y="3048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43434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" y="6137280"/>
            <a:ext cx="66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ut what if we’re only looking for Bob’s purcha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0560" y="1793880"/>
            <a:ext cx="834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mic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of a transaction happen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sis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 transaction is consistent, and the database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nsistent state, then it will end in a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execution of one transaction is isolated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 a transaction commits, its effects persis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Transaction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3080" y="1819440"/>
            <a:ext cx="74653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irline reservation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eck if a sea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eserve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Bad scenario: (but very comm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 finds a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finds the same seat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1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2 - reserves the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stomer 1 will not be happy; spends night in airport ho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080" y="25146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00 nano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0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Spac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7920" y="1523880"/>
            <a:ext cx="7322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manage the location of pages on disk (page =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mmands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ng and deallocating a 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nd writing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hy not use the operating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or this ta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ize of addres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to span sev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86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89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200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204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224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227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231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233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2000"/>
          </a:bodyPr>
          <a:p>
            <a:pPr marL="109440" indent="-109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244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256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257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024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05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6172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800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4296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9344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7:26:12Z</dcterms:created>
  <dc:creator>alon</dc:creator>
  <dc:description/>
  <dc:language>en-US</dc:language>
  <cp:lastModifiedBy>Rachel Pottinger</cp:lastModifiedBy>
  <cp:lastPrinted>1999-11-15T17:36:31Z</cp:lastPrinted>
  <dcterms:modified xsi:type="dcterms:W3CDTF">1999-11-15T17:40:56Z</dcterms:modified>
  <cp:revision>29</cp:revision>
  <dc:subject/>
  <dc:title>Architecture of a DBM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