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AEB-8930-467B-8F05-B38CFB0B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628-9943-4C16-947F-1A10EEE1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E7A-AFA3-44EF-AE7F-12597CE3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98A-42CD-4B0E-AB81-43080FE1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717-2901-4E87-B310-ABDD9748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ECF-D051-4DA0-BE1F-609EBF54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123-3111-4621-8F51-F557D9A6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96F-9C97-4FD7-856D-7664D4D6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5D9-AC43-4F29-B713-41BE2D9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438-46D1-4073-8B03-CE78F39E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633-74AF-4BAE-96ED-E7487A58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646-E06B-4B51-B4C7-24148EA9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BDA0-A084-4147-88AF-8F6238BFE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676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240" y="3241800"/>
            <a:ext cx="780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SQL92, SQL2, SQL3, SQL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 of these, but all of what we’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alking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many many more bells and whistles in add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elations (possibly multiple, joi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 (sel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5240" y="1641600"/>
            <a:ext cx="842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ocial-security-number = “123 - 45 - 6789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4040" y="4384800"/>
            <a:ext cx="553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, the subquery returns one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returns more, it’s a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un-time 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20" y="2590920"/>
            <a:ext cx="60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“Joe Blow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3000" y="2022480"/>
            <a:ext cx="80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ho manufacture products bought by Joe B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2320" y="545148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s on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520" y="2590920"/>
            <a:ext cx="60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Product.name,price)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“Joe Blow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7440" y="2057400"/>
            <a:ext cx="57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 AN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Old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9120" y="449568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 (title,  year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 titles are not unique (titles may reappear in a later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8440" y="160020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9560" y="606096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 scope of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6840" y="2133720"/>
            <a:ext cx="60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Product.name,price)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“Joe Blow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2440" y="2666880"/>
            <a:ext cx="610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5320" y="1488960"/>
            <a:ext cx="70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ON, INTERSECTION and EXCEPT oper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 as sets, not ba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9400" y="1946160"/>
            <a:ext cx="765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nufactur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7080" y="579132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9720" y="1641600"/>
            <a:ext cx="7770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how much we sold of every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roduct,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.name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8520" y="4537080"/>
            <a:ext cx="740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relation (I.e., the FROM and WHE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1880" y="3352680"/>
            <a:ext cx="591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roduct,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.name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unt(buyer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56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81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240" y="1828800"/>
            <a:ext cx="749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“USA” AND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ou can u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 of the relation(s) used in the F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operators:  =, &lt;&gt;, &lt;, &gt;, &lt;=, &gt;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rithmetic operations:  stockprice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on strings (e.g., “||”  for concaten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ographic order 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 matching:    s LIKE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stuff for comparing dates and ti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1960" y="209880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3 kinds of modifications: insertion,  deletion, upd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4640" y="2708280"/>
            <a:ext cx="849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on: general form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Joe, Fred, wakeup-clock-espresso-machi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harper Imag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360" y="5638680"/>
            <a:ext cx="91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don’t provide all the attributes of R, they will be filled with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05480" y="6060960"/>
            <a:ext cx="90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rop the attribute names if we’re providing all of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Interesting 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320" y="2327400"/>
            <a:ext cx="471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" y="5527800"/>
            <a:ext cx="54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order of querying and inse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800" y="2479680"/>
            <a:ext cx="762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“Joe”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“Brooklyn Brid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200" y="2327400"/>
            <a:ext cx="48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 toda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960" y="1828800"/>
            <a:ext cx="479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, SQL operations o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fir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ata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e inde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960" y="1946160"/>
            <a:ext cx="65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strings (fixed of varying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strings (fixed or varying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 (SHORT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 an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s will be used in table decla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ress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  VAR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2840" y="2327400"/>
            <a:ext cx="636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    TABLE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ele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4800" y="2784600"/>
            <a:ext cx="454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lte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0760" y="1946160"/>
            <a:ext cx="415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2160" y="3200400"/>
            <a:ext cx="7485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    TABLE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“Seattle”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?”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3160" y="2098800"/>
            <a:ext cx="851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AL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social security number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ex on “social security number” enables us to fetch a tu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given ss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fficiently (not have to scan the whole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of deciding which indexes to put on the relation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hard! (it’s called: physical database desig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6800" y="4267080"/>
            <a:ext cx="754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AS company, stockprice AS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“USA” AND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680" y="2286000"/>
            <a:ext cx="733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“USA” AND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560" y="156528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only a subset of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1640" y="354636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the attributes in the resul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2080" y="2438280"/>
            <a:ext cx="806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sn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social-security-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(name, social-security-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2080" y="1793880"/>
            <a:ext cx="8163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used mostly in order to simplify complex queri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fine conceptually different views of the database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of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:  purchases of telephony 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lephony-purchas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, buyer, seller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 =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category = “telephon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2080" y="1143000"/>
            <a:ext cx="593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2040" y="3505320"/>
            <a:ext cx="75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eattle-view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attle-view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6680" y="621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What’s really happening when we query a view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143000"/>
            <a:ext cx="7107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on-purchas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tore, seller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 = “The Bon March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f we make the following inser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on-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“the Bon Marche”, Joe, “Denby Mu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simply add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“the Bon Marche”, Joe, NULL, “Denby Mu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lation Purc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440" y="1905120"/>
            <a:ext cx="593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9680" y="4613400"/>
            <a:ext cx="618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oe,  “Shoe Model 12345”,  “Nine West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680" y="2286000"/>
            <a:ext cx="733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“USA” AND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ry,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160" y="4079880"/>
            <a:ext cx="83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080" y="1752480"/>
            <a:ext cx="72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name=buyer AND 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duct=“gizm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mbiguat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590920"/>
            <a:ext cx="716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=bu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=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category=“telephon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200" y="18288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ames of people buying telephony 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0200" y="2438280"/>
            <a:ext cx="802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1.maker, product2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 AS product1, Product AS produc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1.category=product2.categ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1.maker &lt;&gt; product2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400" y="148896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airs of companies making products in the same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8680" y="1793880"/>
            <a:ext cx="465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R,S,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(S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600" y="1717560"/>
            <a:ext cx="610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2320" y="583236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you can use INTERSECT and EX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have the same attribute names (otherwise: rena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03:21:15Z</dcterms:created>
  <dc:creator>alon</dc:creator>
  <dc:description/>
  <dc:language>en-US</dc:language>
  <cp:lastModifiedBy>Rachel Pottinger</cp:lastModifiedBy>
  <cp:lastPrinted>1999-10-20T20:03:32Z</cp:lastPrinted>
  <dcterms:modified xsi:type="dcterms:W3CDTF">1999-10-20T20:13:09Z</dcterms:modified>
  <cp:revision>15</cp:revision>
  <dc:subject/>
  <dc:title>SQL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