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2C2-A7D1-4B32-9FD5-CC93DF8F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F4D-75EA-497D-A242-95C25944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17C-D5DB-4F1E-BD32-F767C9AC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FA2-2DB6-4EAD-A0F2-ED5DE544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042-59F3-4F6E-AD71-696F09DC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129-CA05-4F9D-810E-0B4BB8FF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31D-504D-46E2-9B29-FC624DBE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287-982F-4A99-BFED-4AD4C20E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EBF-0FCA-4831-9FB2-8B617B01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C22-7DA2-459C-81BC-40666A6C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5BF-CEC4-4025-8F33-A3F7EE4A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BD1-AFE7-43A1-B844-06A79A5A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579C-9096-4241-8CB1-D7FE10BF6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1960" y="209880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3 kinds of modifications: insertion,  deletion, upd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4640" y="2708280"/>
            <a:ext cx="8490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on: general form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Joe, Fred, wakeup-clock-espresso-machi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360" y="5638680"/>
            <a:ext cx="91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don’t provide all the attributes of R, they will be filled with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105480" y="6060960"/>
            <a:ext cx="90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rop the attribute names if we’re providing all of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Interesting 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5320" y="2327400"/>
            <a:ext cx="471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" y="5527800"/>
            <a:ext cx="54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order of querying and inser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800" y="2479680"/>
            <a:ext cx="762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200" y="2327400"/>
            <a:ext cx="48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 toda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960" y="1828800"/>
            <a:ext cx="479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, SQL operations o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fir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data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e inde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2960" y="1946160"/>
            <a:ext cx="65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strings (fixed of varying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strings (fixed or varying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 (SHORT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 an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s will be used in table decla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use dom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ress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  VAR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2840" y="2327400"/>
            <a:ext cx="636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    TABLE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                  SHORT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ele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4800" y="2784600"/>
            <a:ext cx="454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lte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0760" y="1946160"/>
            <a:ext cx="415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2520" y="3200400"/>
            <a:ext cx="741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    TABLE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SHORTINT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VARCHAR(30)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CHAR(1)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3160" y="2098800"/>
            <a:ext cx="851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AL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social security number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ex on “social security number” enables us to fetch a tu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given ss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fficiently (not have to scan the whole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 of deciding which indexes to put on the relation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hard! (it’s called: physical database desig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2560" y="2017800"/>
          <a:ext cx="7661520" cy="387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7800"/>
                    <a:ext cx="7661520" cy="3878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6320" y="613728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2080" y="2438280"/>
            <a:ext cx="806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sn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social-security-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(name, social-security-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040" y="179388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used mostly in order to simplify complex queri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fine conceptually different views of the database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of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:  purchases of telephony 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elephony-purchas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, buyer, seller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 =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category = ‘telephon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2080" y="1143000"/>
            <a:ext cx="592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‘Seattle’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2040" y="3505320"/>
            <a:ext cx="75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eattle-view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attle-view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‘sho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6680" y="621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at’s really happening when we query a view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560" y="1143000"/>
            <a:ext cx="697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on-purchas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tore, seller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 = ‘The Bon March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If we make the following inser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on-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the Bon Marche’, Joe, ‘Denby Mu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simply add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‘the Bon Marche’, Joe, NULL, ‘Denby Mu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lation Purc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440" y="1905120"/>
            <a:ext cx="592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‘Seattle’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9680" y="4613400"/>
            <a:ext cx="618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oe,  ‘Shoe Model 12345’,  ‘Nine West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9400" y="1946160"/>
            <a:ext cx="7657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89548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2560" y="2017800"/>
          <a:ext cx="7661520" cy="387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7800"/>
                    <a:ext cx="7661520" cy="3878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8120" y="6137280"/>
            <a:ext cx="53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Two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1120" y="1984320"/>
          <a:ext cx="7664400" cy="387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984320"/>
                    <a:ext cx="7664400" cy="3878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8120" y="6137280"/>
            <a:ext cx="53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9320" y="1336680"/>
            <a:ext cx="44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First: group the entries by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6720" y="4648320"/>
            <a:ext cx="742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 * 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940280"/>
            <a:ext cx="733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748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295280"/>
          <a:ext cx="6711840" cy="33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6711840" cy="33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6080" y="2362320"/>
            <a:ext cx="5918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roduct,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.name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8520" y="4537080"/>
            <a:ext cx="740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relation (I.e., the FROM and WHE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0800" y="3352680"/>
            <a:ext cx="55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56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1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03:21:15Z</dcterms:created>
  <dc:creator>Alon Levy</dc:creator>
  <dc:description/>
  <dc:language>en-US</dc:language>
  <cp:lastModifiedBy>Rachel Pottinger</cp:lastModifiedBy>
  <dcterms:modified xsi:type="dcterms:W3CDTF">1999-10-25T18:32:45Z</dcterms:modified>
  <cp:revision>22</cp:revision>
  <dc:subject/>
  <dc:title>SQL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