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F8E-A90B-4943-B5E7-839CC93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9D9-B84B-49D5-A5E3-A74FC7C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5E0-1222-4196-8628-AC0F84E8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14F-CA87-49F1-9973-28261DB0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3E9-AF01-4710-B36E-BBB2FB40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B2A-F13B-406E-B20E-448F641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1DE-F600-4AE4-AEFF-E579D5A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2BA-1856-4D2D-93DF-8F2DB85C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F29-7B2F-42B4-95A6-37DA023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9B3-BEFF-43E1-A5A5-1913CB2C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693-1321-4C8C-B2DF-CA0701E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E6B-0626-47DC-8F7E-4783554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2C2-7110-451F-AF84-45C6592AB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sets as input, new set as outp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et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, intersection, difference, but no compl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43000" y="404640"/>
          <a:ext cx="66294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4640"/>
                    <a:ext cx="66294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Joins and 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ta join: the join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join: the attributes of one relation are included in the 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640" y="1870200"/>
            <a:ext cx="526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657600"/>
            <a:ext cx="76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elephony products that somebody b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 (and why we c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5120" y="2590920"/>
            <a:ext cx="389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(natural join, theta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table(set) with sam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out for naming of attributes in resulting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tuples in R1 or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erse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tuples in R1 and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fferen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ll tuples in R1 and not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 complem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a subset of the tuples in a relation which satisfy a give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… returns set with same attributes, but ‘selects’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d, or, not, &gt;, &lt;… to build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employees with salary more than $40,000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582480"/>
          <a:ext cx="80773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82480"/>
                    <a:ext cx="80773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16600" y="3800520"/>
            <a:ext cx="73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ry operation, selects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duplicate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9480" y="584280"/>
          <a:ext cx="739152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84280"/>
                    <a:ext cx="739152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tuples combining any element of R1 with any element of R2, for R1 X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is union of Schema(R1) &amp; Schema(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374840" y="274680"/>
          <a:ext cx="6357960" cy="62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74680"/>
                    <a:ext cx="635796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(Nat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, expensive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two relations, selecting only related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a cross product followed by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ing schema has all attributes of the two relations, but one copy of join condition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6:46:05Z</dcterms:created>
  <dc:creator>Administrator</dc:creator>
  <dc:description/>
  <dc:language>en-US</dc:language>
  <cp:lastModifiedBy>Rachel Pottinger</cp:lastModifiedBy>
  <cp:lastPrinted>1999-10-11T18:40:37Z</cp:lastPrinted>
  <dcterms:modified xsi:type="dcterms:W3CDTF">1999-10-13T23:02:56Z</dcterms:modified>
  <cp:revision>54</cp:revision>
  <dc:subject/>
  <dc:title>Functional Depend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