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D46-F04E-4B3C-9B02-FEDA4007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895-82F0-45A6-BFD4-F815F82C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494-3435-4492-B4E9-A603CBBA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BCE-054A-4287-869B-A0741C7B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56D-B136-4153-B3D9-422FD7CA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D72-E8F1-427D-961E-1DE2FF75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BE8-D5F1-4CBF-AA84-06F02855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EDA-549A-4503-B4D7-06F804B2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F2D-159E-4924-87BE-2FE1813C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C8F-20B2-4B1A-9207-DB58098D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64F-D837-4A82-B7A2-0DAF620E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3EE-50E5-4B5A-AF9D-24D62DD3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8387-F3AE-4FE8-AFD1-6A56F7B74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Queri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6640" y="1870200"/>
            <a:ext cx="526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657600"/>
            <a:ext cx="76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hone numbers of people who bought gizmos from F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590920"/>
            <a:ext cx="716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=bu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=Produc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category=‘telephon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3200" y="18288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buying telephony 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0200" y="2438280"/>
            <a:ext cx="802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1.maker, product2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 AS product1, Product AS produc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1.category=product2.categ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1.maker &lt;&gt; product2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400" y="148896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airs of companies making products in the same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R,S,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(S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600" y="1717560"/>
            <a:ext cx="603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‘Seattl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‘The Bo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232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INTERSECT and EX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Quer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6640" y="1870200"/>
            <a:ext cx="526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657600"/>
            <a:ext cx="76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elephony products that somebody b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 (and why we ca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5120" y="2590920"/>
            <a:ext cx="3897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(natural join, theta 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76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240" y="3241800"/>
            <a:ext cx="780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SQL92, SQL2, SQL3, SQL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, but all of what we’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alking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many many more bells and whistles in ad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relations (possibly multiple, joi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 (sel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240" y="1828800"/>
            <a:ext cx="749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‘USA’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ou can u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 of the relation(s) used in the F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operators:  =, &lt;&gt;, &lt;, &gt;, &lt;=, &g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rithmetic operations:  stockprice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on strings (e.g., “||”  for concaten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ographic order 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 matching:    s LIKE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stuff for comparing dates and ti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6800" y="4267080"/>
            <a:ext cx="75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AS company, stockprice AS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‘USA’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0040" y="2286000"/>
            <a:ext cx="72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‘USA’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560" y="156528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nly a subset of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1640" y="354636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the attributes in the resul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0040" y="2286000"/>
            <a:ext cx="726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=‘USA’ AND stock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ry,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16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752480"/>
            <a:ext cx="7102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=buyer AND city=‘Seattl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duct=‘gizmo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5T06:46:05Z</dcterms:created>
  <dc:creator>Administrator</dc:creator>
  <dc:description/>
  <dc:language>en-US</dc:language>
  <cp:lastModifiedBy>Rachel Pottinger</cp:lastModifiedBy>
  <cp:lastPrinted>1999-10-11T18:40:37Z</cp:lastPrinted>
  <dcterms:modified xsi:type="dcterms:W3CDTF">1999-10-20T20:25:43Z</dcterms:modified>
  <cp:revision>56</cp:revision>
  <dc:subject/>
  <dc:title>Functional Dependenc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