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B88C-A2E1-4C36-AC1E-F6D1A75C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CE1-6515-40C2-B907-FD1408C9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5D6-061C-4D99-AE78-C731C3C7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8692-4085-4C9F-8779-9CDF661CB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2F2-69F7-4738-9A1C-25F56080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CF4-2630-4EAA-9D96-994E5155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7DD7-D6BD-47AE-A5D5-7A5FBDA9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25F-B89A-412A-B6A3-2EFDD233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5D3-879A-4646-9C48-95F1A90A6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BAF-53E8-468E-8DB0-A65940E13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8DE-F567-426F-9E60-EBAF28E1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211-B70E-4DA2-878A-69816D9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8B7-F600-4EC5-BE01-A441FFC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DB8-72F9-44F4-8B86-F4199EB4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9BD-A7ED-4084-9288-ABCEE8C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B0F-7D94-42BF-8403-819BE72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693-0C1C-4680-9B50-B7394B0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AA3-124E-41F4-9DE3-1468FBB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28A-A878-485A-B082-B3BFCAEB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4C4-D3BC-4E4E-9117-7C244FC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AD7-622F-4479-928F-CA06B9E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6D8-A6B0-4699-A08E-8C6E1E3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115-D818-4016-83A1-46242B25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Pushdown (through group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213372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Max(age)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520" y="2286000"/>
            <a:ext cx="377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bid, Max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Reserves R,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.age &g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boat, find the maximal age of sailors who’ve reserv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9080" y="3429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7720" y="3429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Joi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, we need to consider all possible join orde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number of joins increases, the number of alternative plans grows rapidly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 need to restrict the sear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-R: consider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ly left-deep join tre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deep trees allow us to generate all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ully pipelin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Intermediate results not written to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left-deep trees are fully pipelined (e.g., SM jo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09080" y="1828800"/>
            <a:ext cx="4402800" cy="1965960"/>
            <a:chOff x="4609080" y="1828800"/>
            <a:chExt cx="4402800" cy="1965960"/>
          </a:xfrm>
        </p:grpSpPr>
        <p:sp>
          <p:nvSpPr>
            <p:cNvPr id="122" name=""/>
            <p:cNvSpPr/>
            <p:nvPr/>
          </p:nvSpPr>
          <p:spPr>
            <a:xfrm>
              <a:off x="5159160" y="2928960"/>
              <a:ext cx="180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9800" y="29289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9160" y="292896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59160" y="292896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45160" y="2420640"/>
              <a:ext cx="1440" cy="103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6880" y="2420640"/>
              <a:ext cx="1800" cy="10332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5160" y="2420640"/>
              <a:ext cx="263520" cy="103320"/>
            </a:xfrm>
            <a:custGeom>
              <a:avLst/>
              <a:gdLst/>
              <a:ahLst/>
              <a:rect l="l" t="t" r="r" b="b"/>
              <a:pathLst>
                <a:path w="166" h="65">
                  <a:moveTo>
                    <a:pt x="0" y="0"/>
                  </a:moveTo>
                  <a:lnTo>
                    <a:pt x="165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45160" y="2420640"/>
              <a:ext cx="263520" cy="103320"/>
            </a:xfrm>
            <a:custGeom>
              <a:avLst/>
              <a:gdLst/>
              <a:ahLst/>
              <a:rect l="l" t="t" r="r" b="b"/>
              <a:pathLst>
                <a:path w="166" h="65">
                  <a:moveTo>
                    <a:pt x="0" y="64"/>
                  </a:moveTo>
                  <a:lnTo>
                    <a:pt x="165" y="0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1320" y="1846080"/>
              <a:ext cx="180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1960" y="184608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1320" y="184608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51320" y="1846080"/>
              <a:ext cx="26208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6280" y="1982520"/>
              <a:ext cx="48276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75160" y="199224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90920" y="2522520"/>
              <a:ext cx="484200" cy="398520"/>
            </a:xfrm>
            <a:custGeom>
              <a:avLst/>
              <a:gdLst/>
              <a:ahLst/>
              <a:rect l="l" t="t" r="r" b="b"/>
              <a:pathLst>
                <a:path w="305" h="251">
                  <a:moveTo>
                    <a:pt x="0" y="250"/>
                  </a:moveTo>
                  <a:lnTo>
                    <a:pt x="304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81600" y="2531880"/>
              <a:ext cx="401760" cy="33516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5280" y="3052800"/>
              <a:ext cx="484200" cy="39672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0" y="249"/>
                  </a:moveTo>
                  <a:lnTo>
                    <a:pt x="304" y="0"/>
                  </a:lnTo>
                  <a:lnTo>
                    <a:pt x="0" y="2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95960" y="3062160"/>
              <a:ext cx="403200" cy="334800"/>
            </a:xfrm>
            <a:custGeom>
              <a:avLst/>
              <a:gdLst/>
              <a:ahLst/>
              <a:rect l="l" t="t" r="r" b="b"/>
              <a:pathLst>
                <a:path w="254" h="211">
                  <a:moveTo>
                    <a:pt x="0" y="0"/>
                  </a:moveTo>
                  <a:lnTo>
                    <a:pt x="253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294480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77200" y="294480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16920" y="2944800"/>
              <a:ext cx="261720" cy="10620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0" y="0"/>
                  </a:moveTo>
                  <a:lnTo>
                    <a:pt x="164" y="6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16920" y="2944800"/>
              <a:ext cx="261720" cy="10620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0" y="66"/>
                  </a:moveTo>
                  <a:lnTo>
                    <a:pt x="164" y="0"/>
                  </a:lnTo>
                  <a:lnTo>
                    <a:pt x="0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6720" y="2403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47000" y="24033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6720" y="2403360"/>
              <a:ext cx="26172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0"/>
                  </a:moveTo>
                  <a:lnTo>
                    <a:pt x="164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86720" y="2403360"/>
              <a:ext cx="261720" cy="104760"/>
            </a:xfrm>
            <a:custGeom>
              <a:avLst/>
              <a:gdLst/>
              <a:ahLst/>
              <a:rect l="l" t="t" r="r" b="b"/>
              <a:pathLst>
                <a:path w="165" h="66">
                  <a:moveTo>
                    <a:pt x="0" y="65"/>
                  </a:moveTo>
                  <a:lnTo>
                    <a:pt x="164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91440" y="182880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53520" y="182880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1440" y="182880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0" y="0"/>
                  </a:moveTo>
                  <a:lnTo>
                    <a:pt x="165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91440" y="182880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0" y="65"/>
                  </a:moveTo>
                  <a:lnTo>
                    <a:pt x="165" y="0"/>
                  </a:lnTo>
                  <a:lnTo>
                    <a:pt x="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24600" y="1965240"/>
              <a:ext cx="484200" cy="398520"/>
            </a:xfrm>
            <a:custGeom>
              <a:avLst/>
              <a:gdLst/>
              <a:ahLst/>
              <a:rect l="l" t="t" r="r" b="b"/>
              <a:pathLst>
                <a:path w="305" h="251">
                  <a:moveTo>
                    <a:pt x="0" y="250"/>
                  </a:moveTo>
                  <a:lnTo>
                    <a:pt x="304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6720" y="1974600"/>
              <a:ext cx="401760" cy="33516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40400" y="2527200"/>
              <a:ext cx="48276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31080" y="2538360"/>
              <a:ext cx="401760" cy="333360"/>
            </a:xfrm>
            <a:custGeom>
              <a:avLst/>
              <a:gdLst/>
              <a:ahLst/>
              <a:rect l="l" t="t" r="r" b="b"/>
              <a:pathLst>
                <a:path w="253" h="210">
                  <a:moveTo>
                    <a:pt x="0" y="0"/>
                  </a:moveTo>
                  <a:lnTo>
                    <a:pt x="252" y="2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4480" y="3066840"/>
              <a:ext cx="482400" cy="398520"/>
            </a:xfrm>
            <a:custGeom>
              <a:avLst/>
              <a:gdLst/>
              <a:ahLst/>
              <a:rect l="l" t="t" r="r" b="b"/>
              <a:pathLst>
                <a:path w="304" h="251">
                  <a:moveTo>
                    <a:pt x="0" y="250"/>
                  </a:moveTo>
                  <a:lnTo>
                    <a:pt x="303" y="0"/>
                  </a:lnTo>
                  <a:lnTo>
                    <a:pt x="0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54800" y="307656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0" y="0"/>
                  </a:moveTo>
                  <a:lnTo>
                    <a:pt x="252" y="2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8920" y="341784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09080" y="342900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4280" y="286056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760" y="233352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38120" y="34318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67920" y="344304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9120" y="291780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69880" y="2317680"/>
              <a:ext cx="342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80520" y="1828800"/>
            <a:ext cx="4155480" cy="2362320"/>
            <a:chOff x="380520" y="1828800"/>
            <a:chExt cx="4155480" cy="2362320"/>
          </a:xfrm>
        </p:grpSpPr>
        <p:sp>
          <p:nvSpPr>
            <p:cNvPr id="167" name=""/>
            <p:cNvSpPr/>
            <p:nvPr/>
          </p:nvSpPr>
          <p:spPr>
            <a:xfrm>
              <a:off x="3481200" y="2639880"/>
              <a:ext cx="180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19320" y="2639880"/>
              <a:ext cx="180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81200" y="2639880"/>
              <a:ext cx="439920" cy="13968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0" y="0"/>
                  </a:moveTo>
                  <a:lnTo>
                    <a:pt x="276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1200" y="2639880"/>
              <a:ext cx="439920" cy="13968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0" y="87"/>
                  </a:moveTo>
                  <a:lnTo>
                    <a:pt x="276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9840" y="1828800"/>
              <a:ext cx="1440" cy="14112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47960" y="1828800"/>
              <a:ext cx="1440" cy="14112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09840" y="1828800"/>
              <a:ext cx="439560" cy="141120"/>
            </a:xfrm>
            <a:custGeom>
              <a:avLst/>
              <a:gdLst/>
              <a:ahLst/>
              <a:rect l="l" t="t" r="r" b="b"/>
              <a:pathLst>
                <a:path w="277" h="89">
                  <a:moveTo>
                    <a:pt x="0" y="0"/>
                  </a:moveTo>
                  <a:lnTo>
                    <a:pt x="276" y="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09840" y="1828800"/>
              <a:ext cx="439560" cy="141120"/>
            </a:xfrm>
            <a:custGeom>
              <a:avLst/>
              <a:gdLst/>
              <a:ahLst/>
              <a:rect l="l" t="t" r="r" b="b"/>
              <a:pathLst>
                <a:path w="277" h="89">
                  <a:moveTo>
                    <a:pt x="0" y="88"/>
                  </a:moveTo>
                  <a:lnTo>
                    <a:pt x="276" y="0"/>
                  </a:lnTo>
                  <a:lnTo>
                    <a:pt x="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89000" y="2763720"/>
              <a:ext cx="806760" cy="531720"/>
            </a:xfrm>
            <a:custGeom>
              <a:avLst/>
              <a:gdLst/>
              <a:ahLst/>
              <a:rect l="l" t="t" r="r" b="b"/>
              <a:pathLst>
                <a:path w="508" h="335">
                  <a:moveTo>
                    <a:pt x="0" y="334"/>
                  </a:moveTo>
                  <a:lnTo>
                    <a:pt x="507" y="0"/>
                  </a:lnTo>
                  <a:lnTo>
                    <a:pt x="0" y="3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9800" y="2778120"/>
              <a:ext cx="669960" cy="446040"/>
            </a:xfrm>
            <a:custGeom>
              <a:avLst/>
              <a:gdLst/>
              <a:ahLst/>
              <a:rect l="l" t="t" r="r" b="b"/>
              <a:pathLst>
                <a:path w="422" h="281">
                  <a:moveTo>
                    <a:pt x="0" y="0"/>
                  </a:moveTo>
                  <a:lnTo>
                    <a:pt x="421" y="2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5160" y="2620800"/>
              <a:ext cx="144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4720" y="2620800"/>
              <a:ext cx="1440" cy="13968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0"/>
                  </a:move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35160" y="2620800"/>
              <a:ext cx="441000" cy="139680"/>
            </a:xfrm>
            <a:custGeom>
              <a:avLst/>
              <a:gdLst/>
              <a:ahLst/>
              <a:rect l="l" t="t" r="r" b="b"/>
              <a:pathLst>
                <a:path w="278" h="88">
                  <a:moveTo>
                    <a:pt x="0" y="0"/>
                  </a:moveTo>
                  <a:lnTo>
                    <a:pt x="277" y="8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620800"/>
              <a:ext cx="441000" cy="139680"/>
            </a:xfrm>
            <a:custGeom>
              <a:avLst/>
              <a:gdLst/>
              <a:ahLst/>
              <a:rect l="l" t="t" r="r" b="b"/>
              <a:pathLst>
                <a:path w="278" h="88">
                  <a:moveTo>
                    <a:pt x="0" y="87"/>
                  </a:moveTo>
                  <a:lnTo>
                    <a:pt x="277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6200" y="2784240"/>
              <a:ext cx="807840" cy="530280"/>
            </a:xfrm>
            <a:custGeom>
              <a:avLst/>
              <a:gdLst/>
              <a:ahLst/>
              <a:rect l="l" t="t" r="r" b="b"/>
              <a:pathLst>
                <a:path w="509" h="334">
                  <a:moveTo>
                    <a:pt x="0" y="333"/>
                  </a:moveTo>
                  <a:lnTo>
                    <a:pt x="508" y="0"/>
                  </a:lnTo>
                  <a:lnTo>
                    <a:pt x="0" y="3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66640" y="2797200"/>
              <a:ext cx="669960" cy="447480"/>
            </a:xfrm>
            <a:custGeom>
              <a:avLst/>
              <a:gdLst/>
              <a:ahLst/>
              <a:rect l="l" t="t" r="r" b="b"/>
              <a:pathLst>
                <a:path w="422" h="282">
                  <a:moveTo>
                    <a:pt x="0" y="0"/>
                  </a:moveTo>
                  <a:lnTo>
                    <a:pt x="421" y="28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9880" y="2033640"/>
              <a:ext cx="1158840" cy="520560"/>
            </a:xfrm>
            <a:custGeom>
              <a:avLst/>
              <a:gdLst/>
              <a:ahLst/>
              <a:rect l="l" t="t" r="r" b="b"/>
              <a:pathLst>
                <a:path w="730" h="328">
                  <a:moveTo>
                    <a:pt x="0" y="327"/>
                  </a:moveTo>
                  <a:lnTo>
                    <a:pt x="729" y="0"/>
                  </a:lnTo>
                  <a:lnTo>
                    <a:pt x="0" y="3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41680" y="2033640"/>
              <a:ext cx="1038240" cy="520560"/>
            </a:xfrm>
            <a:custGeom>
              <a:avLst/>
              <a:gdLst/>
              <a:ahLst/>
              <a:rect l="l" t="t" r="r" b="b"/>
              <a:pathLst>
                <a:path w="654" h="328">
                  <a:moveTo>
                    <a:pt x="0" y="0"/>
                  </a:moveTo>
                  <a:lnTo>
                    <a:pt x="653" y="32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82360" y="338292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4800" y="33512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04480" y="335412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520" y="3368520"/>
              <a:ext cx="331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72000" y="1523880"/>
            <a:ext cx="2438280" cy="2362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eration of Left-Deep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ed using N passes (if N relations join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1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best 1-relation plan for each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2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best way to join result of each 1-relation plan (as outer) to another relation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All 2-relation plans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best way to join result of a (N-1)-relation plan (as outer) to the N’th relation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All N-relation plan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ubset of relations, retain on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apest plan overall,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apest plan for eac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teresting or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t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eration of Plans (Cont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RDER BY, GROUP BY, aggrega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 handled as a final step, using either an `interestingly ordered’ plan or an additional sorting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N-1 way plan is not combined with an additional relation unless there is a join condition between them, unless all predicates in WHERE have been used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void Cartesian products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te of pruning plan space, this approach 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ill expon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# of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ant to consider all (bushy) trees, we need only a slight modification to the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 1:  (essentially, access-path se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ailor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match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ting&gt;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is probably cheapest.  However, if this selection is expected to  retrieve a lot of tuples, and index is  unclustered, file scan may be che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, B+ tree plan kept (tuples ar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serv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ch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=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cheap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 2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each plan retained from Pass 1 as the outer, and consider how to join it with the (only) other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.g.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serves as oute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index can be used to get Sailors tuples that satisf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outer tuple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4800" y="0"/>
            <a:ext cx="23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Sail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+ tree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ash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eser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+ tree o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824520" y="228600"/>
            <a:ext cx="2319840" cy="3513240"/>
            <a:chOff x="6824520" y="228600"/>
            <a:chExt cx="2319840" cy="3513240"/>
          </a:xfrm>
        </p:grpSpPr>
        <p:sp>
          <p:nvSpPr>
            <p:cNvPr id="202" name=""/>
            <p:cNvSpPr/>
            <p:nvPr/>
          </p:nvSpPr>
          <p:spPr>
            <a:xfrm>
              <a:off x="6964200" y="2403360"/>
              <a:ext cx="7632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7" y="52"/>
                  </a:moveTo>
                  <a:lnTo>
                    <a:pt x="40" y="15"/>
                  </a:lnTo>
                  <a:lnTo>
                    <a:pt x="24" y="0"/>
                  </a:lnTo>
                  <a:lnTo>
                    <a:pt x="7" y="15"/>
                  </a:lnTo>
                  <a:lnTo>
                    <a:pt x="0" y="52"/>
                  </a:lnTo>
                  <a:lnTo>
                    <a:pt x="7" y="88"/>
                  </a:lnTo>
                  <a:lnTo>
                    <a:pt x="24" y="103"/>
                  </a:lnTo>
                  <a:lnTo>
                    <a:pt x="40" y="88"/>
                  </a:lnTo>
                  <a:lnTo>
                    <a:pt x="4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00920" y="2406600"/>
              <a:ext cx="66600" cy="144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6160" y="246240"/>
              <a:ext cx="1800" cy="180720"/>
            </a:xfrm>
            <a:custGeom>
              <a:avLst/>
              <a:gdLst/>
              <a:ahLst/>
              <a:rect l="l" t="t" r="r" b="b"/>
              <a:pathLst>
                <a:path w="1" h="114">
                  <a:moveTo>
                    <a:pt x="0" y="0"/>
                  </a:moveTo>
                  <a:lnTo>
                    <a:pt x="0" y="1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0160" y="246240"/>
              <a:ext cx="1800" cy="180720"/>
            </a:xfrm>
            <a:custGeom>
              <a:avLst/>
              <a:gdLst/>
              <a:ahLst/>
              <a:rect l="l" t="t" r="r" b="b"/>
              <a:pathLst>
                <a:path w="1" h="114">
                  <a:moveTo>
                    <a:pt x="0" y="0"/>
                  </a:moveTo>
                  <a:lnTo>
                    <a:pt x="0" y="1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97720" y="228600"/>
              <a:ext cx="109440" cy="180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0" y="0"/>
                  </a:move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89880" y="139068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08760" y="1390680"/>
              <a:ext cx="180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89880" y="1390680"/>
              <a:ext cx="220680" cy="13320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0"/>
                  </a:moveTo>
                  <a:lnTo>
                    <a:pt x="138" y="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89880" y="1390680"/>
              <a:ext cx="220680" cy="13320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83"/>
                  </a:moveTo>
                  <a:lnTo>
                    <a:pt x="138" y="0"/>
                  </a:lnTo>
                  <a:lnTo>
                    <a:pt x="0" y="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16920" y="1931040"/>
              <a:ext cx="422280" cy="378360"/>
            </a:xfrm>
            <a:custGeom>
              <a:avLst/>
              <a:gdLst/>
              <a:ahLst/>
              <a:rect l="l" t="t" r="r" b="b"/>
              <a:pathLst>
                <a:path w="266" h="238">
                  <a:moveTo>
                    <a:pt x="0" y="237"/>
                  </a:moveTo>
                  <a:lnTo>
                    <a:pt x="265" y="0"/>
                  </a:lnTo>
                  <a:lnTo>
                    <a:pt x="0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9680" y="1931040"/>
              <a:ext cx="428760" cy="378360"/>
            </a:xfrm>
            <a:custGeom>
              <a:avLst/>
              <a:gdLst/>
              <a:ahLst/>
              <a:rect l="l" t="t" r="r" b="b"/>
              <a:pathLst>
                <a:path w="270" h="238">
                  <a:moveTo>
                    <a:pt x="0" y="0"/>
                  </a:moveTo>
                  <a:lnTo>
                    <a:pt x="269" y="23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9320" y="635400"/>
              <a:ext cx="1800" cy="594360"/>
            </a:xfrm>
            <a:custGeom>
              <a:avLst/>
              <a:gdLst/>
              <a:ahLst/>
              <a:rect l="l" t="t" r="r" b="b"/>
              <a:pathLst>
                <a:path w="1" h="374">
                  <a:moveTo>
                    <a:pt x="0" y="0"/>
                  </a:moveTo>
                  <a:lnTo>
                    <a:pt x="0" y="37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69200" y="2743200"/>
              <a:ext cx="1800" cy="54396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8400" y="2411280"/>
              <a:ext cx="73080" cy="163440"/>
            </a:xfrm>
            <a:custGeom>
              <a:avLst/>
              <a:gdLst/>
              <a:ahLst/>
              <a:rect l="l" t="t" r="r" b="b"/>
              <a:pathLst>
                <a:path w="46" h="103">
                  <a:moveTo>
                    <a:pt x="45" y="51"/>
                  </a:moveTo>
                  <a:lnTo>
                    <a:pt x="38" y="14"/>
                  </a:lnTo>
                  <a:lnTo>
                    <a:pt x="23" y="0"/>
                  </a:lnTo>
                  <a:lnTo>
                    <a:pt x="7" y="14"/>
                  </a:lnTo>
                  <a:lnTo>
                    <a:pt x="0" y="51"/>
                  </a:lnTo>
                  <a:lnTo>
                    <a:pt x="7" y="87"/>
                  </a:lnTo>
                  <a:lnTo>
                    <a:pt x="23" y="102"/>
                  </a:lnTo>
                  <a:lnTo>
                    <a:pt x="38" y="87"/>
                  </a:lnTo>
                  <a:lnTo>
                    <a:pt x="45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23320" y="2425320"/>
              <a:ext cx="66600" cy="1800"/>
            </a:xfrm>
            <a:custGeom>
              <a:avLst/>
              <a:gdLst/>
              <a:ahLst/>
              <a:rect l="l" t="t" r="r" b="b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72280" y="2776680"/>
              <a:ext cx="1800" cy="54360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4520" y="3390120"/>
              <a:ext cx="1148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1640" y="3388680"/>
              <a:ext cx="9057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ailo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9760" y="1651320"/>
              <a:ext cx="80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d=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73560" y="2477880"/>
              <a:ext cx="1056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d=100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93080" y="2469960"/>
              <a:ext cx="1151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ating &gt; 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21840" y="35712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plan considered, must estimate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each operation in plan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input cardin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stima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ze of resu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operation in tre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ormation about the input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lections and joins, assume independence of predic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discus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ystem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inexact, but works ok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ophisticated techniques known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 and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information about the relations and indexes involved.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atalo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ontain at le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tuples (NTup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pages (NPag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 distinct key values (NKey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Pages for each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 height, low/high key values (Low/High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ree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s updated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henever data changes is too expensive; lots of approximation anyway, so slight inconsistency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information (e.g., histograms of the values in some field) are sometimes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 and Reduction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que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# tuples in result is the product of the cardinalities of relations in the FROM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duction factor (RF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each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s the impac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ducing result size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rdinalit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Max # tuples  *  product of all RF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cit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erm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independ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=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NKeys(I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index I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1=co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MAX(NKeys(I1), NKeys(I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l&gt;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igh(I)-value)/(High(I)-Low(I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1447920"/>
            <a:ext cx="4862520" cy="124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attribut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elatio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3365fb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ter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Book Antiqu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2019240"/>
          <a:ext cx="777240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724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85800" y="205740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5909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429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91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952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0574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0574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0574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" y="601020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 don’t need the tuples with age less than 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520" y="11872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ail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predicates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0680" y="1981080"/>
            <a:ext cx="446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628956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’t push any predicat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6324480"/>
            <a:ext cx="4419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-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240" y="457200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560" y="1981080"/>
            <a:ext cx="45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3657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572000"/>
            <a:ext cx="3886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2057400"/>
            <a:ext cx="4572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440" y="225108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: Predicate Move-a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280" y="4572000"/>
            <a:ext cx="31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1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ating, Min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By 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240" y="4572000"/>
            <a:ext cx="37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View V2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rating, age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sid=S.si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.age &lt; 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920" y="1981080"/>
            <a:ext cx="550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sid,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V1,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V1.rating = V2.rating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age = V2.ag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1.age &l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28440" y="358128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240" y="1413000"/>
            <a:ext cx="91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iling wizz dates: when did the youngest of each sailor level rent 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5720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572000"/>
            <a:ext cx="3886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7400"/>
            <a:ext cx="5486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6440" y="2251080"/>
            <a:ext cx="26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irst,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predicates up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hen, mo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block is optimized independently, with the outer tuple considered as providing a selection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block is optimized with the cost of `calling’ nested block computation taken into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ordering of these blocks means that some good strategies are not considered.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he non-nested version of the query is typically optimized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9880" y="54000"/>
            <a:ext cx="2908440" cy="259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EX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ELECT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R.bid=1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R.sid=S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9920" y="2797200"/>
            <a:ext cx="3578400" cy="222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Nested block to optimi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R.bid=1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id= </a:t>
            </a:r>
            <a:r>
              <a:rPr b="0" i="1" lang="en-US" sz="2400" spc="-1" strike="noStrike">
                <a:solidFill>
                  <a:srgbClr val="008000"/>
                </a:solidFill>
                <a:latin typeface="Book Antiqua"/>
              </a:rPr>
              <a:t>oute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0320" y="4754520"/>
            <a:ext cx="38944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Equivalent non-nested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ailors S, Reserve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sid=R.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.bid=1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izer can use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antically cor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le to transform one query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ry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constraints between blocks (because each will be optimiz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s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ally important in decision support applications where queries ar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s for Single-Relation Que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 for Join ord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 a query execution plan for a single Select-project-join-group-b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 each possibl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ccess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elevant tuples of the relation. Choose the cheapest on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erent operations are essentially carried out together (e.g., if an index is used for a selection, projection is done for each retrieved tuple, and the resulting tuples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ipel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ggregate computatio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dex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NKeys(I)) * NTuples(R) = (1/10) * 40000 tuples retr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ustered ind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NKeys(I)) * (NPages(I)+NPages(R))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1/10) * (50+500) pages are retriev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= 55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clustered ind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NKeys(I)) * (NPages(I)+NTuples(R))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1/10) * (50+40000) pages are retriev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dex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have to retrieve all tuples/pages.  With 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ex,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st is 50+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le s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e retrieve all file pag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(50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75200" y="304920"/>
            <a:ext cx="26708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ailor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rating=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45:50Z</dcterms:created>
  <dc:creator>Alon Levy</dc:creator>
  <dc:description/>
  <dc:language>en-US</dc:language>
  <cp:lastModifiedBy>Rachel Pottinger</cp:lastModifiedBy>
  <cp:lastPrinted>1999-12-01T19:35:55Z</cp:lastPrinted>
  <dcterms:modified xsi:type="dcterms:W3CDTF">1999-12-01T20:33:04Z</dcterms:modified>
  <cp:revision>79</cp:revision>
  <dc:subject/>
  <dc:title>Query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I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