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F65-6309-49AD-98E0-CAA9DCD2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8EC-685E-4770-84AE-4EED60EC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AFB-8122-4CAC-BDDC-094A946A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E3B-3FB4-4C83-926F-04F2AEF9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A13-77DB-4F23-9AEF-C2091832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915-3F3E-42BF-AB62-2BCAE616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14F-5D33-40DB-98BB-95891781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01B-D585-49F9-990F-D7BC08DE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44E-920E-4163-808C-D33697F0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0EC-0A52-497A-AD8C-65477A33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42B-3E6A-4B72-A587-03A93025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D58-584E-4D79-8703-05B88D72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0E7A-BFAC-45BD-88ED-6CF8A94CB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Declarations, Extended A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1828800"/>
            <a:ext cx="583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Compan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 string 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 float    stock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  set &lt;Product&gt; 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ve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::madeB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   set &lt;Person&gt;  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ve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::worksF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in O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5640" y="1946160"/>
            <a:ext cx="659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c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ypes (e.g., string, integer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types (e.g., Person, Product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(1, 5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1, 1, 5, 6, 6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1, 5, 6, 1, 6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ra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Integer[1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tru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string street, string city, integer zipcod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owable Types in O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3480" y="1488960"/>
            <a:ext cx="8917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ttribut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art with atomic or struct, and apply a collection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O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ring, set of integer, bag of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O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,   set of set of inte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relationshi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interface type and apply a collection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O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,  set of Product, list of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O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 {pname Product, cname Company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bag of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3440" y="2743200"/>
            <a:ext cx="6851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associated with classes (I.e., first class citiz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49" idx="0"/>
            <a:endCxn id="150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50" idx="2"/>
            <a:endCxn id="154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9000" y="179388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need an entity set twice in on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42864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5181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67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42864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5181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67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69920" y="2631960"/>
            <a:ext cx="52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te the multiplicity of the relationshi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e cannot express all pos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o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137160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" y="628956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Definition Language (OD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r in spirit to object-oriente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/Relationship model (E/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lational i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 (with varying amount of pai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 to OO-schema: direct transformation (C++ or Smalltalk based syst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48560" y="5146560"/>
            <a:ext cx="27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ral: don’t talk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440" y="4917960"/>
            <a:ext cx="29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we really need 3-way relationship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56386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39625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18288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52578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371240" y="2514600"/>
            <a:ext cx="16765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1143000" y="434304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209320" y="4343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480" y="491796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d a nic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say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Definiti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art of ODMG, which also gave us OQ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mbles C++ (and Smalltal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design paradigm in OD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i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bstraction purpo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objects in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qualifies as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should have common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Class Decla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981080"/>
            <a:ext cx="7696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 &lt;name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:   &lt;type&gt;  &lt;name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 &lt;range type&gt;  &lt;name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pa(in: Student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Gr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function can compute the value of gpa, based 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object given as in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209680"/>
            <a:ext cx="220968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876920"/>
            <a:ext cx="2133360" cy="114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419720"/>
            <a:ext cx="1752480" cy="99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3480" y="1641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79800" y="232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51440" y="1793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5791320"/>
            <a:ext cx="8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4308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0" y="4952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9680" y="6400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412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36196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133720" y="2590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90360" y="6019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6019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257800" y="21337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380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54100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Decla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8280" y="1066680"/>
            <a:ext cx="8951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Prod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float  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enum Catego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lectronics, communications, sports …}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Compan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 string 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 float    stock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Pers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integer ss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string  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Struct Address {string street, string city} address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Example Exten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209680"/>
            <a:ext cx="220968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876920"/>
            <a:ext cx="2133360" cy="114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4419720"/>
            <a:ext cx="1752480" cy="99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03480" y="1641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79800" y="232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51440" y="1793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5791320"/>
            <a:ext cx="8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08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0" y="4952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9680" y="6400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412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36196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133720" y="2590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90360" y="6019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6019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57800" y="21337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8380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20040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124080" y="518112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5520" y="37339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90920" y="320004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43920" y="5299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5840" y="33177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52578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Declarations, Exten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9000" y="1066680"/>
            <a:ext cx="903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Prod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float  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 enum Catego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lectronics, communications, sports …} catego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Company&gt;  madeB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Pers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integer ss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string  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Struct Address {string street, string city} addres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Product&gt;  buy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Company&gt;  worksFo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L Example, Extended A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2209680"/>
            <a:ext cx="220968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876920"/>
            <a:ext cx="2133360" cy="114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4419720"/>
            <a:ext cx="1752480" cy="99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03480" y="1641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9800" y="232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51440" y="1793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5791320"/>
            <a:ext cx="8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08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0" y="4952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680" y="6400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412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36196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133720" y="2590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990360" y="6019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6019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57800" y="21337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380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320040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124080" y="518112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5520" y="37339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590920" y="320004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43920" y="5299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75840" y="33177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23720" y="495288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028840" y="320004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89480" y="46893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80560" y="354636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51814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10:52:07Z</dcterms:created>
  <dc:creator>Alon Levy</dc:creator>
  <dc:description/>
  <dc:language>en-US</dc:language>
  <cp:lastModifiedBy>Rachel Pottinger</cp:lastModifiedBy>
  <cp:lastPrinted>1999-09-29T16:46:28Z</cp:lastPrinted>
  <dcterms:modified xsi:type="dcterms:W3CDTF">1999-09-29T23:06:43Z</dcterms:modified>
  <cp:revision>26</cp:revision>
  <dc:subject/>
  <dc:title>Database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odl+er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