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B92F-3384-49F1-BDD6-D279B22CC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B8ED-7CF6-406A-A708-0154A155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C6EB-7784-48FB-806B-ED58365C6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A8A8-106A-4E0F-A3B0-EADC7A6FD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4446-5E05-4E4E-AD99-41DDFA5D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D599-E0DE-468D-8114-B5AD4C58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AC16-AE10-4A9E-8EC7-7D3D6F70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ED66-BA66-4836-B0C9-4D574B40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F919-BA5B-45DA-B445-A89EDA01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2130-620D-4B69-9EF6-E1A3DB8C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F33B-13D5-435D-B111-9F26434B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99A0-516F-410A-89E3-1FBBA843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3CF2-4A8F-4C46-824C-82EFAF492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ing an ODBC sour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BC is Windows’ way of talking to a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-&gt;Settings-&gt; Control Panel-&gt; ODBC Data 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rojectodbc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857840" cy="3076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14400" y="6172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Do not try this until I send you 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ing a Gr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g 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data t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data to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grid" descr=""/>
          <p:cNvPicPr/>
          <p:nvPr/>
        </p:nvPicPr>
        <p:blipFill>
          <a:blip r:embed="rId1"/>
          <a:stretch/>
        </p:blipFill>
        <p:spPr>
          <a:xfrm>
            <a:off x="4513320" y="1676520"/>
            <a:ext cx="4365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’re done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click on ASP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ew in brow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only work with Internet Explor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uld be at http://iinetsrv.cs.washington.edu/[project name]/[page name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something doesn’t work, ask for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 a network dr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dev won’t work right without th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hare to connect to is \\iinetsrv\fall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vidual project spaces are at \\iinetsrv\fall99\cse444\[interdev space name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 reconnect at lo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rting with Interde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person needs to create a new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Visual Interdev Porjects -&gt; New Web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newproject" descr=""/>
          <p:cNvPicPr/>
          <p:nvPr/>
        </p:nvPicPr>
        <p:blipFill>
          <a:blip r:embed="rId1"/>
          <a:stretch/>
        </p:blipFill>
        <p:spPr>
          <a:xfrm>
            <a:off x="3733920" y="1905120"/>
            <a:ext cx="5200560" cy="3200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579132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Make it at the top level of your projec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project creation cho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your project with a good identif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“Master Mod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try to use any t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not work in any lab other than 232 until further mo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 a data conn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click on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“Add Data Connect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adddataconnection" descr=""/>
          <p:cNvPicPr/>
          <p:nvPr/>
        </p:nvPicPr>
        <p:blipFill>
          <a:blip r:embed="rId1"/>
          <a:stretch/>
        </p:blipFill>
        <p:spPr>
          <a:xfrm>
            <a:off x="5151600" y="1600200"/>
            <a:ext cx="269388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osing data sour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“Microsoft OLE DB Provider for ODBC Driv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mess with any of the advanced stu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datalinkproperties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4956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link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ck same system DSN you created for the ODBC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properties, under Authentication, Save Design-time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designauthentication" descr=""/>
          <p:cNvPicPr/>
          <p:nvPr/>
        </p:nvPicPr>
        <p:blipFill>
          <a:blip r:embed="rId1"/>
          <a:stretch/>
        </p:blipFill>
        <p:spPr>
          <a:xfrm>
            <a:off x="4191120" y="1981080"/>
            <a:ext cx="449568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ing an ASP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click on th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new ASP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asppage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45306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ing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 hand side, got to Toolbox, then Design Time Contro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g Recordset into ASP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recordset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647712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0T20:39:11Z</dcterms:created>
  <dc:creator>Rachel Pottinger</dc:creator>
  <dc:description/>
  <dc:language>en-US</dc:language>
  <cp:lastModifiedBy>Rachel Pottinger</cp:lastModifiedBy>
  <cp:lastPrinted>1999-11-10T21:06:26Z</cp:lastPrinted>
  <dcterms:modified xsi:type="dcterms:W3CDTF">1999-11-14T23:03:41Z</dcterms:modified>
  <cp:revision>1</cp:revision>
  <dc:subject/>
  <dc:title>Adding an ODBC sour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9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rap</vt:lpwstr>
  </property>
  <property fmtid="{D5CDD505-2E9C-101B-9397-08002B2CF9AE}" pid="9" name="LinkColor">
    <vt:r8>16711782</vt:r8>
  </property>
  <property fmtid="{D5CDD505-2E9C-101B-9397-08002B2CF9AE}" pid="10" name="MailAddress">
    <vt:lpwstr>rap@cs.washington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taweb\lectures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