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2583-C0F0-4958-82DB-78F43EE8C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228D-69FA-4A34-8A1E-1DC804EF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7BBB-307F-4959-B5CE-6DAF573D1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06B8-48C5-48EA-A409-C4CCF6D48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D232-6C80-4E97-8F52-BA5CBF8C0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6DAF-9429-4CC4-9283-047B207D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F0CE-297D-4CE3-8322-698AEF39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F482-327C-4A4F-B963-01F541C4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559F-80F1-40D2-B165-D6011095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302E-3F7F-44A3-9A9A-4B59348E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0BC3-E81E-400B-BF06-DA9F8E1A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E62D-7015-489F-B59D-D5825976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58E3-2A63-43B1-999F-A7FC92AD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DDC17-0A9B-45FD-9FED-C04D15E3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3266-425E-48D0-9123-35642FF0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FD3B-6887-45B5-8D52-D14EA02AE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56F9-F3A2-4692-9FBC-4BAD58533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0444-D786-4D50-9ADC-6FDD5B52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F47B-E9EF-44F2-906D-A90404B4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9AB6-5A46-4BFF-9EB5-F129C638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F572-F8AF-4DD9-AA7F-CEE473FF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61F4-9455-49BD-8BE7-84AA6F9A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6A64-C2D4-4DFB-AB44-637C711D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E302-CDC5-4448-BC10-0A190D21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5894-F53C-44B5-8D93-BBB7B65A74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7E6A-28AA-4B76-AB87-E672C39585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721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roduction to Database System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SE 444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3733920"/>
            <a:ext cx="723924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ecture #1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ptember, 27 1999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hema Design and Implement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able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ud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parates the logical view from the physical view of the d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511280" y="5486400"/>
          <a:ext cx="610704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5486400"/>
                    <a:ext cx="610704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523880" y="2666880"/>
          <a:ext cx="6234120" cy="2997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2666880"/>
                    <a:ext cx="6234120" cy="29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600200" y="327672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236232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1008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uerying a Databas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all the students who have taken CSE444 in Fall, 1997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(tructured) Q(uery) L(anguag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E.n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roll 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.course=CS444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quarter=“Fall, 1997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ry processor figures out how to answer the query efficiently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uery Optimiz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4564080" y="2122560"/>
            <a:ext cx="4241880" cy="3388680"/>
            <a:chOff x="4564080" y="2122560"/>
            <a:chExt cx="4241880" cy="3388680"/>
          </a:xfrm>
        </p:grpSpPr>
        <p:sp>
          <p:nvSpPr>
            <p:cNvPr id="143" name=""/>
            <p:cNvSpPr/>
            <p:nvPr/>
          </p:nvSpPr>
          <p:spPr>
            <a:xfrm>
              <a:off x="4960800" y="3124080"/>
              <a:ext cx="115920" cy="158760"/>
            </a:xfrm>
            <a:custGeom>
              <a:avLst/>
              <a:gdLst/>
              <a:ahLst/>
              <a:rect l="l" t="t" r="r" b="b"/>
              <a:pathLst>
                <a:path w="73" h="100">
                  <a:moveTo>
                    <a:pt x="72" y="50"/>
                  </a:moveTo>
                  <a:lnTo>
                    <a:pt x="62" y="15"/>
                  </a:lnTo>
                  <a:lnTo>
                    <a:pt x="36" y="0"/>
                  </a:lnTo>
                  <a:lnTo>
                    <a:pt x="11" y="15"/>
                  </a:lnTo>
                  <a:lnTo>
                    <a:pt x="0" y="50"/>
                  </a:lnTo>
                  <a:lnTo>
                    <a:pt x="11" y="84"/>
                  </a:lnTo>
                  <a:lnTo>
                    <a:pt x="36" y="99"/>
                  </a:lnTo>
                  <a:lnTo>
                    <a:pt x="62" y="84"/>
                  </a:lnTo>
                  <a:lnTo>
                    <a:pt x="72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19840" y="3141720"/>
              <a:ext cx="102960" cy="1440"/>
            </a:xfrm>
            <a:custGeom>
              <a:avLst/>
              <a:gdLst/>
              <a:ahLst/>
              <a:rect l="l" t="t" r="r" b="b"/>
              <a:pathLst>
                <a:path w="65" h="1">
                  <a:moveTo>
                    <a:pt x="0" y="0"/>
                  </a:moveTo>
                  <a:lnTo>
                    <a:pt x="6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99080" y="2211480"/>
              <a:ext cx="1800" cy="17280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86560" y="2211480"/>
              <a:ext cx="1440" cy="17280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57680" y="2195640"/>
              <a:ext cx="174960" cy="1440"/>
            </a:xfrm>
            <a:custGeom>
              <a:avLst/>
              <a:gdLst/>
              <a:ahLst/>
              <a:rect l="l" t="t" r="r" b="b"/>
              <a:pathLst>
                <a:path w="110" h="1">
                  <a:moveTo>
                    <a:pt x="0" y="0"/>
                  </a:moveTo>
                  <a:lnTo>
                    <a:pt x="109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16440" y="4208400"/>
              <a:ext cx="180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64200" y="4208400"/>
              <a:ext cx="180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16440" y="4208400"/>
              <a:ext cx="34956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0"/>
                  </a:moveTo>
                  <a:lnTo>
                    <a:pt x="219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16440" y="4208400"/>
              <a:ext cx="34956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77"/>
                  </a:moveTo>
                  <a:lnTo>
                    <a:pt x="219" y="0"/>
                  </a:lnTo>
                  <a:lnTo>
                    <a:pt x="0" y="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21360" y="4719600"/>
              <a:ext cx="669960" cy="357120"/>
            </a:xfrm>
            <a:custGeom>
              <a:avLst/>
              <a:gdLst/>
              <a:ahLst/>
              <a:rect l="l" t="t" r="r" b="b"/>
              <a:pathLst>
                <a:path w="422" h="225">
                  <a:moveTo>
                    <a:pt x="0" y="224"/>
                  </a:moveTo>
                  <a:lnTo>
                    <a:pt x="421" y="0"/>
                  </a:lnTo>
                  <a:lnTo>
                    <a:pt x="0" y="2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37200" y="4719600"/>
              <a:ext cx="684360" cy="357120"/>
            </a:xfrm>
            <a:custGeom>
              <a:avLst/>
              <a:gdLst/>
              <a:ahLst/>
              <a:rect l="l" t="t" r="r" b="b"/>
              <a:pathLst>
                <a:path w="431" h="225">
                  <a:moveTo>
                    <a:pt x="0" y="0"/>
                  </a:moveTo>
                  <a:lnTo>
                    <a:pt x="430" y="22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92840" y="3495600"/>
              <a:ext cx="1440" cy="560520"/>
            </a:xfrm>
            <a:custGeom>
              <a:avLst/>
              <a:gdLst/>
              <a:ahLst/>
              <a:rect l="l" t="t" r="r" b="b"/>
              <a:pathLst>
                <a:path w="1" h="353">
                  <a:moveTo>
                    <a:pt x="0" y="0"/>
                  </a:moveTo>
                  <a:lnTo>
                    <a:pt x="0" y="35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92840" y="2568600"/>
              <a:ext cx="1440" cy="512640"/>
            </a:xfrm>
            <a:custGeom>
              <a:avLst/>
              <a:gdLst/>
              <a:ahLst/>
              <a:rect l="l" t="t" r="r" b="b"/>
              <a:pathLst>
                <a:path w="1" h="323">
                  <a:moveTo>
                    <a:pt x="0" y="0"/>
                  </a:moveTo>
                  <a:lnTo>
                    <a:pt x="0" y="32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48200" y="3208320"/>
              <a:ext cx="87480" cy="158760"/>
            </a:xfrm>
            <a:custGeom>
              <a:avLst/>
              <a:gdLst/>
              <a:ahLst/>
              <a:rect l="l" t="t" r="r" b="b"/>
              <a:pathLst>
                <a:path w="55" h="100">
                  <a:moveTo>
                    <a:pt x="0" y="99"/>
                  </a:moveTo>
                  <a:lnTo>
                    <a:pt x="54" y="0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34240" y="3220920"/>
              <a:ext cx="75960" cy="14616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0" y="0"/>
                  </a:moveTo>
                  <a:lnTo>
                    <a:pt x="47" y="9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64080" y="5159520"/>
              <a:ext cx="11480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Reserv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50400" y="5143680"/>
              <a:ext cx="9057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ailor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34640" y="4417920"/>
              <a:ext cx="803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d=s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54760" y="3193920"/>
              <a:ext cx="902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d=10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13080" y="3160800"/>
              <a:ext cx="98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ting &gt;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52000" y="2279520"/>
              <a:ext cx="748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76960" y="4103640"/>
              <a:ext cx="25290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(Simple Nested Loops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80120" y="3129120"/>
              <a:ext cx="184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048440" y="2122560"/>
              <a:ext cx="184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4176720" y="1523880"/>
            <a:ext cx="4970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Book Antiqua"/>
              </a:rPr>
              <a:t>Imperative query execution pl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9360" y="2819520"/>
            <a:ext cx="4083840" cy="155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S.s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Reserves R, Sailors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R.sid=S.sid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.bid=100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S.rating&gt;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152388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Declarative SQL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52680" y="17524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54100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cc00"/>
                </a:solidFill>
                <a:uFillTx/>
                <a:latin typeface="Times New Roman"/>
              </a:rPr>
              <a:t>Plan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Tree of Relational Algebra operator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with a choice of algorithm implementation for each 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-11160" y="6248520"/>
            <a:ext cx="79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Ideall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 to find best plan. 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racticall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worst plan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480" y="110808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o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atabase Indust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al databases are a great success of theoretical ide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 3” DBMS companies are among the largest software companies in the world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BM (with DB2) and Microsoft (SQL Server, Microsoft Access) are also important play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$20B indust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llenged by object oriented DB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Study of DB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aspec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ing and design of datab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base programming: querying and update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base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BMS study cuts across many fields of Computer Science: OS, languages, AI, Logic, multimedia, theory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urse (Rough) Outli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base desig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Relationship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DL (object-oriented design langua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ing constra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lational mode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al algeb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orming E/R models to relational schem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utline (Continued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QL (“intergalactic dataspeak”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s and trigge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ursive queries and datalo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-oriented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orage and index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ry optim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transaction processing and re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vanced topics:data integration, X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requisites: Data structures course (CSE-326 or equivalent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 &amp; Grad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mework 25%: 6 of them, some light programm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: 30% - see belo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dterm: 15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al:  25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s: 5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Project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: design end-to-end database applic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 in groups of 3-4 (start forming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no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oose topic on your ow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service projects avail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table for project milesto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 creativ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Start soon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aff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ructor:  Alon Lev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eg, Room 310, alon@cs.washington.ed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fice hours:  Wednesday 2:30-3:3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or by appointment)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: Rachel Pottin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eg 226b, rap@cs.washington.e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fice hours: Tuesday 2-3, Thursday 1:30 - 2:30 or by appoint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munic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b pag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cs.washington.edu/444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27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3360" indent="-243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ling list: send email t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domo@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y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cribe cse44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xtbook(s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First Course in Databas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Jeff Ullman and  Jennifer Wid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base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Hector Garcia-Molina, Jeff Ullman and Jennifer Wid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a shrink-wrapped package at the book store (not available in that form for non-student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ther Tex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base Management Systems (Ramakrishnan)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[very comprehensive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damentals of Database Systems (Elmasri and Navathe) [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very widely us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ndations of Databases (Abiteboul, Hull and Vianu)  [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ostly theory of databa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, on reserve, in the libra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al Busines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y use a DBM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se we are building a system to store the information pertaining to the university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ral questions ari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do w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the data? (file organization,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do we query the data? (write programs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sure that updates don’t mess things u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views on the data? (registrar versus studen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do we deal with crash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ahoma"/>
              </a:rPr>
              <a:t>Way too complicated! Go buy a database system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unctionality of a DB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orage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 level query and data manipulation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query proces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action proces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iliency: recovery from cras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iews of the data, secu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with 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uilding an Application with a Database Syste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modeling (conceptual, pictur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de what entities should be part of the application and how they should be link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ma design and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de on a set of tables, attribu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the tables in the database syst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pulate database (insert tuple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application programs using the DB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y easier now that the data management is taken care of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6019920"/>
            <a:ext cx="1447920" cy="6858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5943600"/>
            <a:ext cx="1447920" cy="6858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53080" y="5943600"/>
            <a:ext cx="1447920" cy="6858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3505320"/>
            <a:ext cx="1523880" cy="1371600"/>
          </a:xfrm>
          <a:prstGeom prst="diamond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1600200"/>
            <a:ext cx="1523880" cy="1371600"/>
          </a:xfrm>
          <a:prstGeom prst="diamond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3657600"/>
            <a:ext cx="1523880" cy="1371600"/>
          </a:xfrm>
          <a:prstGeom prst="diamond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00800" y="1905120"/>
            <a:ext cx="2209680" cy="7617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286000"/>
            <a:ext cx="2133720" cy="7621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457200"/>
            <a:ext cx="1447920" cy="6858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457200"/>
            <a:ext cx="1447920" cy="6858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2971800"/>
            <a:ext cx="1447920" cy="6858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43800" y="685800"/>
            <a:ext cx="1447920" cy="6858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371600"/>
            <a:ext cx="1447920" cy="6858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2286000"/>
            <a:ext cx="1219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142640" y="19807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1142640"/>
            <a:ext cx="144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514600" y="114264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97144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133720" y="30481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4876920"/>
            <a:ext cx="9903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772400" y="1295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9608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638680" y="4343400"/>
            <a:ext cx="6098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590920" y="54864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5486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54864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010280" y="2666880"/>
            <a:ext cx="3049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ptual Mod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1T22:48:26Z</dcterms:created>
  <dc:creator>cse</dc:creator>
  <dc:description/>
  <dc:language>en-US</dc:language>
  <cp:lastModifiedBy>Rachel Pottinger</cp:lastModifiedBy>
  <cp:lastPrinted>1998-09-26T21:35:18Z</cp:lastPrinted>
  <dcterms:modified xsi:type="dcterms:W3CDTF">1999-09-29T23:02:37Z</dcterms:modified>
  <cp:revision>64</cp:revision>
  <dc:subject/>
  <dc:title>Introduction to Database Syst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9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alon</vt:lpwstr>
  </property>
  <property fmtid="{D5CDD505-2E9C-101B-9397-08002B2CF9AE}" pid="9" name="LinkColor">
    <vt:r8>16711782</vt:r8>
  </property>
  <property fmtid="{D5CDD505-2E9C-101B-9397-08002B2CF9AE}" pid="10" name="MailAddress">
    <vt:lpwstr>alon@cs.washington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taweb\lectures\lecture1\lecture1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