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E4E-34E1-43CC-A0C6-954E0FE9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DA1-8B45-4AFB-887D-81146743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C72-D61A-48E6-A8D5-4F41C4D4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C2F-ED39-49EF-874A-7A5740AD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B3A-2BDF-4E9D-888F-B6A62342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91A-29AB-41BC-BEC7-74569E16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054-5BD8-4992-B240-8C9428D0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469-6A37-4DA4-A752-4B391500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E1C-7C5B-4ABB-8EA1-F43478E1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2F3-15BB-4CCD-B5DA-AA84C717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FE4-BD2A-4191-8E76-FB80D844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0FD-6A63-439F-869C-4EF93DD4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D0E8-F2ED-4F1D-81C7-55B81BF19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 changes and clarifications (to be on the web so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delete hw3 tables , but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car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ODBC same as for Interdev;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o not use NT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in the \\iinetsrv project space for project, wherever for hw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w5 should still run when log files are un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view should be per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S logs, files ar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ce a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table for user, or all users in same table; you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refer to your table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ername info (e.g., [csepclab\rap].raplo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(and how) to turn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mail Rachel (rap@cs.washington.edu)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 in hard copy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een sh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ADME telling what extra cool features are in your assignment, and assignment r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user, number of accesses by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next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 J+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 J++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ole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ewproject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5200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 c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created for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help!  Links to be ad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eserve in Engineering libr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ent/Server Programming with Java and COR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Robert Orf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atabase Programming with JDBC and 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George Re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.forName("com.ms.jdbc.odbc.JdbcOdbcDrive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sql.Connection c = DriverManager.getConnection("jdbc:odbc:entities",”login I mailed you",”passwd I mailed you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sql.Statement s= c.createStateme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sql.ResultSet 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 = s.executeQuery("Select * from [csepclab\\hongyu].Offic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sql.ResultSetMetaData md = rs.getMetaDat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(rs.next()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.append("\nTUPLE: |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md.getColumnCount();i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.append(rs.getString(i) + " |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helpful info in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File.isDirectory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[] File.lis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0T21:06:43Z</dcterms:created>
  <dc:creator>Rachel Pottinger</dc:creator>
  <dc:description/>
  <dc:language>en-US</dc:language>
  <cp:lastModifiedBy>Rachel Pottinger</cp:lastModifiedBy>
  <cp:lastPrinted>1999-11-12T21:12:48Z</cp:lastPrinted>
  <dcterms:modified xsi:type="dcterms:W3CDTF">1999-11-14T23:02:37Z</dcterms:modified>
  <cp:revision>2</cp:revision>
  <dc:subject/>
  <dc:title>JDB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ap</vt:lpwstr>
  </property>
  <property fmtid="{D5CDD505-2E9C-101B-9397-08002B2CF9AE}" pid="9" name="LinkColor">
    <vt:r8>16711782</vt:r8>
  </property>
  <property fmtid="{D5CDD505-2E9C-101B-9397-08002B2CF9AE}" pid="10" name="MailAddress">
    <vt:lpwstr>rap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